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9D8E-D4DB-46A5-8263-6FA3DCE10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G6 Circuit Compoonents. General Training Slides for 2015 Question Pool  Good through June 30, 2019  Assembled by Washington Ham Trainers, Daniel Stevens KL7WM, Howard Schultz, W7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AC97-173B-4DF0-9FDC-8ABDD67110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521-9B62-466F-BEDF-20FF808F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682-5E62-4CEC-87D0-FF4990A7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553-9972-4A60-A0CE-A4A666A0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545-2516-4D51-9711-337D510A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CF7-3E09-40B0-A7F5-352AF4C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31F-B109-4BDC-B59B-72468AA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AC5-CD8F-4279-87F5-FA297E7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33D-3F8A-45B9-B545-2877277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F57-E893-4E95-BE14-32926C1F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220-E0F4-41EC-A518-F04528E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2A6-E4FD-4D70-9B24-AE184DF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811-81B0-427D-8EFD-CFD8107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B8C-5627-4FF9-A197-19F5BDEA605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7E27-0787-4B16-A948-A86A48F264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graphics/tworks_fig3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ligitek-led.com/multilayer-ceramic-capacitor.htm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G6  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IRCUIT COMPONENTS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[2 Exam Questions–2 Groups]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A281-A8C9-4823-A1B0-B1C6EDD22BF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1  -  What is the minimum allowable discharge voltage for maximum life of a standard 12 volt lead acid battery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6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8.5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C. 10.5 volt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2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32BB-9EE5-438F-BE3E-9809CE6CC3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2  -  What is an advantage of the low internal resistance of nickel-cadmium batterie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ng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 discharge curr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apid rechar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052-2CB5-47B3-9A3E-8F067360B2C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2  -  What is an advantage of the low internal resistance of nickel-cadmium batterie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ng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High discharge curr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apid rechar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0F5-9F23-4F24-81ED-9AA63DA44F1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3  -  What is the approximate junction threshold voltage of a germanium di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0.1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0.3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0.7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.0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B605-FD91-4116-A200-E968E1FDE6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3  -  What is the approximate junction threshold voltage of a germanium di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0.1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B. 0.3 volt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0.7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.0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567-4924-4D50-B7FE-107F20CA006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4  -  When is it acceptable to recharge a carbon-zinc primary cel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3280" y="1808280"/>
            <a:ext cx="8029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s long as the voltage has not been allowed to drop below 1.0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When the cell is kept warm during the recharging perio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When a constant current charger is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Ne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5F85-7C04-42A4-9895-92911594A7A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4  -  When is it acceptable to recharge a carbon-zinc primary cel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3280" y="1808280"/>
            <a:ext cx="8029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s long as the voltage has not been allowed to drop below 1.0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When the cell is kept warm during the recharging perio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When a constant current charger is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Ne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4991-E55B-41B8-8171-5C6B2875C4D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05  -  What is the approximate junction threshold voltage of a conventional silicon diod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0.1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0.3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0.7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.0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39A6-4F91-495A-B42E-E2F3732D875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05  -  What is the approximate junction threshold voltage of a conventional silicon diod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0.1 vol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0.3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C. 0.7 volt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.0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2F1-1D22-4F12-BA13-6FCCF6A2A2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6  -  Which of the following is an advantage of using a Schottky diode in an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F switching circuit rather than a standard silicon di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32000" y="2960280"/>
            <a:ext cx="64008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wer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Lower indu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nger switching tim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Higher breakdown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85A-D260-477E-80D4-CDD93C49209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G6   CIRCUIT COMPONENTS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[2 Exam Questions–2 Groups]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G6A – Resistors; Capacitors; Inductors; Rectifiers; solid state diodes and transistors; vacuum tubes; batter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G6B - Analog and digital integrated circuits (ICs); microprocessors; memory; I/O devices; microwave ICs (MMICs); display device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6  -  Which of the following is an advantage of using a Schottky diode in an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F switching circuit rather than a standard silicon di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32000" y="2960280"/>
            <a:ext cx="64008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Lower capacita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Lower indu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nger switching tim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Higher breakdown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C258-6DF1-4946-8676-09D663DCA90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7  -  What are the stable operating points for a bipolar transistor used as a switch in a logic circui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50560" y="2514600"/>
            <a:ext cx="662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s saturation and cutoff reg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s active region (between the cutoff and saturation regions)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s peak and valley current poi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s enhancement and depletion m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3E0-958E-4A01-A786-3216587D11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7  -  What are the stable operating points for a bipolar transistor used as a switch in a logic circui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50560" y="2514600"/>
            <a:ext cx="662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Its saturation and cutoff reg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s active region (between the cutoff and saturation regions)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s peak and valley current poi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s enhancement and depletion m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1F47-3994-4531-82D1-2D34DE7AD21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8  -  Why must the cases of some large power transistors be insulated from groun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2384280"/>
            <a:ext cx="75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o increase the beta of the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o improve the power dissipation cap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reduce stray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o avoid shorting the collector or drain voltage to grou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3F2-64F0-450A-8D69-BCD88E39E1F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8  -  Why must the cases of some large power transistors be insulated from groun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920" y="2384280"/>
            <a:ext cx="75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o increase the beta of the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o improve the power dissipation cap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reduce stray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To avoid shorting the collector or drain voltage to groun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7C64-819A-4BC0-81AC-E2F361C6D98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6360" y="72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09  -  Which of the following describes the construction of a MOSFE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5280" y="2241720"/>
            <a:ext cx="759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gate is formed by a back-biased jun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gate is separated from the channel with a thin insulating lay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source is separated from the drain by a thin insulating lay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source is formed by depositing metal on silic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31EB-EA5C-4D3F-919F-7F80ED7D234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6360" y="72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09  -  Which of the following describes the construction of a MOSFE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280" y="2241720"/>
            <a:ext cx="759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gate is formed by a back-biased jun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The gate is separated from the channel with a thin insulating lay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source is separated from the drain by a thin insulating lay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source is formed by depositing metal on silic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F57-AEE1-4B1A-990D-0BA547A7508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400720" y="4916520"/>
            <a:ext cx="2743200" cy="1666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576360" y="5165640"/>
            <a:ext cx="3076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0  -  Which element of a triode vacuum tube is used to regulate the flow of electrons between cathode and plat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Control gri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Screen Gri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rigger electr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E087-F781-4561-A3A5-F870119F15A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0  -  Which element of a triode vacuum tube is used to regulate the flow of electrons between cathode and plat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Control gri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ea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Screen Gri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rigger electr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DD0-0E52-4E4E-B60C-739A1061155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788000" y="3790800"/>
            <a:ext cx="361764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1  -  Which of the following solid state devices is most like a vacuum tube in its general operating characteristic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bipolar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field effect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tunnel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var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D81-A8FF-4E8C-B034-4C04BF0181C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772400" cy="20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 – Resisto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Capacito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Inducto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Rectifie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solid state diodes and transisto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vacuum tube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batteries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B40-3266-4AE3-AFE9-26933B85BAF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1  -  Which of the following solid state devices is most like a vacuum tube in its general operating characteristic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bipolar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A field effect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tunnel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var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2FC-EC61-45B2-99C4-63D7DFF3C6A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15472" t="15756" r="18299" b="18024"/>
          <a:stretch/>
        </p:blipFill>
        <p:spPr>
          <a:xfrm>
            <a:off x="5796000" y="40449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Vacuum Tub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E7D-7B1D-4C7F-A772-63D00CCECD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2" descr="Inside a miniature tub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197000"/>
            <a:ext cx="3609720" cy="4981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ttp://www.tubesandmore.com/sites/default/files/imagecache/tech_corner/sites/all/modules/custom/tech_corner/images/6l6_diagram.png"/>
          <p:cNvPicPr/>
          <p:nvPr/>
        </p:nvPicPr>
        <p:blipFill>
          <a:blip r:embed="rId3"/>
          <a:stretch/>
        </p:blipFill>
        <p:spPr>
          <a:xfrm>
            <a:off x="216000" y="861840"/>
            <a:ext cx="39607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2  -  What is the primary purpose of a screen grid in a vacuum tub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42920" y="188136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o reduce grid-to-plate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o increase effici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increase the control grid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o decrease plate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B61-8B5D-44DB-AE5C-DC5240ADF2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2  -  What is the primary purpose of a screen grid in a vacuum tub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42920" y="1881360"/>
            <a:ext cx="756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To reduce grid-to-plate capacita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o increase effici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increase the control grid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o decrease plate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8BB8-5DA1-4E5B-AACB-ABCB66ED3A4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3  -  Why is the polarity of applied voltages important for polarized capacito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4000" y="2205000"/>
            <a:ext cx="70880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correct polarity can cause the capacitor to short-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verse voltages can destroy the dielectric layer of an electrolytic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capacitor could overheat and expl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823-4FD3-4DB7-B9A3-483102E50E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3  -  Why is the polarity of applied voltages important for polarized capacito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4000" y="2205000"/>
            <a:ext cx="70880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correct polarity can cause the capacitor to short-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verse voltages can destroy the dielectric layer of an electrolytic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capacitor could overheat and expl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 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4A1-61A6-40BC-8031-8DB533F0EFA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4  -  Which of the following is an advantage of ceramic capacitors as compared to other types of capacito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ight toler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 st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capacitance for given volu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Comparatively low cos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25D-90C9-455E-82AC-4C60314F959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4  -  Which of the following is an advantage of ceramic capacitors as compared to other types of capacito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ight toler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 st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capacitance for given volu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Comparatively low cos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C31-A42C-443E-BB05-6C1E8CA4CC9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5  -  Which of the following is an advantage of an electrolytic capaci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ight toler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uch less leakage than any other typ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capacitance for a given volu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expensive RF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6C31-307F-486B-89DE-30969068A68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5  -  Which of the following is an advantage of an electrolytic capaci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7196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ight toler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uch less leakage than any other typ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High capacitance for a given volum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expensive RF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3784-22AC-4131-89EC-BA43D20988D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esistor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15F3-9B3D-4820-8939-57592617D13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2" descr="http://members.shaw.ca/roma/code.jpg"/>
          <p:cNvPicPr/>
          <p:nvPr/>
        </p:nvPicPr>
        <p:blipFill>
          <a:blip r:embed="rId1"/>
          <a:stretch/>
        </p:blipFill>
        <p:spPr>
          <a:xfrm>
            <a:off x="4600440" y="1676520"/>
            <a:ext cx="4543560" cy="476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nd2x.net/ur4ll/R1.jpg"/>
          <p:cNvPicPr/>
          <p:nvPr/>
        </p:nvPicPr>
        <p:blipFill>
          <a:blip r:embed="rId2"/>
          <a:stretch/>
        </p:blipFill>
        <p:spPr>
          <a:xfrm>
            <a:off x="344520" y="1352520"/>
            <a:ext cx="397980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ebyte.it/library/educards/ee/ColorCodedResistors_4cols.jpg"/>
          <p:cNvPicPr/>
          <p:nvPr/>
        </p:nvPicPr>
        <p:blipFill>
          <a:blip r:embed="rId3"/>
          <a:stretch/>
        </p:blipFill>
        <p:spPr>
          <a:xfrm>
            <a:off x="347760" y="4941720"/>
            <a:ext cx="3381120" cy="171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4"/>
          <a:stretch/>
        </p:blipFill>
        <p:spPr>
          <a:xfrm>
            <a:off x="6453360" y="549360"/>
            <a:ext cx="232884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6  -  What will happen to the resistance if the temperature of a resistor is increas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2920" y="2023560"/>
            <a:ext cx="79930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will change depending on the resistor’s reactance coeffici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will stay the sa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will change depending on the resistor's temperature coeffici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 will become time depend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18C-35FD-47D3-9B1E-EA65DC05CE2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6  -  What will happen to the resistance if the temperature of a resistor is increas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2920" y="2023560"/>
            <a:ext cx="79930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will change depending on the resistor’s reactance coeffici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will stay the sa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It will change depending on the resistor's temperature coeffici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 will become time depend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898-018D-436E-8B9F-D402EA4FD3C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17  -  Which of the following is a reason not to use wire-wound resistors in an  RF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5960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resistor's tolerance value would not be adequate for such a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resistor's inductance could make circuit performance unpredicta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resistor could overhe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resistor's internal capacitance would detune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B12-4F50-407E-BEF3-8E7FE5863FE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17  -  Which of the following is a reason not to use wire-wound resistors in an  RF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5960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resistor's tolerance value would not be adequate for such a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The resistor's inductance could make circuit performance unpredictabl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resistor could overhe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resistor's internal capacitance would detune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A9E7-B4D5-4613-AEFB-5FB7A3A7B49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636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8  -  What is an advantage of using a ferrite core toroidal induc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47640" y="1952640"/>
            <a:ext cx="795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arge values of inductance may be obtain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magnetic properties of the core may be optimized for a specific range of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ost of the magnetic field is contained in the co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6D9-4009-4924-9154-251F269D173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636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18  -  What is an advantage of using a ferrite core toroidal induc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47640" y="1952640"/>
            <a:ext cx="795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arge values of inductance may be obtain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magnetic properties of the core may be optimized for a specific range of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ost of the magnetic field is contained in the co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DED2-2C0D-434E-9BDB-691C988FB2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17666" t="12371" r="14956" b="15092"/>
          <a:stretch/>
        </p:blipFill>
        <p:spPr>
          <a:xfrm>
            <a:off x="5616720" y="4184640"/>
            <a:ext cx="21380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19  -  How should the winding axes of two solenoid inductors be oriented to minimize their mutual inductan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7280" y="23842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arallel to each oth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t right angles to each oth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terleav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EA6-CAD7-40EB-845F-E4BCED5FA3E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A19  -  How should the winding axes of two solenoid inductors be oriented to minimize their mutual inductan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87280" y="23842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arallel to each oth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At right angles to each oth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terleav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E58-3459-4595-9C05-DDA35132977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3456000" y="4113360"/>
            <a:ext cx="5334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9280" y="2241720"/>
            <a:ext cx="777240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 - Analog and digital integrated circuits ( ICs )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microprocessor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memory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I/O device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microwave ICs ( MMICs )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display devices 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E31-2BE2-4B07-A033-68BD96B12A3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7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1  -  Which of the following is an analog integrated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NAND G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icroprocess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Coun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Linear voltage reg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831-31A7-44F3-83B7-ED2741871C3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Resistor Rating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39BD-7153-44FC-B437-57161FD17A6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3" descr="resistor specs"/>
          <p:cNvPicPr/>
          <p:nvPr/>
        </p:nvPicPr>
        <p:blipFill>
          <a:blip r:embed="rId1"/>
          <a:stretch/>
        </p:blipFill>
        <p:spPr>
          <a:xfrm>
            <a:off x="380880" y="1600200"/>
            <a:ext cx="5943600" cy="298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wire_wound_resistors"/>
          <p:cNvPicPr/>
          <p:nvPr/>
        </p:nvPicPr>
        <p:blipFill>
          <a:blip r:embed="rId2"/>
          <a:stretch/>
        </p:blipFill>
        <p:spPr>
          <a:xfrm>
            <a:off x="4191120" y="3559320"/>
            <a:ext cx="45720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7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1  -  Which of the following is an analog integrated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NAND G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icroprocess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Coun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Linear voltage regula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243-731D-4FB2-9F55-4E871F467D7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2  -  What is meant by the term MMI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ulti Megabyt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onolithic Microwav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ilitary Manufactured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Mode Modulated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C0A0-EDC1-49CE-97F3-F3391890784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2  -  What is meant by the term MMIC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ulti Megabyt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Monolithic Microwave Integrated Circu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ilitary Manufactured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Mode Modulated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2068-7935-492C-9D09-6F43010620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3  -  Which of the following is an advantage of CMOS  integrated circuits compared to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TL  integrated circuit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w power consum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 power handling cap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Better suited for RF amplif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etter suited for power supply reg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7F24-730F-46A0-92D8-43A0472819A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3  -  Which of the following is an advantage of CMOS  integrated circuits compared to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TL  integrated circuit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Low power consump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 power handling capabil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Better suited for RF amplifi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etter suited for power supply reg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230-C502-42EE-B5F8-A7D5C7D59D2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4  -  What is meant by the term ROM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Resistor Operated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ad Only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Random Operational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esistant to Overload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FAC-E5BB-4CE8-83EB-8B605745AF5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4  -  What is meant by the term ROM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Resistor Operated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Read Only Memor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Random Operational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esistant to Overload Mem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9F2C-2592-4054-A1F8-7BD3DCC4581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5  -  What is meant when memory is characterized as non-volatil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is resistant to radiation dam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is resistant to high temperat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stored information is maintained even if power is remov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stored information cannot be changed once writt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F55-C445-4F29-9FED-3E15815A5AB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5  -  What is meant when memory is characterized as non-volatil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is resistant to radiation dam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is resistant to high temperat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The stored information is maintained even if power is remov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stored information cannot be changed once writt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002E-1BA8-482C-8034-29AA634A3A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6  -  What kind of device is an integrated circuit operational amplifi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igit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M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rogrammable Log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nalo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737A-223A-473B-9EB0-D180B7C0138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apacitor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03AB-191B-460C-9607-F3FEFD7D9B5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http://leandrocodorna.vilabol.uol.com.br/Capacitor.gif"/>
          <p:cNvPicPr/>
          <p:nvPr/>
        </p:nvPicPr>
        <p:blipFill>
          <a:blip r:embed="rId1"/>
          <a:stretch/>
        </p:blipFill>
        <p:spPr>
          <a:xfrm>
            <a:off x="457200" y="182880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apacitor Manufacturer-View detailed information about multilayer ceramic capacitor by clicking he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581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guitarpartsusa.com/ccp51/media/images/product_detail/CAP-047.jpg"/>
          <p:cNvPicPr/>
          <p:nvPr/>
        </p:nvPicPr>
        <p:blipFill>
          <a:blip r:embed="rId4"/>
          <a:stretch/>
        </p:blipFill>
        <p:spPr>
          <a:xfrm>
            <a:off x="4191120" y="1981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Tantalum capacitor with positive band ready to insert in '+' hole"/>
          <p:cNvPicPr/>
          <p:nvPr/>
        </p:nvPicPr>
        <p:blipFill>
          <a:blip r:embed="rId5"/>
          <a:stretch/>
        </p:blipFill>
        <p:spPr>
          <a:xfrm>
            <a:off x="457200" y="3429000"/>
            <a:ext cx="239076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6"/>
          <a:stretch/>
        </p:blipFill>
        <p:spPr>
          <a:xfrm>
            <a:off x="6372360" y="620640"/>
            <a:ext cx="2330280" cy="478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417960" y="563868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lyte capacito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lariz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4352760" y="56386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capac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6  -  What kind of device is an integrated circuit operational amplifi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igit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M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rogrammable Log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Analog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C0D-FC7C-4858-9B72-FA2D5EC0667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7  -  Which of the following is an advantage of an  LED  indicator compared to an incandescent indicato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wer power consum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Faster response ti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nger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C12A-14E0-4C88-AF7F-5BBD8AB590E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7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07  -  Which of the following is an advantage of an  LED  indicator compared to an incandescent indicato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Lower power consum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Faster response tim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nger lif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63B-1BFC-4EC6-AE86-DA028E2470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764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8  -  How is an  LED  biased when emitting ligh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eyond cut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t the Zener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Reverse Bia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orward Bia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EDE-03B3-4D55-BD8B-B24B604B7BF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764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8  -  How is an  LED  biased when emitting ligh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eyond cut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t the Zener vol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Reverse Bia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Forward Bias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137-E87F-4821-A103-8CFF91DBA0B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9  -  Which of the following is a characteristic of a liquid crystal displa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requires ambient or back light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offers a wide dynamic ran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has a wide viewing ang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15F-53DD-4ECF-9F9B-D7D746494F0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09  -  Which of the following is a characteristic of a liquid crystal display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It requires ambient or back lighting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offers a wide dynamic ran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has a wide viewing ang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427-AE83-407D-A09C-46855F7BF80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0  -  What two devices in an Amateur Radio station might be connected using a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USB interfac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Computer and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icrophone and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mplifier and antenna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ower supply and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279-EB6F-4690-A1D1-E2CDA26FF6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0  -  What two devices in an Amateur Radio station might be connected using a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USB interfac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Computer and transcei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Microphone and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mplifier and antenna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ower supply and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A254-825C-427B-A776-650D17E59BD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1  -  What is a microprocess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76360" y="1628280"/>
            <a:ext cx="79912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low power analog signal processor used as a microwave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computer on a singl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microwave detector, amplifier, and local oscillator on a singl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low voltage amplifier used in a microwave transmitter modulator s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3E1-F2DC-4310-A3C7-CE0EF5FE8B9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Inductor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AAAE-E0C7-470E-91C1-C2904D46742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432480" y="620640"/>
            <a:ext cx="22431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magasia.com.tw/inductors.jpg"/>
          <p:cNvPicPr/>
          <p:nvPr/>
        </p:nvPicPr>
        <p:blipFill>
          <a:blip r:embed="rId2"/>
          <a:stretch/>
        </p:blipFill>
        <p:spPr>
          <a:xfrm>
            <a:off x="841320" y="2133720"/>
            <a:ext cx="3800520" cy="30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wilcocorp.com/images/catalog/toroidal_inductors/toroidal_inductors_170.jpg"/>
          <p:cNvPicPr/>
          <p:nvPr/>
        </p:nvPicPr>
        <p:blipFill>
          <a:blip r:embed="rId3"/>
          <a:stretch/>
        </p:blipFill>
        <p:spPr>
          <a:xfrm>
            <a:off x="5870520" y="27432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1  -  What is a microprocess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76360" y="1628280"/>
            <a:ext cx="79912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low power analog signal processor used as a microwave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A computer on a single integrated circu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microwave detector, amplifier, and local oscillator on a single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low voltage amplifier used in a microwave transmitter modulator st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8E6-5213-4103-91E6-796DF52F506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6119640" y="4724280"/>
            <a:ext cx="1616400" cy="1557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2"/>
          <a:stretch/>
        </p:blipFill>
        <p:spPr>
          <a:xfrm>
            <a:off x="1763640" y="5084640"/>
            <a:ext cx="19814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2  -  Which of the following connectors would be a good choice for a serial data por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L-259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ype 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ype SM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DE-9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1E1-FE18-4B48-8804-A6688772A59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2  -  Which of the following connectors would be a good choice for a serial data por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L-259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ype 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ype SM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DE-9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70C-D686-4BC8-B89F-E7A5559F621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3564000" y="4041720"/>
            <a:ext cx="2112840" cy="2111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2"/>
          <a:stretch/>
        </p:blipFill>
        <p:spPr>
          <a:xfrm>
            <a:off x="5940360" y="3714840"/>
            <a:ext cx="2556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3  -  Which of these connector types is commonly used for  RF  connections at frequencies up to 150 MHz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Oct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J-1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L-259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DB-25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77C7-6C0C-4C97-A64B-D2259D273A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3  -  Which of these connector types is commonly used for  RF  connections at frequencies up to 150 MHz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Oct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J-1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PL-259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DB-25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2FD-F527-4E64-8E1A-0C5CB1A7728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4  -  Which of these connector types is commonly used for audio signals in Amateur Radio stations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L-259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BNC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RCA Phon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ype 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A464-F60D-44B1-B3A4-B5B21D53218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4  -  Which of these connector types is commonly used for audio signals in Amateur Radio stations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L-259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BNC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RCA Phono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ype 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24F-C846-4D0A-8E03-9D52CF5266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5  -  What is the main reason to use keyed connectors instead of non-keyed type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91640" y="1989000"/>
            <a:ext cx="7448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revention of use by unauthorized pers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duced chance of incorrect mat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er current carrying capac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18C1-4BC4-4854-887A-434DA5D45F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5  -  What is the main reason to use keyed connectors instead of non-keyed type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91640" y="1989000"/>
            <a:ext cx="7448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revention of use by unauthorized pers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Reduced chance of incorrect mating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er current carrying capac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D9A1-8DA9-4F5E-B123-8FC62FA455F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6  -  Which of the following describes a type N connec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76360" y="2241720"/>
            <a:ext cx="781200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A. A moisture-resistant RF connector useful to 10 GHz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B. A small bayonet connector used for data circuit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C. A threaded connector used for hydraulic systems 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D. An audio connector used in surround-sound installa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6DE1-91BB-498C-9923-1AD80858B8A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Diod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069-D076-4800-8D19-68878E9FAFA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636480"/>
            <a:ext cx="195408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1N60P_Germanium_Point_Contact_Diode_.jpg"/>
          <p:cNvPicPr/>
          <p:nvPr/>
        </p:nvPicPr>
        <p:blipFill>
          <a:blip r:embed="rId2"/>
          <a:stretch/>
        </p:blipFill>
        <p:spPr>
          <a:xfrm>
            <a:off x="40464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Diode.jpg"/>
          <p:cNvPicPr/>
          <p:nvPr/>
        </p:nvPicPr>
        <p:blipFill>
          <a:blip r:embed="rId3"/>
          <a:stretch/>
        </p:blipFill>
        <p:spPr>
          <a:xfrm>
            <a:off x="2386080" y="4876920"/>
            <a:ext cx="1523880" cy="112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photo_pont_diode.jpg"/>
          <p:cNvPicPr/>
          <p:nvPr/>
        </p:nvPicPr>
        <p:blipFill>
          <a:blip r:embed="rId4"/>
          <a:stretch/>
        </p:blipFill>
        <p:spPr>
          <a:xfrm>
            <a:off x="4138560" y="480060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led.jpg"/>
          <p:cNvPicPr/>
          <p:nvPr/>
        </p:nvPicPr>
        <p:blipFill>
          <a:blip r:embed="rId5"/>
          <a:stretch/>
        </p:blipFill>
        <p:spPr>
          <a:xfrm>
            <a:off x="6424560" y="4876920"/>
            <a:ext cx="1523880" cy="1038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1042920" y="1844640"/>
            <a:ext cx="7524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5840" indent="-45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Electronic “valve”, used e.g. in rec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5840" indent="-45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Mostly made of Si, 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5840" indent="-45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</a:rPr>
              <a:t>Different types: PN diodes, Schott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6  -  Which of the following describes a type N connec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76000" y="2241720"/>
            <a:ext cx="828036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Eurostile"/>
              </a:rPr>
              <a:t>A. A moisture-resistant RF connector useful to 10 G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B. A small bayonet connector used for data circuit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C. A threaded connector used for hydraulic systems 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</a:rPr>
              <a:t>D. An audio connector used in surround-sound installa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9965-15E7-428E-9584-16CFAEFF5AA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5003640" y="3968640"/>
            <a:ext cx="35053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7  -  What is the general description of a DIN type connecto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68360" y="1952280"/>
            <a:ext cx="8207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special connector for microwave interfac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DC power connector rated for currents between 30 and 50 ampe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family of multiple circuit connectors suitable for audio and control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special watertight connector for use in marine appl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CC6-B92A-41BF-8860-3BCF4E0DD3B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6B17  -  What is the general description of a DIN type connecto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68360" y="1952280"/>
            <a:ext cx="8207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special connector for microwave interfac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DC power connector rated for currents between 30 and 50 ampe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A family of multiple circuit connectors suitable for audio and control signal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special watertight connector for use in marine appl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EF3-A694-42BE-B1EF-91C819FC7A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rcRect l="0" t="17888" r="0" b="22863"/>
          <a:stretch/>
        </p:blipFill>
        <p:spPr>
          <a:xfrm>
            <a:off x="3600360" y="4653000"/>
            <a:ext cx="5091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8  -  What is a type  SMA  connec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1723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large bayonet connector usable at power levels in excess of 1 K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small threaded connector suitable for signals up to several G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connector designed for serial multiple access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type of push-on connector intended for high voltage appl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628-9818-420F-AD6C-3D0B38BA91F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1280" y="5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B18  -  What is a type  SMA  connec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1723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large bayonet connector usable at power levels in excess of 1 K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A small threaded connector suitable for signals up to several G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connector designed for serial multiple access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type of push-on connector intended for high voltage applic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63CF-70B1-4BE3-8056-F2E355D7011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rcRect l="0" t="10688" r="0" b="17109"/>
          <a:stretch/>
        </p:blipFill>
        <p:spPr>
          <a:xfrm>
            <a:off x="5508720" y="4581360"/>
            <a:ext cx="279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92000" y="22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SUBELEMENT G6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CIRCUIT COMPONENTS 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6A01  -  What is the minimum allowable discharge voltage for maximum life of a standard 12 volt lead acid battery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6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8.5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10.5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2 vol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2F73-7F3A-4476-90BC-8AC1CCF9A6D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Circuit Compon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3:40:17Z</dcterms:created>
  <dc:creator>Howard Schultz</dc:creator>
  <dc:description/>
  <dc:language>en-US</dc:language>
  <cp:lastModifiedBy>Daniel Stevens</cp:lastModifiedBy>
  <dcterms:modified xsi:type="dcterms:W3CDTF">2015-09-06T19:16:53Z</dcterms:modified>
  <cp:revision>20</cp:revision>
  <dc:subject/>
  <dc:title>SUBELEMENT G6   CIRCUIT COMPONENTS  [2 Exam Questions–2 Groups]</dc:title>
</cp:coreProperties>
</file>