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0.wmf" ContentType="image/x-wmf"/>
  <Override PartName="/ppt/media/image58.jpeg" ContentType="image/jpeg"/>
  <Override PartName="/ppt/media/image57.jpeg" ContentType="image/jpeg"/>
  <Override PartName="/ppt/media/image55.png" ContentType="image/png"/>
  <Override PartName="/ppt/media/image52.jpeg" ContentType="image/jpeg"/>
  <Override PartName="/ppt/media/image50.jpeg" ContentType="image/jpeg"/>
  <Override PartName="/ppt/media/image48.wmf" ContentType="image/x-wmf"/>
  <Override PartName="/ppt/media/image46.wmf" ContentType="image/x-wmf"/>
  <Override PartName="/ppt/media/image69.jpeg" ContentType="image/jpeg"/>
  <Override PartName="/ppt/media/image44.wmf" ContentType="image/x-wmf"/>
  <Override PartName="/ppt/media/image53.jpeg" ContentType="image/jpeg"/>
  <Override PartName="/ppt/media/image43.wmf" ContentType="image/x-wmf"/>
  <Override PartName="/ppt/media/image39.wmf" ContentType="image/x-wmf"/>
  <Override PartName="/ppt/media/image11.png" ContentType="image/png"/>
  <Override PartName="/ppt/media/image36.png" ContentType="image/png"/>
  <Override PartName="/ppt/media/image9.jpeg" ContentType="image/jpeg"/>
  <Override PartName="/ppt/media/image12.png" ContentType="image/png"/>
  <Override PartName="/ppt/media/image66.jpeg" ContentType="image/jpeg"/>
  <Override PartName="/ppt/media/image56.gif" ContentType="image/gif"/>
  <Override PartName="/ppt/media/image54.png" ContentType="image/png"/>
  <Override PartName="/ppt/media/image14.jpeg" ContentType="image/jpeg"/>
  <Override PartName="/ppt/media/image49.gif" ContentType="image/gif"/>
  <Override PartName="/ppt/media/image45.wmf" ContentType="image/x-wmf"/>
  <Override PartName="/ppt/media/image17.jpeg" ContentType="image/jpeg"/>
  <Override PartName="/ppt/media/image15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51.jpeg" ContentType="image/jpeg"/>
  <Override PartName="/ppt/media/image27.gif" ContentType="image/gif"/>
  <Override PartName="/ppt/media/image28.jpeg" ContentType="image/jpeg"/>
  <Override PartName="/ppt/media/image21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5.png" ContentType="image/png"/>
  <Override PartName="/ppt/media/image65.jpeg" ContentType="image/jpeg"/>
  <Override PartName="/ppt/media/image68.png" ContentType="image/png"/>
  <Override PartName="/ppt/media/image29.gif" ContentType="image/gif"/>
  <Override PartName="/ppt/media/image64.jpeg" ContentType="image/jpeg"/>
  <Override PartName="/ppt/media/image63.jpeg" ContentType="image/jpeg"/>
  <Override PartName="/ppt/media/image6.jpeg" ContentType="image/jpeg"/>
  <Override PartName="/ppt/media/image25.gif" ContentType="image/gif"/>
  <Override PartName="/ppt/media/image61.jpeg" ContentType="image/jpeg"/>
  <Override PartName="/ppt/media/image4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24.png" ContentType="image/png"/>
  <Override PartName="/ppt/media/image7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2.jpeg" ContentType="image/jpeg"/>
  <Override PartName="/ppt/media/image23.jpeg" ContentType="image/jpeg"/>
  <Override PartName="/ppt/media/image42.wmf" ContentType="image/x-wmf"/>
  <Override PartName="/ppt/media/image37.png" ContentType="image/png"/>
  <Override PartName="/ppt/media/image8.jpeg" ContentType="image/jpeg"/>
  <Override PartName="/ppt/media/image26.png" ContentType="image/png"/>
  <Override PartName="/ppt/media/image41.wmf" ContentType="image/x-wmf"/>
  <Override PartName="/ppt/media/image7.png" ContentType="image/png"/>
  <Override PartName="/ppt/media/image62.jpeg" ContentType="image/jpeg"/>
  <Override PartName="/ppt/media/image19.jpeg" ContentType="image/jpeg"/>
  <Override PartName="/ppt/media/image30.jpeg" ContentType="image/jpeg"/>
  <Override PartName="/ppt/media/image31.jpeg" ContentType="image/jpeg"/>
  <Override PartName="/ppt/media/image47.wmf" ContentType="image/x-wmf"/>
  <Override PartName="/ppt/media/image13.jpeg" ContentType="image/jpeg"/>
  <Override PartName="/ppt/media/image38.wmf" ContentType="image/x-wmf"/>
  <Override PartName="/ppt/media/image32.jpeg" ContentType="image/jpeg"/>
  <Override PartName="/ppt/media/image33.png" ContentType="image/png"/>
  <Override PartName="/ppt/media/image74.jpeg" ContentType="image/jpeg"/>
  <Override PartName="/ppt/media/image3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  <p:sldId id="342" r:id="rId96"/>
    <p:sldId id="343" r:id="rId97"/>
    <p:sldId id="344" r:id="rId98"/>
    <p:sldId id="345" r:id="rId99"/>
    <p:sldId id="346" r:id="rId100"/>
    <p:sldId id="347" r:id="rId101"/>
    <p:sldId id="348" r:id="rId102"/>
    <p:sldId id="349" r:id="rId103"/>
    <p:sldId id="350" r:id="rId104"/>
    <p:sldId id="351" r:id="rId105"/>
    <p:sldId id="352" r:id="rId106"/>
    <p:sldId id="353" r:id="rId107"/>
    <p:sldId id="354" r:id="rId108"/>
    <p:sldId id="355" r:id="rId109"/>
    <p:sldId id="356" r:id="rId110"/>
    <p:sldId id="357" r:id="rId111"/>
    <p:sldId id="358" r:id="rId112"/>
    <p:sldId id="359" r:id="rId113"/>
    <p:sldId id="360" r:id="rId114"/>
    <p:sldId id="361" r:id="rId115"/>
    <p:sldId id="362" r:id="rId116"/>
    <p:sldId id="363" r:id="rId117"/>
    <p:sldId id="364" r:id="rId118"/>
    <p:sldId id="365" r:id="rId119"/>
    <p:sldId id="366" r:id="rId120"/>
    <p:sldId id="367" r:id="rId121"/>
    <p:sldId id="368" r:id="rId122"/>
    <p:sldId id="369" r:id="rId123"/>
    <p:sldId id="370" r:id="rId124"/>
    <p:sldId id="371" r:id="rId125"/>
    <p:sldId id="372" r:id="rId126"/>
    <p:sldId id="373" r:id="rId127"/>
    <p:sldId id="374" r:id="rId128"/>
    <p:sldId id="375" r:id="rId129"/>
    <p:sldId id="376" r:id="rId1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slide" Target="slides/slide87.xml"/><Relationship Id="rId97" Type="http://schemas.openxmlformats.org/officeDocument/2006/relationships/slide" Target="slides/slide88.xml"/><Relationship Id="rId98" Type="http://schemas.openxmlformats.org/officeDocument/2006/relationships/slide" Target="slides/slide89.xml"/><Relationship Id="rId99" Type="http://schemas.openxmlformats.org/officeDocument/2006/relationships/slide" Target="slides/slide90.xml"/><Relationship Id="rId100" Type="http://schemas.openxmlformats.org/officeDocument/2006/relationships/slide" Target="slides/slide91.xml"/><Relationship Id="rId101" Type="http://schemas.openxmlformats.org/officeDocument/2006/relationships/slide" Target="slides/slide92.xml"/><Relationship Id="rId102" Type="http://schemas.openxmlformats.org/officeDocument/2006/relationships/slide" Target="slides/slide93.xml"/><Relationship Id="rId103" Type="http://schemas.openxmlformats.org/officeDocument/2006/relationships/slide" Target="slides/slide94.xml"/><Relationship Id="rId104" Type="http://schemas.openxmlformats.org/officeDocument/2006/relationships/slide" Target="slides/slide95.xml"/><Relationship Id="rId105" Type="http://schemas.openxmlformats.org/officeDocument/2006/relationships/slide" Target="slides/slide96.xml"/><Relationship Id="rId106" Type="http://schemas.openxmlformats.org/officeDocument/2006/relationships/slide" Target="slides/slide97.xml"/><Relationship Id="rId107" Type="http://schemas.openxmlformats.org/officeDocument/2006/relationships/slide" Target="slides/slide98.xml"/><Relationship Id="rId108" Type="http://schemas.openxmlformats.org/officeDocument/2006/relationships/slide" Target="slides/slide99.xml"/><Relationship Id="rId109" Type="http://schemas.openxmlformats.org/officeDocument/2006/relationships/slide" Target="slides/slide100.xml"/><Relationship Id="rId110" Type="http://schemas.openxmlformats.org/officeDocument/2006/relationships/slide" Target="slides/slide101.xml"/><Relationship Id="rId111" Type="http://schemas.openxmlformats.org/officeDocument/2006/relationships/slide" Target="slides/slide102.xml"/><Relationship Id="rId112" Type="http://schemas.openxmlformats.org/officeDocument/2006/relationships/slide" Target="slides/slide103.xml"/><Relationship Id="rId113" Type="http://schemas.openxmlformats.org/officeDocument/2006/relationships/slide" Target="slides/slide104.xml"/><Relationship Id="rId114" Type="http://schemas.openxmlformats.org/officeDocument/2006/relationships/slide" Target="slides/slide105.xml"/><Relationship Id="rId115" Type="http://schemas.openxmlformats.org/officeDocument/2006/relationships/slide" Target="slides/slide106.xml"/><Relationship Id="rId116" Type="http://schemas.openxmlformats.org/officeDocument/2006/relationships/slide" Target="slides/slide107.xml"/><Relationship Id="rId117" Type="http://schemas.openxmlformats.org/officeDocument/2006/relationships/slide" Target="slides/slide108.xml"/><Relationship Id="rId118" Type="http://schemas.openxmlformats.org/officeDocument/2006/relationships/slide" Target="slides/slide109.xml"/><Relationship Id="rId119" Type="http://schemas.openxmlformats.org/officeDocument/2006/relationships/slide" Target="slides/slide110.xml"/><Relationship Id="rId120" Type="http://schemas.openxmlformats.org/officeDocument/2006/relationships/slide" Target="slides/slide111.xml"/><Relationship Id="rId121" Type="http://schemas.openxmlformats.org/officeDocument/2006/relationships/slide" Target="slides/slide112.xml"/><Relationship Id="rId122" Type="http://schemas.openxmlformats.org/officeDocument/2006/relationships/slide" Target="slides/slide113.xml"/><Relationship Id="rId123" Type="http://schemas.openxmlformats.org/officeDocument/2006/relationships/slide" Target="slides/slide114.xml"/><Relationship Id="rId124" Type="http://schemas.openxmlformats.org/officeDocument/2006/relationships/slide" Target="slides/slide115.xml"/><Relationship Id="rId125" Type="http://schemas.openxmlformats.org/officeDocument/2006/relationships/slide" Target="slides/slide116.xml"/><Relationship Id="rId126" Type="http://schemas.openxmlformats.org/officeDocument/2006/relationships/slide" Target="slides/slide117.xml"/><Relationship Id="rId127" Type="http://schemas.openxmlformats.org/officeDocument/2006/relationships/slide" Target="slides/slide118.xml"/><Relationship Id="rId128" Type="http://schemas.openxmlformats.org/officeDocument/2006/relationships/slide" Target="slides/slide119.xml"/><Relationship Id="rId129" Type="http://schemas.openxmlformats.org/officeDocument/2006/relationships/slide" Target="slides/slide120.xml"/><Relationship Id="rId130" Type="http://schemas.openxmlformats.org/officeDocument/2006/relationships/slide" Target="slides/slide121.xml"/><Relationship Id="rId1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move the slide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4912-EFC5-42EF-BDE1-B4169571E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element T6  Electrical Components. Technician Training Slides for 2014 Question Pool  Good through June 30, 2018  Assembled by Washington Ham Trainers, Daniel Stevens KL7WM, Howard Schultz, W7H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735A-BEC3-4158-8F4F-0C421B32B8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FBECBF-DEA6-4D19-B07E-2301E2FB03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8120B3-EA41-4D8C-B755-D31EBDBD0B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2767EF-BB5F-42FB-AC8E-7A078412F4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D99C54-C645-410C-A840-84645CDD6D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5624C4-3FC9-459C-82E3-D1847895A5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FAB-B5A1-473A-AF17-CBF7013F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50C-72FF-44D1-B12B-BE8E257B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AD7-F807-4661-89B6-7734D4BE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1DF-9D09-429D-BEC1-FF660351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949D-87AC-4C59-BFAB-02DE4F91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A094-2DE8-4715-AF08-04BFEE1D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8BBF-029A-4A22-B36B-E6A02351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0423-C987-4F17-96C0-26067310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9238-6A22-4B82-B5B6-795ACDA1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AFD1-FDF4-468B-A61B-9BE1C6F1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D13F-ACB5-46F9-BDC9-F7310421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E2C-D7A1-4128-82D8-0A7201D1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5D6D-355F-4925-8CF7-9B6093AC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D09C-B20E-4F36-BD15-258EAC57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023E-BE86-492F-83E3-95BE97D7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24DE-DAC4-4CDC-9E74-D6FA1717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CB6F-31F4-45AF-A1C7-F4E5C797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6E2424-AED2-4431-ABE7-0A92FF0CDF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6EEB78-B939-4FFF-90D7-44180D0D94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6E63D6-7B03-40C2-B7E0-0F5297BB29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83DF30-ED7B-4D21-BFC4-A1EF766869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791A38-135A-4A11-993A-0BD320A717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E95-5D2F-4228-878C-A2AE9E19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00AF8A-10C9-4C6E-BD6C-DD19877428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515173-BCF1-4B83-9BB0-6FC7B9DA56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EE4911-A928-48EF-A3B1-C2AFEE87CA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7011EE-320F-4614-915B-EF5F8D3933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D5BA94-6D58-4DA0-9BD7-9EDF79743D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BCCDBD-6503-42F3-B2D3-A0ACE215D2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3B23CB-9BD3-4327-91CC-4EA115476C8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6AEA7-C766-42C1-A9D5-90608119AD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550F2-D24E-4C73-B3B5-5BA080E8E3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4BE74-4480-4697-B506-E777C9AAE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03B-0FF2-4C07-9EEB-3B6C127C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D073A-595B-48D1-9FE6-7A16AF24F1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3EF53-F66C-4220-AC9B-B59C334E38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D9AA3-F7B8-450B-9B24-9467F6E573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6BF80-57F5-46C3-9FE1-B279C9EF9D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72406-4D74-423F-9EFE-9AC9024E53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E19D2-FBAE-4E54-A90A-78463432D9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605A5-8458-4757-9FE3-AC184C040E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89622-B343-451D-AA6F-EB6257A46D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BCD00-8E39-41C1-AD27-3A0285F7B1F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69756-0063-47CB-9A16-3A053067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12B9-29DC-442A-8C27-D244336C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78800-F996-4DD8-950E-40210574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A9BCB-AE1D-48E1-9C4B-90119107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9125E-0F3A-447F-9518-886DC18D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D947D-A64D-4199-83CD-4A60F306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FC1FC-E71F-40AB-B7B8-AE2EEEF9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83479-7851-46AC-9C3D-7C9244F4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50546-F85F-47AD-BC2F-AA096FE0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2022-C46C-43D3-BEE3-681A7F73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44C38-9012-4AC1-A63E-5DE4331A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49396-245F-4807-A39A-E33A0970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F56-BEBF-4F10-B272-BE5C32E2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C0A05-9DF4-4861-B91B-1E36B46B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B69B9D-EA81-4BC8-93B3-D9DE650F1C7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5984B7-9E95-4E42-93EB-4424A3AACF5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337FB9-1532-49A9-AA22-E7F7019F650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4FFF51-149F-4629-A385-692808CE58E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E50D89-F8F5-4D5A-BDE4-53FB9B487BA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ECBDDB-8317-4834-A02E-7148B880D20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D437D-EFE6-4653-91B8-A4D18793495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1A2554-CEA7-4D3E-926B-4CE10DB9A4C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D5A477-FC3D-4001-83DE-3470B922E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1BE0-8002-45C5-B0E0-D01522A1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25390-525F-4C2A-85F2-BAD2FBB9E2C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CFBE94-839E-4592-B2B7-240B70527EB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C6DE1-C7F9-4262-A0A4-3CBD816B0FA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30F954-8656-4ADF-A46A-7C107EEBD0A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0471C4-4C69-423F-A811-E58B6D01A1B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EC50D5-09D1-4629-A659-CEEE6DE82D3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30410D-6AB4-4659-A73B-91C58EA0781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E5CCB1-4AF9-46CD-B6B5-29874D37A51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A6FB96-B25E-48E7-8116-EB7524FAEE5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AF0571-661E-48CD-826D-16663C975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DF6-25A1-4BBB-B945-5CCC070E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F62E1D-3366-44FB-BD36-B3C5639AE60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7BB139-116E-4720-BE19-34A2BCD7625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CD8B0D-D80D-412B-ABAC-BE748AC6633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97FA2C-633A-4229-A51D-1190317A551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FB2A9C-8734-4FA5-8C10-65D85D94C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8A8-DDA4-45F9-A339-B35AA102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Dutch801 Rm B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Dutch801 Rm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lick to edit the outline text format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  <a:p>
            <a:pPr lvl="1" marL="743040" indent="-28584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Second Outline Level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Third Outline Level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  <a:p>
            <a:pPr lvl="3" marL="1600200" indent="-22860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Fourth Outline Level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  <a:p>
            <a:pPr lvl="4" marL="2057400" indent="-228600">
              <a:spcBef>
                <a:spcPts val="601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Fifth Outline Level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Sixth Outline Level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Seventh Outline Level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E64D-86F0-4648-B74B-875E19179F3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F5D8-1667-4C41-BA4E-C276BF8E0F3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Click to edit the outline text form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con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Thir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3" marL="1600200" indent="-22860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our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4" marL="2057400" indent="-228600">
              <a:spcBef>
                <a:spcPts val="601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if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ix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ven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E977-A25B-4B59-9448-AC0B0FAE84E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ABAB-A3B1-4CAC-A11D-7AE2A17EBDA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Dutch801 Rm B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Dutch801 Rm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lick to edit the outline text format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  <a:p>
            <a:pPr lvl="1" marL="743040" indent="-28584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Second Outline Level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Third Outline Level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  <a:p>
            <a:pPr lvl="3" marL="1600200" indent="-22860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Fourth Outline Level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  <a:p>
            <a:pPr lvl="4" marL="2057400" indent="-228600">
              <a:spcBef>
                <a:spcPts val="601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Fifth Outline Level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Sixth Outline Level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Seventh Outline Level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3E94-1302-4700-8BB4-0A27761D6D1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Dutch801 Rm B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Dutch801 Rm B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lick to edit the outline text format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  <a:p>
            <a:pPr lvl="1" marL="743040" indent="-28584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Second Outline Level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Third Outline Level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  <a:p>
            <a:pPr lvl="3" marL="1600200" indent="-22860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Fourth Outline Level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  <a:p>
            <a:pPr lvl="4" marL="2057400" indent="-228600">
              <a:spcBef>
                <a:spcPts val="601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Fifth Outline Level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Sixth Outline Level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Seventh Outline Level</a:t>
            </a:r>
            <a:endParaRPr b="0" lang="en-US" sz="2400" spc="-1" strike="noStrike">
              <a:solidFill>
                <a:srgbClr val="0d0d0d"/>
              </a:solidFill>
              <a:latin typeface="Eurostil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FE9F-F760-4803-BC1E-D20705763EA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Click to edit the outline text form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con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Thir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3" marL="1600200" indent="-22860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our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4" marL="2057400" indent="-228600">
              <a:spcBef>
                <a:spcPts val="601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if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ix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ven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0C4A-795A-4B8C-96A5-4C69C08B6A9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FC72-47F8-4D47-9819-1BBB400B93E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Click to edit the outline text form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con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Thir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3" marL="1600200" indent="-22860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our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4" marL="2057400" indent="-228600">
              <a:spcBef>
                <a:spcPts val="601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if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ix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ven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4C4A-BA16-47E5-AB38-CA33F73624E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Click to edit the outline text form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con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Thir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3" marL="1600200" indent="-22860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our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4" marL="2057400" indent="-228600">
              <a:spcBef>
                <a:spcPts val="601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if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ix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ven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AFD1-1169-43C8-BCE4-90D9699964C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49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49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hyperlink" Target="file:///graphics/tworks_fig3.jpg" TargetMode="External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7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7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7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7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7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ligitek-led.com/multilayer-ceramic-capacitor.htm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46.wmf"/><Relationship Id="rId10" Type="http://schemas.openxmlformats.org/officeDocument/2006/relationships/image" Target="../media/image47.wmf"/><Relationship Id="rId11" Type="http://schemas.openxmlformats.org/officeDocument/2006/relationships/image" Target="../media/image48.wmf"/><Relationship Id="rId12" Type="http://schemas.openxmlformats.org/officeDocument/2006/relationships/slideLayout" Target="../slideLayouts/slideLayout7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4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4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4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4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49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4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4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6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slideLayout" Target="../slideLayouts/slideLayout4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4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4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4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49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49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SUBELEMENT T6 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Electrical components: semiconductors; circuit diagrams; component func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[4 Exam Questions - 4 Groups]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E225-115E-4BDF-9129-837FE64D2CA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A02 - What type of component is often used as an adjustable volume control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Fixed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Power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Potentio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ransform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0CD7-DF74-468F-BFAC-15B19CBAEF4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D08 - Which of the following is used together with an inductor to make a tuned circuit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3124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Zener d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Potentio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9FF1-2E22-4E03-9AF6-DE5CED44D17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D08 - Which of the following is used together with an inductor to make a tuned circuit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3124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Zener d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Potentio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Capaci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68DD-1F56-4A6C-B0F6-38B164C0D8D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0" name="Picture 6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6479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D09 -  What is the name of a device that combines several semiconductors and other components into one packag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3733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ransduc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Multi-pole rela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ntegrated circu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ransform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34D5-7C61-47E0-A714-110648A8E85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D09 -  What is the name of a device that combines several semiconductors and other components into one packag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3733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ransduc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Multi-pole rela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Integrated circui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ransform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5756-8B8D-4E09-B101-813E05A9E12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9" name="Picture 5" descr=""/>
          <p:cNvPicPr/>
          <p:nvPr/>
        </p:nvPicPr>
        <p:blipFill>
          <a:blip r:embed="rId1"/>
          <a:srcRect l="7357" t="17766" r="13448" b="8823"/>
          <a:stretch/>
        </p:blipFill>
        <p:spPr>
          <a:xfrm>
            <a:off x="5410080" y="2122560"/>
            <a:ext cx="3036960" cy="197172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6" descr=""/>
          <p:cNvPicPr/>
          <p:nvPr/>
        </p:nvPicPr>
        <p:blipFill>
          <a:blip r:embed="rId2"/>
          <a:stretch/>
        </p:blipFill>
        <p:spPr>
          <a:xfrm>
            <a:off x="5410080" y="4103640"/>
            <a:ext cx="3036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D10 - What is the function of component 2 in Figure T1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990360" y="1752480"/>
            <a:ext cx="7391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Give off light when current flows through 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upply electrical energ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Control the flow of curr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onvert electrical energy into radio wav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78B8-82CD-425B-A8AD-6C068F626C6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5" name="Picture 5" descr=""/>
          <p:cNvPicPr/>
          <p:nvPr/>
        </p:nvPicPr>
        <p:blipFill>
          <a:blip r:embed="rId1"/>
          <a:srcRect l="23756" t="20904" r="26056" b="9556"/>
          <a:stretch/>
        </p:blipFill>
        <p:spPr>
          <a:xfrm>
            <a:off x="2895480" y="3571920"/>
            <a:ext cx="298476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D10 - What is the function of component 2 in Figure T1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990360" y="1752480"/>
            <a:ext cx="7391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Give off light when current flows through i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upply electrical energ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Control the flow of curren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onvert electrical energy into radio wav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9FBF-F600-44C0-8CDC-F2385E10552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0" name="Picture 5" descr=""/>
          <p:cNvPicPr/>
          <p:nvPr/>
        </p:nvPicPr>
        <p:blipFill>
          <a:blip r:embed="rId1"/>
          <a:srcRect l="23756" t="20904" r="26056" b="9556"/>
          <a:stretch/>
        </p:blipFill>
        <p:spPr>
          <a:xfrm>
            <a:off x="2895480" y="3571920"/>
            <a:ext cx="2984760" cy="2757600"/>
          </a:xfrm>
          <a:prstGeom prst="rect">
            <a:avLst/>
          </a:prstGeom>
          <a:ln w="0">
            <a:noFill/>
          </a:ln>
        </p:spPr>
      </p:pic>
      <p:sp>
        <p:nvSpPr>
          <p:cNvPr id="811" name="Rounded Rectangle 6"/>
          <p:cNvSpPr/>
          <p:nvPr/>
        </p:nvSpPr>
        <p:spPr>
          <a:xfrm>
            <a:off x="4267080" y="4191120"/>
            <a:ext cx="762120" cy="91440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914400"/>
              <a:gd name="textAreaBottom" fmla="*/ 877320 h 914400"/>
            </a:gdLst>
            <a:ahLst/>
            <a:rect l="textAreaLeft" t="textAreaTop" r="textAreaRight" b="textAreaBottom"/>
            <a:pathLst>
              <a:path w="21600" h="25914">
                <a:moveTo>
                  <a:pt x="3600" y="0"/>
                </a:moveTo>
                <a:arcTo wR="3600" hR="3600" stAng="16200000" swAng="-5400000"/>
                <a:lnTo>
                  <a:pt x="0" y="22314"/>
                </a:lnTo>
                <a:arcTo wR="3600" hR="3600" stAng="10800000" swAng="-5400000"/>
                <a:lnTo>
                  <a:pt x="18000" y="259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D11 - What is a simple resonant or tuned circuit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837720" y="21337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 inductor and a capacitor connected in series or parallel to form a fil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type of voltage regul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resistor circuit used for reducing standing wave rati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circuit designed to provide high fidelity audi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A12A-DA1C-4694-87D0-275291E9345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D11 - What is a simple resonant or tuned circuit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837720" y="213372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An inductor and a capacitor connected in series or parallel to form a filt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type of voltage regul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 resistor circuit used for reducing standing wave rati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circuit designed to provide high fidelity audi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70A6-E1B0-4B64-98DD-0830B4FB198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D12 - Which of the following is a common reason to use shielded wire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6705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o decrease the resistance of DC power connec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o increase the current carrying capability of the wir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o prevent coupling of unwanted signals to or from the wir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o couple the wire to other signal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EC97-9592-418E-BCF0-20880E4BB6A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D12 - Which of the following is a common reason to use shielded wire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6705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o decrease the resistance of DC power connec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o increase the current carrying capability of the wir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To prevent coupling of unwanted signals to or from the wir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o couple the wire to other signal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870A-5833-4F6B-B9FE-380E5367D5E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A02 - What type of component is often used as an adjustable volume control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Fixed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Power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Potentiomet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ransform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C3F5-408E-4B56-8664-A00C1F61C0A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Picture 2" descr="http://upload.wikimedia.org/wikipedia/commons/thumb/b/b5/Potentiometer.jpg/225px-Potentiometer.jpg"/>
          <p:cNvPicPr/>
          <p:nvPr/>
        </p:nvPicPr>
        <p:blipFill>
          <a:blip r:embed="rId1"/>
          <a:stretch/>
        </p:blipFill>
        <p:spPr>
          <a:xfrm>
            <a:off x="1752480" y="4572000"/>
            <a:ext cx="1689120" cy="1981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http://www.etisystems.com/images/multifeatures.gif"/>
          <p:cNvPicPr/>
          <p:nvPr/>
        </p:nvPicPr>
        <p:blipFill>
          <a:blip r:embed="rId2"/>
          <a:stretch/>
        </p:blipFill>
        <p:spPr>
          <a:xfrm>
            <a:off x="4648320" y="3657600"/>
            <a:ext cx="41670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Vacuum Tubes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29" name="Slide Number Placeholder 4"/>
          <p:cNvSpPr/>
          <p:nvPr/>
        </p:nvSpPr>
        <p:spPr>
          <a:xfrm>
            <a:off x="8285040" y="623556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46FA-F843-44EB-9B8E-48B45E0C5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1" name="Picture 2" descr="Inside a miniature tub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066680"/>
            <a:ext cx="3609720" cy="4981680"/>
          </a:xfrm>
          <a:prstGeom prst="rect">
            <a:avLst/>
          </a:prstGeom>
          <a:ln w="0">
            <a:noFill/>
          </a:ln>
        </p:spPr>
      </p:pic>
      <p:sp>
        <p:nvSpPr>
          <p:cNvPr id="832" name="TextBox 2"/>
          <p:cNvSpPr/>
          <p:nvPr/>
        </p:nvSpPr>
        <p:spPr>
          <a:xfrm>
            <a:off x="380880" y="1219320"/>
            <a:ext cx="3810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Eurostile"/>
              </a:rPr>
              <a:t>Tubes regulate current flow between cathode and plate with a control grid.  Their size can also create unwanted capacitances.  A screen grid can be added to reduce grid-to-plate capacita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Eurostile"/>
              </a:rPr>
              <a:t>Although still used in high power applications (large amplifiers), they have been largely replaced with transistors.  The Field Effect Transistor (FET) has characteristics most similar to a tub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B307-DF1E-4877-A71F-86C8CEF51D0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ical Components 20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5" name="Picture 2" descr="http://electronicdesign.com/content/content/64258/64258-fig3.jpg"/>
          <p:cNvPicPr/>
          <p:nvPr/>
        </p:nvPicPr>
        <p:blipFill>
          <a:blip r:embed="rId1"/>
          <a:stretch/>
        </p:blipFill>
        <p:spPr>
          <a:xfrm>
            <a:off x="3809880" y="609480"/>
            <a:ext cx="5096160" cy="533412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4" descr="http://people.uncw.edu/tompkinsj/112/texnh/images/VacuumTube.jpg"/>
          <p:cNvPicPr/>
          <p:nvPr/>
        </p:nvPicPr>
        <p:blipFill>
          <a:blip r:embed="rId2"/>
          <a:stretch/>
        </p:blipFill>
        <p:spPr>
          <a:xfrm>
            <a:off x="533520" y="609480"/>
            <a:ext cx="2859120" cy="533412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2"/>
          <p:cNvSpPr/>
          <p:nvPr/>
        </p:nvSpPr>
        <p:spPr>
          <a:xfrm>
            <a:off x="2669760" y="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Impact"/>
              </a:rPr>
              <a:t>Vacuum Tub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G6A07   Which of the following is a reason not to use wire-wound resistors in an RF circuit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A. The resistor's tolerance value would not be adequate for such a circuit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B. The resistor's inductance could make circuit performance unpredictable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C. The resistor could overheat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D. The resistor's internal capacitance would detune the circuit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40" name="Slide Number Placeholder 4"/>
          <p:cNvSpPr/>
          <p:nvPr/>
        </p:nvSpPr>
        <p:spPr>
          <a:xfrm>
            <a:off x="304920" y="624852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DCA0-CB25-4A40-8B84-63AE54EA9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G6A07   Which of the following is a reason not to use wire-wound resistors in an RF circuit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A. The resistor's tolerance value would not be adequate for such a circuit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Lucida Sans Unicode"/>
              </a:rPr>
              <a:t>B. The resistor's inductance could make circuit performance unpredictabl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C. The resistor could overheat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D. The resistor's internal capacitance would detune the circuit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44" name="Slide Number Placeholder 4"/>
          <p:cNvSpPr/>
          <p:nvPr/>
        </p:nvSpPr>
        <p:spPr>
          <a:xfrm>
            <a:off x="8458200" y="620064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CF12-AC89-400B-B687-58ED7648E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6" name="Picture 1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4295520" cy="200952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2" descr=""/>
          <p:cNvPicPr/>
          <p:nvPr/>
        </p:nvPicPr>
        <p:blipFill>
          <a:blip r:embed="rId2"/>
          <a:stretch/>
        </p:blipFill>
        <p:spPr>
          <a:xfrm>
            <a:off x="5105520" y="4191120"/>
            <a:ext cx="36338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G6A08  Which of the following describes a thermisto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A. A resistor that is resistant to changes in value with temperature variation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B. A device having a specific change in resistance with temperature variation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C. A special type of transistor for use at very cold temperature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D. A capacitor that changes value with temperature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50" name="Slide Number Placeholder 4"/>
          <p:cNvSpPr/>
          <p:nvPr/>
        </p:nvSpPr>
        <p:spPr>
          <a:xfrm>
            <a:off x="8229600" y="6248520"/>
            <a:ext cx="609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1D65-4A0A-491C-AB1D-F39855F51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G6A08  Which of the following describes a thermisto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A. A resistor that is resistant to changes in value with temperature variation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Lucida Sans Unicode"/>
              </a:rPr>
              <a:t>B. A device having a specific change in resistance with temperature varia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C. A special type of transistor for use at very cold temperature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D. A capacitor that changes value with temperature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54" name="Slide Number Placeholder 4"/>
          <p:cNvSpPr/>
          <p:nvPr/>
        </p:nvSpPr>
        <p:spPr>
          <a:xfrm>
            <a:off x="8229600" y="6216480"/>
            <a:ext cx="609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0171-166D-4137-AB14-D079C4113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G6A11  Why would it be important to minimize the mutual inductance between two inductor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A. To increase the energy transfer between circuit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B. To reduce unwanted coupling between circuit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C. To reduce conducted emission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D. To increase the self-resonant frequency of the inductor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305920" y="6248520"/>
            <a:ext cx="533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3147-051D-4533-B3F5-AA95CD335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Impact"/>
              </a:rPr>
              <a:t>G6A11  Why would it be important to minimize the mutual inductance between two inductors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A. To increase the energy transfer between circuit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Lucida Sans Unicode"/>
              </a:rPr>
              <a:t>B. To reduce unwanted coupling between circui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C. To reduce conducted emission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D. To increase the self-resonant frequency of the inductor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62" name="Slide Number Placeholder 4"/>
          <p:cNvSpPr/>
          <p:nvPr/>
        </p:nvSpPr>
        <p:spPr>
          <a:xfrm>
            <a:off x="8229600" y="617220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F5EC-6CA0-491E-A012-16240880E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609480" y="3581280"/>
            <a:ext cx="3245040" cy="271800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3" descr=""/>
          <p:cNvPicPr/>
          <p:nvPr/>
        </p:nvPicPr>
        <p:blipFill>
          <a:blip r:embed="rId2"/>
          <a:srcRect l="11400" t="7654" r="9794" b="13562"/>
          <a:stretch/>
        </p:blipFill>
        <p:spPr>
          <a:xfrm>
            <a:off x="4267080" y="3581280"/>
            <a:ext cx="362448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G6B02  What are two major ratings that must not be exceeded for silicon diode rectifier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A. Peak inverse voltage; average forward current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B. Average power; average voltage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C. Capacitive reactance; avalanche voltage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D. Peak load impedance; peak voltage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68" name="Slide Number Placeholder 4"/>
          <p:cNvSpPr/>
          <p:nvPr/>
        </p:nvSpPr>
        <p:spPr>
          <a:xfrm>
            <a:off x="8381880" y="61722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D4B7-2D49-479A-BEB9-F02E6C861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G6B02  What are two major ratings that must not be exceeded for silicon diode rectifier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Lucida Sans Unicode"/>
              </a:rPr>
              <a:t>A. Peak inverse voltage; average forward curr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B. Average power; average voltage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C. Capacitive reactance; avalanche voltage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Lucida Sans Unicode"/>
              </a:rPr>
              <a:t>D. Peak load impedance; peak voltage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72" name="Slide Number Placeholder 4"/>
          <p:cNvSpPr/>
          <p:nvPr/>
        </p:nvSpPr>
        <p:spPr>
          <a:xfrm>
            <a:off x="8229600" y="6248520"/>
            <a:ext cx="609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556E-B441-4F66-A906-614B47C34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A03 - What electrical parameter is controlled by a potentiomete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Induc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Resis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Capaci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Field strengt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FF84-FB0B-4335-A753-54B79064E7C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Impact"/>
              </a:rPr>
              <a:t>Connectors</a:t>
            </a:r>
            <a:br>
              <a:rPr sz="4000"/>
            </a:br>
            <a:endParaRPr b="0" lang="en-US" sz="3600" spc="-1" strike="noStrike">
              <a:solidFill>
                <a:srgbClr val="0d0d0d"/>
              </a:solidFill>
              <a:latin typeface="Impact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457200" y="1523880"/>
          <a:ext cx="8305920" cy="4648320"/>
        </p:xfrm>
        <a:graphic>
          <a:graphicData uri="http://schemas.openxmlformats.org/drawingml/2006/table">
            <a:tbl>
              <a:tblPr/>
              <a:tblGrid>
                <a:gridCol w="762120"/>
                <a:gridCol w="3039840"/>
                <a:gridCol w="998640"/>
                <a:gridCol w="3505320"/>
              </a:tblGrid>
              <a:tr h="1549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-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i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-2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F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150MH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49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conductor audio/contr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erproof RF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t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10GH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49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e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 RF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t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veral GH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220C-7927-46AD-9781-49E14862596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8" name="Picture 2" descr="http://upload.wikimedia.org/wikipedia/commons/thumb/7/78/9_pin_d-sub_connector_male_closeup.jpg/220px-9_pin_d-sub_connector_male_closeup.jpg"/>
          <p:cNvPicPr/>
          <p:nvPr/>
        </p:nvPicPr>
        <p:blipFill>
          <a:blip r:embed="rId1"/>
          <a:stretch/>
        </p:blipFill>
        <p:spPr>
          <a:xfrm>
            <a:off x="2084400" y="1600200"/>
            <a:ext cx="1992240" cy="146700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4" descr="https://encrypted-tbn0.gstatic.com/images?q=tbn:ANd9GcRvBCRkverdzvdIiaM9m_uDZXVQJ0Nh6_bZD81zOIIVlOneZPdP_A"/>
          <p:cNvPicPr/>
          <p:nvPr/>
        </p:nvPicPr>
        <p:blipFill>
          <a:blip r:embed="rId2"/>
          <a:srcRect l="-6199" t="10667" r="6215" b="17789"/>
          <a:stretch/>
        </p:blipFill>
        <p:spPr>
          <a:xfrm>
            <a:off x="1954080" y="4648320"/>
            <a:ext cx="2103480" cy="1504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6" descr="http://upload.wikimedia.org/wikipedia/commons/6/65/N_Connector.jpg"/>
          <p:cNvPicPr/>
          <p:nvPr/>
        </p:nvPicPr>
        <p:blipFill>
          <a:blip r:embed="rId3"/>
          <a:srcRect l="16483" t="9249" r="19366" b="9924"/>
          <a:stretch/>
        </p:blipFill>
        <p:spPr>
          <a:xfrm>
            <a:off x="7010280" y="3171960"/>
            <a:ext cx="1594080" cy="133812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8" descr="http://www.cablestogo.com/product-images/01690/200/01690a.jpg"/>
          <p:cNvPicPr/>
          <p:nvPr/>
        </p:nvPicPr>
        <p:blipFill>
          <a:blip r:embed="rId4"/>
          <a:srcRect l="10591" t="19370" r="6496" b="22146"/>
          <a:stretch/>
        </p:blipFill>
        <p:spPr>
          <a:xfrm>
            <a:off x="2463840" y="3395520"/>
            <a:ext cx="1579680" cy="111456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10" descr="http://www.simplesolutions-uk.com/files/product-images/sma-male_14.jpg"/>
          <p:cNvPicPr/>
          <p:nvPr/>
        </p:nvPicPr>
        <p:blipFill>
          <a:blip r:embed="rId5"/>
          <a:srcRect l="27536" t="5199" r="5771" b="34588"/>
          <a:stretch/>
        </p:blipFill>
        <p:spPr>
          <a:xfrm>
            <a:off x="7086600" y="4676760"/>
            <a:ext cx="1498680" cy="135432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12" descr="https://encrypted-tbn1.gstatic.com/images?q=tbn:ANd9GcSqiM9_sBCFn4Ff-KuXc-u9-mpiHtZdxyRLdfOMV2B2bOolp8xs"/>
          <p:cNvPicPr/>
          <p:nvPr/>
        </p:nvPicPr>
        <p:blipFill>
          <a:blip r:embed="rId6"/>
          <a:srcRect l="0" t="23199" r="27960" b="21549"/>
          <a:stretch/>
        </p:blipFill>
        <p:spPr>
          <a:xfrm>
            <a:off x="6400800" y="1846440"/>
            <a:ext cx="218448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End of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SUBELEMENT T6 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Electrical components: semiconductors; circuit diagrams; component func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E4C9-8CDF-4860-A3E1-CB1A5C736DD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A03 - What electrical parameter is controlled by a potentiomete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Induc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Resistanc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Capaci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Field strengt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8F33-17D2-47E6-AB5F-05AF3EEFA1C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Picture 2" descr="http://www.etisystems.com/images/multifeatures.gif"/>
          <p:cNvPicPr/>
          <p:nvPr/>
        </p:nvPicPr>
        <p:blipFill>
          <a:blip r:embed="rId1"/>
          <a:srcRect l="23243" t="19774" r="28176" b="20914"/>
          <a:stretch/>
        </p:blipFill>
        <p:spPr>
          <a:xfrm>
            <a:off x="4495680" y="3429000"/>
            <a:ext cx="3222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A04 - What electrical component stores energy in an electric field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ndu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D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87ED-514C-4F79-A695-81A8036B3D0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A04 - What electrical component stores energy in an electric field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Capaci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ndu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D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42FB-ED4E-4AB1-9BEB-E0FE8376940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2895480" y="3560760"/>
            <a:ext cx="56818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A05 - What type of electrical component consists of two or more conductive surfaces separated by an insulato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Potentio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Oscill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D816-7913-440E-8E81-E9339326275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A05 - What type of electrical component consists of two or more conductive surfaces separated by an insulato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Potentio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Oscill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Capaci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4EEF-30AE-45F2-B87C-D1AD512687A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26128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A06 - What type of electrical component stores energy in a magnetic field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ndu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D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1121-9D2D-43C6-91FE-F731135A336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A06 - What type of electrical component stores energy in a magnetic field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Induc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D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4AB0-62D0-42C7-AD3D-52823F3EA6B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1"/>
          <a:stretch/>
        </p:blipFill>
        <p:spPr>
          <a:xfrm>
            <a:off x="4191120" y="2590920"/>
            <a:ext cx="41446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33160" y="53316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Eurostile"/>
              </a:rPr>
              <a:t>T6A - Electrical components: </a:t>
            </a:r>
            <a:r>
              <a:rPr b="1" i="1" lang="en-US" sz="2400" spc="-1" strike="noStrike">
                <a:solidFill>
                  <a:srgbClr val="0d0d0d"/>
                </a:solidFill>
                <a:latin typeface="Eurostile"/>
              </a:rPr>
              <a:t>fixed and variable resistors; capacitors and inductors; fuses; switches; batteri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Eurostile"/>
              </a:rPr>
              <a:t>T6B – Semiconductors: </a:t>
            </a:r>
            <a:r>
              <a:rPr b="1" i="1" lang="en-US" sz="2400" spc="-1" strike="noStrike">
                <a:solidFill>
                  <a:srgbClr val="0d0d0d"/>
                </a:solidFill>
                <a:latin typeface="Eurostile"/>
              </a:rPr>
              <a:t>basic principles and applications of solid state devices; diodes and transistors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Eurostile"/>
              </a:rPr>
              <a:t>T6C - Circuit diagrams: </a:t>
            </a:r>
            <a:r>
              <a:rPr b="1" i="1" lang="en-US" sz="2400" spc="-1" strike="noStrike">
                <a:solidFill>
                  <a:srgbClr val="0d0d0d"/>
                </a:solidFill>
                <a:latin typeface="Eurostile"/>
              </a:rPr>
              <a:t>schematic symbols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Eurostile"/>
              </a:rPr>
              <a:t>T6D - Component functions: </a:t>
            </a:r>
            <a:r>
              <a:rPr b="1" i="1" lang="en-US" sz="2400" spc="-1" strike="noStrike">
                <a:solidFill>
                  <a:srgbClr val="0d0d0d"/>
                </a:solidFill>
                <a:latin typeface="Eurostile"/>
              </a:rPr>
              <a:t>rectification; switches; indicators; power supply components; resonant circuit; shielding; power transformers; integrated circui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AA28-1641-42AA-B396-B4B356325DD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A07 - What electrical component is usually composed of a coil of wire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Switc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D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Indu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6F83-CC48-4A02-AB44-4E69F1C86DB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A07 - What electrical component is usually composed of a coil of wire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Switc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D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Induc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DF38-811F-4E36-ABA8-668FC9D16A6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1905120" y="4495680"/>
            <a:ext cx="1504800" cy="1505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4419720" y="257184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A08 - What electrical component is used to connect or disconnect electrical circuit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Magnetr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witc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rm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6F04-8ADB-4135-B1B7-332428085AC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A08 - What electrical component is used to connect or disconnect electrical circuit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Magnetr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Switch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rm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81ED-ED2E-4A4E-90E3-82FDBFA0A87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A09 - What electrical component is used to protect other circuit components from current overloads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Fus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ndu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6396-2D95-4FD4-8884-1585D19F027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A09 - What electrical component is used to protect other circuit components from current overloads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Fus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ndu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BCB6-5DE8-4DC8-86CE-D537B1E2C38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A10 - Which of the following battery types is rechargeabl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Nickel-metal hydri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Lithium-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Lead-acid gel-cel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857A-92DE-46E8-8B21-D53981DD7AA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A10 - Which of the following battery types is rechargeabl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Nickel-metal hydri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Lithium-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Lead-acid gel-cel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All of these choices are correc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D3A9-EC49-4033-857F-13C81A88440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A11 - Which of the following battery types is not rechargeabl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Nickel-cadmium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Carbon-zin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Lead-acid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Lithium-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D4E5-9033-459C-A4E6-CDCDEAFF29A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A11 - Which of the following battery types is not rechargeable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Nickel-cadmium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Carbon-zinc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Lead-acid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Lithium-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1E95-3119-4750-A253-978B0644C48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58A7-B064-44E8-9305-7B1A1B6D459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153720"/>
            <a:ext cx="566244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urostile"/>
              </a:rPr>
              <a:t>Resistors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	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pic>
        <p:nvPicPr>
          <p:cNvPr id="300" name="Picture 2" descr="http://members.shaw.ca/roma/code.jpg"/>
          <p:cNvPicPr/>
          <p:nvPr/>
        </p:nvPicPr>
        <p:blipFill>
          <a:blip r:embed="rId1"/>
          <a:stretch/>
        </p:blipFill>
        <p:spPr>
          <a:xfrm>
            <a:off x="228600" y="1600200"/>
            <a:ext cx="4543560" cy="47624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http://www.ebyte.it/library/educards/ee/ColorCodedResistors_4cols.jpg"/>
          <p:cNvPicPr/>
          <p:nvPr/>
        </p:nvPicPr>
        <p:blipFill>
          <a:blip r:embed="rId2"/>
          <a:stretch/>
        </p:blipFill>
        <p:spPr>
          <a:xfrm>
            <a:off x="7086600" y="304920"/>
            <a:ext cx="1714680" cy="33811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"/>
          <p:cNvPicPr/>
          <p:nvPr/>
        </p:nvPicPr>
        <p:blipFill>
          <a:blip r:embed="rId3"/>
          <a:stretch/>
        </p:blipFill>
        <p:spPr>
          <a:xfrm>
            <a:off x="4022640" y="304920"/>
            <a:ext cx="2968560" cy="623880"/>
          </a:xfrm>
          <a:prstGeom prst="rect">
            <a:avLst/>
          </a:prstGeom>
          <a:ln w="0">
            <a:noFill/>
          </a:ln>
        </p:spPr>
      </p:pic>
      <p:sp>
        <p:nvSpPr>
          <p:cNvPr id="303" name="TextBox 2"/>
          <p:cNvSpPr/>
          <p:nvPr/>
        </p:nvSpPr>
        <p:spPr>
          <a:xfrm>
            <a:off x="5029200" y="3733920"/>
            <a:ext cx="39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Eurostile"/>
              </a:rPr>
              <a:t>Resistors oppose the flow of current in a DC (or AC) circuit).  Their values are represented with the colored strips or numbers and will vary slightly with temp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Eurostile"/>
              </a:rPr>
              <a:t>A variable resistor is called a potentiometer and is often used for volume contro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Picture 2" descr="http://upload.wikimedia.org/wikipedia/commons/thumb/b/b5/Potentiometer.jpg/225px-Potentiometer.jpg"/>
          <p:cNvPicPr/>
          <p:nvPr/>
        </p:nvPicPr>
        <p:blipFill>
          <a:blip r:embed="rId4"/>
          <a:stretch/>
        </p:blipFill>
        <p:spPr>
          <a:xfrm>
            <a:off x="4848120" y="1197000"/>
            <a:ext cx="2143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B – Semiconductors: 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0d0d"/>
                </a:solidFill>
                <a:latin typeface="Eurostile"/>
              </a:rPr>
              <a:t>basic principles and applications of solid state devices; diodes and transistors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FCBF-1B1D-4554-A589-5B6ACB4837E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B01 - What class of electronic components is capable of using a voltage or current signal to control current flow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Capacito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Inducto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Resisto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ransisto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38C3-C3F0-4ECC-8C4C-77B9E639493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B01 - What class of electronic components is capable of using a voltage or current signal to control current flow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Capacito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Inducto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Resistor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Transistor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1D7A-1DFA-466D-880E-79197EE88D8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6" name="Picture 2" descr="http://upload.wikimedia.org/wikipedia/commons/0/0e/Transistors-white.jpg"/>
          <p:cNvPicPr/>
          <p:nvPr/>
        </p:nvPicPr>
        <p:blipFill>
          <a:blip r:embed="rId1"/>
          <a:srcRect l="7889" t="14920" r="8340" b="11998"/>
          <a:stretch/>
        </p:blipFill>
        <p:spPr>
          <a:xfrm>
            <a:off x="4343400" y="3048120"/>
            <a:ext cx="44067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B02 - What electronic component allows current to flow in only one directio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Fus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D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Driven Elem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A07D-7AC9-43C4-9919-A424A91E3CF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B02 - What electronic component allows current to flow in only one direction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Fus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Diod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Driven Elem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0FD8-CC2C-473E-AD8E-7D8261E312E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AutoShape 2"/>
          <p:cNvSpPr/>
          <p:nvPr/>
        </p:nvSpPr>
        <p:spPr>
          <a:xfrm>
            <a:off x="155520" y="-1881360"/>
            <a:ext cx="83059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AutoShape 4"/>
          <p:cNvSpPr/>
          <p:nvPr/>
        </p:nvSpPr>
        <p:spPr>
          <a:xfrm>
            <a:off x="307800" y="-1728720"/>
            <a:ext cx="830592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4952880" y="4343400"/>
            <a:ext cx="3105360" cy="1467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"/>
          <p:cNvPicPr/>
          <p:nvPr/>
        </p:nvPicPr>
        <p:blipFill>
          <a:blip r:embed="rId2"/>
          <a:stretch/>
        </p:blipFill>
        <p:spPr>
          <a:xfrm>
            <a:off x="5338800" y="2052720"/>
            <a:ext cx="23335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B03 - Which of these components can be used as an electronic switch or amplifier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Oscill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Potentio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Volt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F49E-741B-4B0B-9796-F449A67A47E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B03 - Which of these components can be used as an electronic switch or amplifier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Oscill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Potentio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Transis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Volt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A001-85E9-4B8C-84D2-02DC4CD90E8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B04 -  Which of the following components can be made of three layers of semiconductor material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ltern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r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Pentagrid conver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3B10-A7F1-4CB4-97EA-C3A03F664B3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B04 -  Which of the following components can be made of three layers of semiconductor material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ltern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Transis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r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Pentagrid conver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8536-499C-46DF-BA15-AEEC30A74F4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B05 - Which of the following electronic components can amplify signal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Variable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Electrolytic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Multi-cell batte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326D-F106-457C-8DEF-31554447D38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622D-9B20-4546-BE5A-8A3A522EC91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193320"/>
            <a:ext cx="542304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rostile"/>
              </a:rPr>
              <a:t>Capacitors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08" name="AutoShape 2"/>
          <p:cNvSpPr/>
          <p:nvPr/>
        </p:nvSpPr>
        <p:spPr>
          <a:xfrm>
            <a:off x="5724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Picture 4" descr="http://leandrocodorna.vilabol.uol.com.br/Capacitor.gif"/>
          <p:cNvPicPr/>
          <p:nvPr/>
        </p:nvPicPr>
        <p:blipFill>
          <a:blip r:embed="rId1"/>
          <a:stretch/>
        </p:blipFill>
        <p:spPr>
          <a:xfrm>
            <a:off x="209520" y="3200400"/>
            <a:ext cx="3738600" cy="2438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Capacitor Manufacturer-View detailed information about multilayer ceramic capacitor by clicking her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58080" y="214776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http://www.guitarpartsusa.com/ccp51/media/images/product_detail/CAP-047.jpg"/>
          <p:cNvPicPr/>
          <p:nvPr/>
        </p:nvPicPr>
        <p:blipFill>
          <a:blip r:embed="rId4"/>
          <a:stretch/>
        </p:blipFill>
        <p:spPr>
          <a:xfrm>
            <a:off x="4572000" y="1523880"/>
            <a:ext cx="1419120" cy="14194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"/>
          <p:cNvPicPr/>
          <p:nvPr/>
        </p:nvPicPr>
        <p:blipFill>
          <a:blip r:embed="rId5"/>
          <a:stretch/>
        </p:blipFill>
        <p:spPr>
          <a:xfrm>
            <a:off x="5410080" y="380880"/>
            <a:ext cx="3157560" cy="6480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2"/>
          <p:cNvSpPr/>
          <p:nvPr/>
        </p:nvSpPr>
        <p:spPr>
          <a:xfrm>
            <a:off x="208440" y="5638680"/>
            <a:ext cx="355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Eurostile"/>
              </a:rPr>
              <a:t>Electrolytic capacitors</a:t>
            </a:r>
            <a:br>
              <a:rPr sz="2400"/>
            </a:br>
            <a:r>
              <a:rPr b="1" lang="en-US" sz="2400" spc="-1" strike="noStrike">
                <a:solidFill>
                  <a:srgbClr val="0d0d0d"/>
                </a:solidFill>
                <a:latin typeface="Eurostile"/>
              </a:rPr>
              <a:t>(polariz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Box 13"/>
          <p:cNvSpPr/>
          <p:nvPr/>
        </p:nvSpPr>
        <p:spPr>
          <a:xfrm>
            <a:off x="6220080" y="1674720"/>
            <a:ext cx="30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Eurostile"/>
              </a:rPr>
              <a:t>Ceramic capaci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Box 2"/>
          <p:cNvSpPr/>
          <p:nvPr/>
        </p:nvSpPr>
        <p:spPr>
          <a:xfrm>
            <a:off x="4114800" y="5052960"/>
            <a:ext cx="44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Eurostile"/>
              </a:rPr>
              <a:t>Capacitors are conductive plates separated by an insulator and stores energy in an electric field (electrostaticall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Box 3"/>
          <p:cNvSpPr/>
          <p:nvPr/>
        </p:nvSpPr>
        <p:spPr>
          <a:xfrm>
            <a:off x="2535120" y="17431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Eurostile"/>
              </a:rPr>
              <a:t>Air Variable Capaci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4" descr="http://hamwaves.com/antennas/capacitors/split-stator.gif"/>
          <p:cNvPicPr/>
          <p:nvPr/>
        </p:nvPicPr>
        <p:blipFill>
          <a:blip r:embed="rId6"/>
          <a:stretch/>
        </p:blipFill>
        <p:spPr>
          <a:xfrm>
            <a:off x="584280" y="1336680"/>
            <a:ext cx="19238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B05 - Which of the following electronic components can amplify signal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Transis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Variable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Electrolytic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Multi-cell batte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C7BD-47C6-41DF-87F6-A0E8FCF97A8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B06 - How is the cathode lead of a semiconductor diode usually identified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With the word cath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With a strip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With the letter 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8DA1-4E4E-4E7D-BC95-868ACE91BB8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B06 - How is the cathode lead of a semiconductor diode usually identified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With the word cath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With a strip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With the letter 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462C-14E8-4E2D-A27F-2054C6158A5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1" name="Picture 5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23335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B07 - What does the abbreviation LED stand fo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Low Emission D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Light Emitting D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Liquid Emission Det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Long Echo Dela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8517-6788-4D73-A748-884D443C4E1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B07 - What does the abbreviation LED stand fo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Low Emission D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Light Emitting Diod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Liquid Emission Det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Long Echo Dela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9CBD-B275-4935-B0DB-F00EF7C0523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B08 - What does the abbreviation FET stand fo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Field Effect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Fast Electron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Free Electron Transi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Field Emission Thicknes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FA2D-827F-41F9-8F47-8D101F11BC0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B08 - What does the abbreviation FET stand fo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Field Effect Transis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Fast Electron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Free Electron Transi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Field Emission Thicknes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BECB-FB03-4A38-9612-5BAB5363CB3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1"/>
          <a:stretch/>
        </p:blipFill>
        <p:spPr>
          <a:xfrm>
            <a:off x="3962520" y="3886200"/>
            <a:ext cx="43434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B09 - What are the names of the two electrodes of a diode?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Plus and minu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ource and drai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node and cath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Gate and bas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86DB-EFB8-4409-BAD8-D465223EC7A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B09 - What are the names of the two electrodes of a diode?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Plus and minu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ource and drai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Anode and cathod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Gate and bas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EEAD-DFB9-4304-87BE-35F5CF0AB7C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Picture 8" descr="http://upload.wikimedia.org/wikipedia/commons/thumb/b/b4/Diode_symbol.svg/220px-Diode_symbol.svg.png"/>
          <p:cNvPicPr/>
          <p:nvPr/>
        </p:nvPicPr>
        <p:blipFill>
          <a:blip r:embed="rId1"/>
          <a:stretch/>
        </p:blipFill>
        <p:spPr>
          <a:xfrm>
            <a:off x="5667480" y="3200400"/>
            <a:ext cx="2674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B10 - What are the three electrodes of a PNP or NPN transisto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Emitter, base, and coll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ource, gate, and drai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Cathode, grid, and plat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athode, drift cavity, and coll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EF27-F923-4538-A5C0-DD9C602638E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5FA2-C6F2-46EE-BFE3-A1A82EE1D32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244080"/>
            <a:ext cx="5762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rostile"/>
              </a:rPr>
              <a:t>Inductors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5867280" y="419040"/>
            <a:ext cx="2940120" cy="609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http://www.magasia.com.tw/inductors.jpg"/>
          <p:cNvPicPr/>
          <p:nvPr/>
        </p:nvPicPr>
        <p:blipFill>
          <a:blip r:embed="rId2"/>
          <a:stretch/>
        </p:blipFill>
        <p:spPr>
          <a:xfrm>
            <a:off x="333360" y="1523880"/>
            <a:ext cx="5659560" cy="449604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6"/>
          <p:cNvSpPr/>
          <p:nvPr/>
        </p:nvSpPr>
        <p:spPr>
          <a:xfrm>
            <a:off x="28440" y="-6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Picture 8" descr="http://wilcocorp.com/images/catalog/toroidal_inductors/toroidal_inductors_170.jpg"/>
          <p:cNvPicPr/>
          <p:nvPr/>
        </p:nvPicPr>
        <p:blipFill>
          <a:blip r:embed="rId3"/>
          <a:stretch/>
        </p:blipFill>
        <p:spPr>
          <a:xfrm>
            <a:off x="6492960" y="1523880"/>
            <a:ext cx="2025720" cy="2025720"/>
          </a:xfrm>
          <a:prstGeom prst="rect">
            <a:avLst/>
          </a:prstGeom>
          <a:ln w="0">
            <a:noFill/>
          </a:ln>
        </p:spPr>
      </p:pic>
      <p:sp>
        <p:nvSpPr>
          <p:cNvPr id="325" name="TextBox 2"/>
          <p:cNvSpPr/>
          <p:nvPr/>
        </p:nvSpPr>
        <p:spPr>
          <a:xfrm>
            <a:off x="6095880" y="396252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Eurostile"/>
              </a:rPr>
              <a:t>Inductors are generally coils of wire that store energy in a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B10 - What are the three electrodes of a PNP or NPN transisto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Emitter, base, and collec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ource, gate, and drai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Cathode, grid, and plat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athode, drift cavity, and coll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37C3-EB04-420B-AA31-E3BD4AC1CFA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Picture 2" descr="http://www.matrixmultimedia.com/courses/ecc/uploads/trsymb2.png"/>
          <p:cNvPicPr/>
          <p:nvPr/>
        </p:nvPicPr>
        <p:blipFill>
          <a:blip r:embed="rId1"/>
          <a:stretch/>
        </p:blipFill>
        <p:spPr>
          <a:xfrm>
            <a:off x="3124080" y="3484440"/>
            <a:ext cx="257184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B11 - What at are the three electrodes of a field effect transisto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Emitter, base, and coll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ource, gate, and drai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Cathode, grid, and plat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athode, gate, and an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F8DF-5996-4FCA-BA76-D4E6BE213C0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B11 - What at are the three electrodes of a field effect transisto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Emitter, base, and coll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Source, gate, and drai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Cathode, grid, and plat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athode, gate, and an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90B4-4657-4780-8E49-301B4EA601C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Picture 5" descr=""/>
          <p:cNvPicPr/>
          <p:nvPr/>
        </p:nvPicPr>
        <p:blipFill>
          <a:blip r:embed="rId1"/>
          <a:stretch/>
        </p:blipFill>
        <p:spPr>
          <a:xfrm>
            <a:off x="3962520" y="3886200"/>
            <a:ext cx="43434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B12 - What is the term that describes a transistor's ability to amplify a signal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Gai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Forward resis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Forward voltage drop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On resis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021A-0C98-4BAA-A582-C47D58C9B48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B12 - What is the term that describes a transistor's ability to amplify a signal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Gai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Forward resis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Forward voltage drop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On resis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05A2-C27D-48AB-8FF1-804AD248DAC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Eurostile"/>
              </a:rPr>
              <a:t>T6C - Circuit diagrams; schematic symbols </a:t>
            </a:r>
            <a:endParaRPr b="0" i="1" lang="en-US" sz="36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ADF3-B568-4D0B-9232-B23D2118A0D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Schematic Symbols</a:t>
            </a:r>
            <a:endParaRPr b="0" lang="en-US" sz="4000" spc="-1" strike="noStrike">
              <a:solidFill>
                <a:srgbClr val="0d0d0d"/>
              </a:solidFill>
              <a:latin typeface="Impact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457200" y="1871640"/>
          <a:ext cx="8229600" cy="3843360"/>
        </p:xfrm>
        <a:graphic>
          <a:graphicData uri="http://schemas.openxmlformats.org/drawingml/2006/table">
            <a:tbl>
              <a:tblPr/>
              <a:tblGrid>
                <a:gridCol w="1371600"/>
                <a:gridCol w="1224000"/>
                <a:gridCol w="1630440"/>
                <a:gridCol w="1260360"/>
                <a:gridCol w="1371600"/>
                <a:gridCol w="1371600"/>
              </a:tblGrid>
              <a:tr h="7192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s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ST Swit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8424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s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6984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s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en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7000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tt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Induc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5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95B8-3FB9-47AB-9191-A9A2BC8D974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1" name="Picture 11" descr=""/>
          <p:cNvPicPr/>
          <p:nvPr/>
        </p:nvPicPr>
        <p:blipFill>
          <a:blip r:embed="rId1"/>
          <a:stretch/>
        </p:blipFill>
        <p:spPr>
          <a:xfrm>
            <a:off x="2152800" y="2219400"/>
            <a:ext cx="690480" cy="1936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0" descr=""/>
          <p:cNvPicPr/>
          <p:nvPr/>
        </p:nvPicPr>
        <p:blipFill>
          <a:blip r:embed="rId2"/>
          <a:stretch/>
        </p:blipFill>
        <p:spPr>
          <a:xfrm rot="16200000">
            <a:off x="5083920" y="2081520"/>
            <a:ext cx="438120" cy="360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9" descr=""/>
          <p:cNvPicPr/>
          <p:nvPr/>
        </p:nvPicPr>
        <p:blipFill>
          <a:blip r:embed="rId3"/>
          <a:stretch/>
        </p:blipFill>
        <p:spPr>
          <a:xfrm>
            <a:off x="7791480" y="2151000"/>
            <a:ext cx="541440" cy="3301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"/>
          <p:cNvPicPr/>
          <p:nvPr/>
        </p:nvPicPr>
        <p:blipFill>
          <a:blip r:embed="rId4"/>
          <a:stretch/>
        </p:blipFill>
        <p:spPr>
          <a:xfrm>
            <a:off x="2141640" y="2946240"/>
            <a:ext cx="725400" cy="4240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"/>
          <p:cNvPicPr/>
          <p:nvPr/>
        </p:nvPicPr>
        <p:blipFill>
          <a:blip r:embed="rId5"/>
          <a:stretch/>
        </p:blipFill>
        <p:spPr>
          <a:xfrm rot="16200000">
            <a:off x="5021280" y="3002040"/>
            <a:ext cx="581040" cy="3268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6" descr=""/>
          <p:cNvPicPr/>
          <p:nvPr/>
        </p:nvPicPr>
        <p:blipFill>
          <a:blip r:embed="rId6"/>
          <a:stretch/>
        </p:blipFill>
        <p:spPr>
          <a:xfrm>
            <a:off x="7751880" y="2874960"/>
            <a:ext cx="581040" cy="501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"/>
          <p:cNvPicPr/>
          <p:nvPr/>
        </p:nvPicPr>
        <p:blipFill>
          <a:blip r:embed="rId7"/>
          <a:stretch/>
        </p:blipFill>
        <p:spPr>
          <a:xfrm>
            <a:off x="2152800" y="3792600"/>
            <a:ext cx="714240" cy="6508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"/>
          <p:cNvPicPr/>
          <p:nvPr/>
        </p:nvPicPr>
        <p:blipFill>
          <a:blip r:embed="rId8"/>
          <a:stretch/>
        </p:blipFill>
        <p:spPr>
          <a:xfrm>
            <a:off x="4932360" y="3822840"/>
            <a:ext cx="773280" cy="5918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"/>
          <p:cNvPicPr/>
          <p:nvPr/>
        </p:nvPicPr>
        <p:blipFill>
          <a:blip r:embed="rId9"/>
          <a:stretch/>
        </p:blipFill>
        <p:spPr>
          <a:xfrm>
            <a:off x="7723080" y="3855960"/>
            <a:ext cx="621000" cy="5587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"/>
          <p:cNvPicPr/>
          <p:nvPr/>
        </p:nvPicPr>
        <p:blipFill>
          <a:blip r:embed="rId10"/>
          <a:stretch/>
        </p:blipFill>
        <p:spPr>
          <a:xfrm rot="16200000">
            <a:off x="2243160" y="4693680"/>
            <a:ext cx="510840" cy="4413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" descr=""/>
          <p:cNvPicPr/>
          <p:nvPr/>
        </p:nvPicPr>
        <p:blipFill>
          <a:blip r:embed="rId11"/>
          <a:stretch/>
        </p:blipFill>
        <p:spPr>
          <a:xfrm rot="5400000">
            <a:off x="5022360" y="4618080"/>
            <a:ext cx="507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6689-791B-4632-ADB2-9C874BB278B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3924360" cy="39243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65760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C01 - What is the name for standardized representations of components in an electrical wiring diagram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Electrical depic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Grey sketc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Schematic symbol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omponent callou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2487-BD70-49CD-B0C0-65BEAE1CB12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C01 - What is the name for standardized representations of components in an electrical wiring diagram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Electrical depiction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Grey sketc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Schematic symbol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omponent callou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03CC-8351-4299-B4FD-87D502FB8EA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9D26-5598-462D-A78F-058F5CF8FB0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239400"/>
            <a:ext cx="51436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rostile"/>
              </a:rPr>
              <a:t>Diode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3047760" cy="7617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152280" y="1104840"/>
            <a:ext cx="81788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Eurostile"/>
              </a:rPr>
              <a:t>Electronic one-way “valve”, used e.g. in rect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Eurostile"/>
              </a:rPr>
              <a:t>Mostly made of Si, 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Eurostile"/>
              </a:rPr>
              <a:t>Different types: PN diodes, Schott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Picture 4" descr="1N60P_Germanium_Point_Contact_Diode_.jpg"/>
          <p:cNvPicPr/>
          <p:nvPr/>
        </p:nvPicPr>
        <p:blipFill>
          <a:blip r:embed="rId2"/>
          <a:stretch/>
        </p:blipFill>
        <p:spPr>
          <a:xfrm>
            <a:off x="3881520" y="3886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photo_pont_diode.jpg"/>
          <p:cNvPicPr/>
          <p:nvPr/>
        </p:nvPicPr>
        <p:blipFill>
          <a:blip r:embed="rId3"/>
          <a:stretch/>
        </p:blipFill>
        <p:spPr>
          <a:xfrm>
            <a:off x="6858000" y="1552680"/>
            <a:ext cx="2133720" cy="1800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led.jpg"/>
          <p:cNvPicPr/>
          <p:nvPr/>
        </p:nvPicPr>
        <p:blipFill>
          <a:blip r:embed="rId4"/>
          <a:stretch/>
        </p:blipFill>
        <p:spPr>
          <a:xfrm>
            <a:off x="6172200" y="4038480"/>
            <a:ext cx="2514600" cy="1712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Diode.jpg"/>
          <p:cNvPicPr/>
          <p:nvPr/>
        </p:nvPicPr>
        <p:blipFill>
          <a:blip r:embed="rId5"/>
          <a:stretch/>
        </p:blipFill>
        <p:spPr>
          <a:xfrm>
            <a:off x="4876920" y="2846520"/>
            <a:ext cx="2249280" cy="1658880"/>
          </a:xfrm>
          <a:prstGeom prst="rect">
            <a:avLst/>
          </a:prstGeom>
          <a:ln w="0">
            <a:noFill/>
          </a:ln>
        </p:spPr>
      </p:pic>
      <p:sp>
        <p:nvSpPr>
          <p:cNvPr id="335" name="TextBox 2"/>
          <p:cNvSpPr/>
          <p:nvPr/>
        </p:nvSpPr>
        <p:spPr>
          <a:xfrm>
            <a:off x="166680" y="300024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Eurostile"/>
              </a:rPr>
              <a:t>Electrodes are called anode and cathode with the cathode indicated by a stri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C02 - What is component 1 in figure T1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066680" y="1752120"/>
            <a:ext cx="2743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Batte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onn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2EE3-0D5E-45B2-917F-D786F410C5C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8" name="Picture 5" descr=""/>
          <p:cNvPicPr/>
          <p:nvPr/>
        </p:nvPicPr>
        <p:blipFill>
          <a:blip r:embed="rId1"/>
          <a:srcRect l="23756" t="20904" r="26056" b="9556"/>
          <a:stretch/>
        </p:blipFill>
        <p:spPr>
          <a:xfrm>
            <a:off x="4343400" y="2057400"/>
            <a:ext cx="38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C02 - What is component 1 in figure T1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066680" y="1752120"/>
            <a:ext cx="2743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Resis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Batte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onn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CA4B-96C3-42A7-876E-42791CA178A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3" name="Picture 5" descr=""/>
          <p:cNvPicPr/>
          <p:nvPr/>
        </p:nvPicPr>
        <p:blipFill>
          <a:blip r:embed="rId1"/>
          <a:srcRect l="23756" t="20904" r="26056" b="9556"/>
          <a:stretch/>
        </p:blipFill>
        <p:spPr>
          <a:xfrm>
            <a:off x="4343400" y="2057400"/>
            <a:ext cx="3886200" cy="3589200"/>
          </a:xfrm>
          <a:prstGeom prst="rect">
            <a:avLst/>
          </a:prstGeom>
          <a:ln w="0">
            <a:noFill/>
          </a:ln>
        </p:spPr>
      </p:pic>
      <p:sp>
        <p:nvSpPr>
          <p:cNvPr id="594" name="Rounded Rectangle 6"/>
          <p:cNvSpPr/>
          <p:nvPr/>
        </p:nvSpPr>
        <p:spPr>
          <a:xfrm>
            <a:off x="5257800" y="3048120"/>
            <a:ext cx="762120" cy="80460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804600"/>
              <a:gd name="textAreaBottom" fmla="*/ 767520 h 804600"/>
            </a:gdLst>
            <a:ahLst/>
            <a:rect l="textAreaLeft" t="textAreaTop" r="textAreaRight" b="textAreaBottom"/>
            <a:pathLst>
              <a:path w="21600" h="22803">
                <a:moveTo>
                  <a:pt x="3600" y="0"/>
                </a:moveTo>
                <a:arcTo wR="3600" hR="3600" stAng="16200000" swAng="-5400000"/>
                <a:lnTo>
                  <a:pt x="0" y="19203"/>
                </a:lnTo>
                <a:arcTo wR="3600" hR="3600" stAng="10800000" swAng="-5400000"/>
                <a:lnTo>
                  <a:pt x="18000" y="228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C03 - What is component 2 in figure T1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066680" y="1523520"/>
            <a:ext cx="3276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ndicator lamp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onn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1F39-CFE2-488B-8750-67FE1DA764D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9" name="Picture 6" descr=""/>
          <p:cNvPicPr/>
          <p:nvPr/>
        </p:nvPicPr>
        <p:blipFill>
          <a:blip r:embed="rId1"/>
          <a:srcRect l="23756" t="20904" r="26056" b="9556"/>
          <a:stretch/>
        </p:blipFill>
        <p:spPr>
          <a:xfrm>
            <a:off x="4343400" y="2057400"/>
            <a:ext cx="38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C03 - What is component 2 in figure T1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066680" y="1523520"/>
            <a:ext cx="3276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Transis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Indicator lamp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Conn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056B-D5F3-4D09-87A9-00DF848C469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4" name="Picture 6" descr=""/>
          <p:cNvPicPr/>
          <p:nvPr/>
        </p:nvPicPr>
        <p:blipFill>
          <a:blip r:embed="rId1"/>
          <a:srcRect l="23756" t="20904" r="26056" b="9556"/>
          <a:stretch/>
        </p:blipFill>
        <p:spPr>
          <a:xfrm>
            <a:off x="4343400" y="2057400"/>
            <a:ext cx="3886200" cy="3589200"/>
          </a:xfrm>
          <a:prstGeom prst="rect">
            <a:avLst/>
          </a:prstGeom>
          <a:ln w="0">
            <a:noFill/>
          </a:ln>
        </p:spPr>
      </p:pic>
      <p:sp>
        <p:nvSpPr>
          <p:cNvPr id="605" name="Rounded Rectangle 7"/>
          <p:cNvSpPr/>
          <p:nvPr/>
        </p:nvSpPr>
        <p:spPr>
          <a:xfrm>
            <a:off x="6172200" y="2819520"/>
            <a:ext cx="914400" cy="12189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218960"/>
              <a:gd name="textAreaBottom" fmla="*/ 1174320 h 1218960"/>
            </a:gdLst>
            <a:ahLst/>
            <a:rect l="textAreaLeft" t="textAreaTop" r="textAreaRight" b="textAreaBottom"/>
            <a:pathLst>
              <a:path w="21600" h="28791">
                <a:moveTo>
                  <a:pt x="3600" y="0"/>
                </a:moveTo>
                <a:arcTo wR="3600" hR="3600" stAng="16200000" swAng="-5400000"/>
                <a:lnTo>
                  <a:pt x="0" y="25191"/>
                </a:lnTo>
                <a:arcTo wR="3600" hR="3600" stAng="10800000" swAng="-5400000"/>
                <a:lnTo>
                  <a:pt x="18000" y="287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C04 - What is component 3 in figure T1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143000" y="1752480"/>
            <a:ext cx="32767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Lamp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Ground symbo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D62D-23FF-4850-AF39-40638DD6F60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0" name="Picture 5" descr=""/>
          <p:cNvPicPr/>
          <p:nvPr/>
        </p:nvPicPr>
        <p:blipFill>
          <a:blip r:embed="rId1"/>
          <a:srcRect l="23756" t="20904" r="26056" b="9556"/>
          <a:stretch/>
        </p:blipFill>
        <p:spPr>
          <a:xfrm>
            <a:off x="4343400" y="2057400"/>
            <a:ext cx="38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C04 - What is component 3 in figure T1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143000" y="1752480"/>
            <a:ext cx="32767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Lamp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Ground symbo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88B9-8154-4570-BF87-12A0FB23C5D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5" descr=""/>
          <p:cNvPicPr/>
          <p:nvPr/>
        </p:nvPicPr>
        <p:blipFill>
          <a:blip r:embed="rId1"/>
          <a:srcRect l="23756" t="20904" r="26056" b="9556"/>
          <a:stretch/>
        </p:blipFill>
        <p:spPr>
          <a:xfrm>
            <a:off x="4343400" y="2057400"/>
            <a:ext cx="3886200" cy="3589200"/>
          </a:xfrm>
          <a:prstGeom prst="rect">
            <a:avLst/>
          </a:prstGeom>
          <a:ln w="0">
            <a:noFill/>
          </a:ln>
        </p:spPr>
      </p:pic>
      <p:sp>
        <p:nvSpPr>
          <p:cNvPr id="616" name="Rounded Rectangle 6"/>
          <p:cNvSpPr/>
          <p:nvPr/>
        </p:nvSpPr>
        <p:spPr>
          <a:xfrm>
            <a:off x="7086600" y="2209680"/>
            <a:ext cx="533520" cy="76212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762120"/>
              <a:gd name="textAreaBottom" fmla="*/ 736200 h 762120"/>
            </a:gdLst>
            <a:ahLst/>
            <a:rect l="textAreaLeft" t="textAreaTop" r="textAreaRight" b="textAreaBottom"/>
            <a:pathLst>
              <a:path w="21600" h="30849">
                <a:moveTo>
                  <a:pt x="3600" y="0"/>
                </a:moveTo>
                <a:arcTo wR="3600" hR="3600" stAng="16200000" swAng="-5400000"/>
                <a:lnTo>
                  <a:pt x="0" y="27249"/>
                </a:lnTo>
                <a:arcTo wR="3600" hR="3600" stAng="10800000" swAng="-5400000"/>
                <a:lnTo>
                  <a:pt x="18000" y="30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C05 - What is component 4 in figure T1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1142640" y="1828440"/>
            <a:ext cx="2971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Batte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Ground symbo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83CD-0834-4839-9B6A-B813F010AD2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1" name="Picture 5" descr=""/>
          <p:cNvPicPr/>
          <p:nvPr/>
        </p:nvPicPr>
        <p:blipFill>
          <a:blip r:embed="rId1"/>
          <a:srcRect l="23756" t="20904" r="26056" b="9556"/>
          <a:stretch/>
        </p:blipFill>
        <p:spPr>
          <a:xfrm>
            <a:off x="4343400" y="2057400"/>
            <a:ext cx="38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C05 - What is component 4 in figure T1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142640" y="1828440"/>
            <a:ext cx="2971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Battery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Ground symbo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D6C7-4DEB-48A3-BDD9-4ADB356E7F2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6" name="Picture 5" descr=""/>
          <p:cNvPicPr/>
          <p:nvPr/>
        </p:nvPicPr>
        <p:blipFill>
          <a:blip r:embed="rId1"/>
          <a:srcRect l="23756" t="20904" r="26056" b="9556"/>
          <a:stretch/>
        </p:blipFill>
        <p:spPr>
          <a:xfrm>
            <a:off x="4343400" y="2057400"/>
            <a:ext cx="3886200" cy="3589200"/>
          </a:xfrm>
          <a:prstGeom prst="rect">
            <a:avLst/>
          </a:prstGeom>
          <a:ln w="0">
            <a:noFill/>
          </a:ln>
        </p:spPr>
      </p:pic>
      <p:sp>
        <p:nvSpPr>
          <p:cNvPr id="627" name="Rounded Rectangle 6"/>
          <p:cNvSpPr/>
          <p:nvPr/>
        </p:nvSpPr>
        <p:spPr>
          <a:xfrm>
            <a:off x="7391520" y="2971800"/>
            <a:ext cx="761760" cy="762120"/>
          </a:xfrm>
          <a:custGeom>
            <a:avLst/>
            <a:gdLst>
              <a:gd name="textAreaLeft" fmla="*/ 37080 w 761760"/>
              <a:gd name="textAreaRight" fmla="*/ 724680 w 761760"/>
              <a:gd name="textAreaTop" fmla="*/ 37080 h 762120"/>
              <a:gd name="textAreaBottom" fmla="*/ 725040 h 762120"/>
            </a:gdLst>
            <a:ahLst/>
            <a:rect l="textAreaLeft" t="textAreaTop" r="textAreaRight" b="textAreaBottom"/>
            <a:pathLst>
              <a:path w="21600" h="21610">
                <a:moveTo>
                  <a:pt x="3600" y="0"/>
                </a:moveTo>
                <a:arcTo wR="3600" hR="3600" stAng="16200000" swAng="-5400000"/>
                <a:lnTo>
                  <a:pt x="0" y="18010"/>
                </a:lnTo>
                <a:arcTo wR="3600" hR="3600" stAng="10800000" swAng="-5400000"/>
                <a:lnTo>
                  <a:pt x="18000" y="216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C06 -  What is component 6 in figure T2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218960" y="1752120"/>
            <a:ext cx="33526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Regulator I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8361-098B-452B-9B1F-826DA2EFFEF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2" name="Picture 5" descr=""/>
          <p:cNvPicPr/>
          <p:nvPr/>
        </p:nvPicPr>
        <p:blipFill>
          <a:blip r:embed="rId1"/>
          <a:srcRect l="9531" t="24570" r="6753" b="15087"/>
          <a:stretch/>
        </p:blipFill>
        <p:spPr>
          <a:xfrm>
            <a:off x="3809880" y="3352680"/>
            <a:ext cx="459288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C06 -  What is component 6 in figure T2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1218960" y="1752120"/>
            <a:ext cx="33526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Capaci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Regulator I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7D8E-5982-4339-96EF-D45EC39A6F8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7" name="Picture 5" descr=""/>
          <p:cNvPicPr/>
          <p:nvPr/>
        </p:nvPicPr>
        <p:blipFill>
          <a:blip r:embed="rId1"/>
          <a:srcRect l="9531" t="24570" r="6753" b="15087"/>
          <a:stretch/>
        </p:blipFill>
        <p:spPr>
          <a:xfrm>
            <a:off x="3809880" y="3352680"/>
            <a:ext cx="4592880" cy="2206800"/>
          </a:xfrm>
          <a:prstGeom prst="rect">
            <a:avLst/>
          </a:prstGeom>
          <a:ln w="0">
            <a:noFill/>
          </a:ln>
        </p:spPr>
      </p:pic>
      <p:sp>
        <p:nvSpPr>
          <p:cNvPr id="638" name="Rounded Rectangle 6"/>
          <p:cNvSpPr/>
          <p:nvPr/>
        </p:nvSpPr>
        <p:spPr>
          <a:xfrm>
            <a:off x="6248520" y="4267080"/>
            <a:ext cx="53316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4" descr="http://www.bbc.co.uk/schools/gcsebitesize/design/images/el_transistor_leads.gif"/>
          <p:cNvPicPr/>
          <p:nvPr/>
        </p:nvPicPr>
        <p:blipFill>
          <a:blip r:embed="rId1"/>
          <a:stretch/>
        </p:blipFill>
        <p:spPr>
          <a:xfrm>
            <a:off x="3952800" y="4400640"/>
            <a:ext cx="2152800" cy="2152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https://encrypted-tbn1.gstatic.com/images?q=tbn:ANd9GcSIXn2E-cBlRg6Ze5nrNN2vxEsQjdfyipq52pzZ1KQpROPOzR7e"/>
          <p:cNvPicPr/>
          <p:nvPr/>
        </p:nvPicPr>
        <p:blipFill>
          <a:blip r:embed="rId2"/>
          <a:stretch/>
        </p:blipFill>
        <p:spPr>
          <a:xfrm>
            <a:off x="6934320" y="228600"/>
            <a:ext cx="1741320" cy="1828800"/>
          </a:xfrm>
          <a:prstGeom prst="rect">
            <a:avLst/>
          </a:prstGeom>
          <a:ln w="0">
            <a:noFill/>
          </a:ln>
        </p:spPr>
      </p:pic>
      <p:sp>
        <p:nvSpPr>
          <p:cNvPr id="33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01BB-F3C9-4824-B3C6-6B3B8E91C93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Footer Placeholder 1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552456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rostile"/>
              </a:rPr>
              <a:t>Transistors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304920" y="113976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8640" indent="-453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Eurostile"/>
              </a:rPr>
              <a:t>Can be used as an electronic switch or amp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-453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Eurostile"/>
              </a:rPr>
              <a:t>Comprised of three layers of semiconductor (PNP, NP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-453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Eurostile"/>
              </a:rPr>
              <a:t>Generally have three electrodes (emitter, base, collec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-453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Eurostile"/>
              </a:rPr>
              <a:t>Field Effect Transistors (FET) have source, drain and gate inst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AutoShape 10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Picture 6" descr="http://www.mojotone.com/15015-HF-Power-Amp-NPN-180W-120V-Transistor-image.jpg"/>
          <p:cNvPicPr/>
          <p:nvPr/>
        </p:nvPicPr>
        <p:blipFill>
          <a:blip r:embed="rId3"/>
          <a:srcRect l="21898" t="4738" r="11984" b="0"/>
          <a:stretch/>
        </p:blipFill>
        <p:spPr>
          <a:xfrm>
            <a:off x="4122720" y="2811600"/>
            <a:ext cx="1370160" cy="17413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http://1.bp.blogspot.com/_VOG3Cj5D8GE/TNonUXKeLUI/AAAAAAAAABs/F0V5njWpfdU/s1600/Electronic_component_transistors.jpg"/>
          <p:cNvPicPr/>
          <p:nvPr/>
        </p:nvPicPr>
        <p:blipFill>
          <a:blip r:embed="rId4"/>
          <a:stretch/>
        </p:blipFill>
        <p:spPr>
          <a:xfrm>
            <a:off x="5486400" y="2743200"/>
            <a:ext cx="3394080" cy="2590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6" descr="http://hyperphysics.phy-astr.gsu.edu/hbase/solids/imgsol/tran1.gif"/>
          <p:cNvPicPr/>
          <p:nvPr/>
        </p:nvPicPr>
        <p:blipFill>
          <a:blip r:embed="rId5"/>
          <a:stretch/>
        </p:blipFill>
        <p:spPr>
          <a:xfrm>
            <a:off x="155520" y="3044880"/>
            <a:ext cx="38098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C07 - What is component 8 in figure T2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1219320" y="182844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Indu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Regulator I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Light emitting d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DCFF-46A8-416B-BEC4-E4CB52742C0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3" name="Picture 5" descr=""/>
          <p:cNvPicPr/>
          <p:nvPr/>
        </p:nvPicPr>
        <p:blipFill>
          <a:blip r:embed="rId1"/>
          <a:srcRect l="9531" t="24570" r="6753" b="15087"/>
          <a:stretch/>
        </p:blipFill>
        <p:spPr>
          <a:xfrm>
            <a:off x="3809880" y="3733920"/>
            <a:ext cx="459288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C07 - What is component 8 in figure T2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219320" y="182844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Indu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Regulator I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Light emitting diod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A1B1-DCCB-465E-B1AC-0051E0ADA76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8" name="Picture 5" descr=""/>
          <p:cNvPicPr/>
          <p:nvPr/>
        </p:nvPicPr>
        <p:blipFill>
          <a:blip r:embed="rId1"/>
          <a:srcRect l="9531" t="24570" r="6753" b="15087"/>
          <a:stretch/>
        </p:blipFill>
        <p:spPr>
          <a:xfrm>
            <a:off x="3809880" y="3733920"/>
            <a:ext cx="4592880" cy="2206440"/>
          </a:xfrm>
          <a:prstGeom prst="rect">
            <a:avLst/>
          </a:prstGeom>
          <a:ln w="0">
            <a:noFill/>
          </a:ln>
        </p:spPr>
      </p:pic>
      <p:sp>
        <p:nvSpPr>
          <p:cNvPr id="649" name="Rounded Rectangle 6"/>
          <p:cNvSpPr/>
          <p:nvPr/>
        </p:nvSpPr>
        <p:spPr>
          <a:xfrm>
            <a:off x="6854760" y="4724280"/>
            <a:ext cx="53352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C08 - What is component 9 in figure T2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Variable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Variable indu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Variable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Variable transform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E27E-91F1-4C89-BDAC-0E1B37C0D52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4" name="Picture 5" descr=""/>
          <p:cNvPicPr/>
          <p:nvPr/>
        </p:nvPicPr>
        <p:blipFill>
          <a:blip r:embed="rId1"/>
          <a:srcRect l="9531" t="24570" r="6753" b="15087"/>
          <a:stretch/>
        </p:blipFill>
        <p:spPr>
          <a:xfrm>
            <a:off x="3809880" y="3352680"/>
            <a:ext cx="459288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C08 - What is component 9 in figure T2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Variable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Variable indu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Variable resis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Variable transform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0A04-C469-4B93-9885-F1BB56191A1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9" name="Picture 5" descr=""/>
          <p:cNvPicPr/>
          <p:nvPr/>
        </p:nvPicPr>
        <p:blipFill>
          <a:blip r:embed="rId1"/>
          <a:srcRect l="9531" t="24570" r="6753" b="15087"/>
          <a:stretch/>
        </p:blipFill>
        <p:spPr>
          <a:xfrm>
            <a:off x="3809880" y="3352680"/>
            <a:ext cx="4592880" cy="2206800"/>
          </a:xfrm>
          <a:prstGeom prst="rect">
            <a:avLst/>
          </a:prstGeom>
          <a:ln w="0">
            <a:noFill/>
          </a:ln>
        </p:spPr>
      </p:pic>
      <p:sp>
        <p:nvSpPr>
          <p:cNvPr id="660" name="Rounded Rectangle 6"/>
          <p:cNvSpPr/>
          <p:nvPr/>
        </p:nvSpPr>
        <p:spPr>
          <a:xfrm>
            <a:off x="7238880" y="35053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C09 - What is component 4 in figure T2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990360" y="1371600"/>
            <a:ext cx="3886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Variable indu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Double-pole switc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Potentio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ransform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03C1-C066-49C8-A3CB-44BC9F71734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5" name="Picture 5" descr=""/>
          <p:cNvPicPr/>
          <p:nvPr/>
        </p:nvPicPr>
        <p:blipFill>
          <a:blip r:embed="rId1"/>
          <a:srcRect l="9531" t="24570" r="6753" b="15087"/>
          <a:stretch/>
        </p:blipFill>
        <p:spPr>
          <a:xfrm>
            <a:off x="3809880" y="3352680"/>
            <a:ext cx="459288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C09 - What is component 4 in figure T2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990360" y="1371600"/>
            <a:ext cx="3886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Variable indu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Double-pole switc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Potentio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Transform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EE92-1542-485A-9C37-38AA16B0567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0" name="Picture 5" descr=""/>
          <p:cNvPicPr/>
          <p:nvPr/>
        </p:nvPicPr>
        <p:blipFill>
          <a:blip r:embed="rId1"/>
          <a:srcRect l="9531" t="24570" r="6753" b="15087"/>
          <a:stretch/>
        </p:blipFill>
        <p:spPr>
          <a:xfrm>
            <a:off x="3809880" y="3352680"/>
            <a:ext cx="4592880" cy="2206800"/>
          </a:xfrm>
          <a:prstGeom prst="rect">
            <a:avLst/>
          </a:prstGeom>
          <a:ln w="0">
            <a:noFill/>
          </a:ln>
        </p:spPr>
      </p:pic>
      <p:sp>
        <p:nvSpPr>
          <p:cNvPr id="671" name="Rounded Rectangle 6"/>
          <p:cNvSpPr/>
          <p:nvPr/>
        </p:nvSpPr>
        <p:spPr>
          <a:xfrm>
            <a:off x="5105520" y="3862440"/>
            <a:ext cx="761760" cy="938160"/>
          </a:xfrm>
          <a:custGeom>
            <a:avLst/>
            <a:gdLst>
              <a:gd name="textAreaLeft" fmla="*/ 37080 w 761760"/>
              <a:gd name="textAreaRight" fmla="*/ 724680 w 761760"/>
              <a:gd name="textAreaTop" fmla="*/ 37080 h 938160"/>
              <a:gd name="textAreaBottom" fmla="*/ 901080 h 938160"/>
            </a:gdLst>
            <a:ahLst/>
            <a:rect l="textAreaLeft" t="textAreaTop" r="textAreaRight" b="textAreaBottom"/>
            <a:pathLst>
              <a:path w="21600" h="26600">
                <a:moveTo>
                  <a:pt x="3600" y="0"/>
                </a:moveTo>
                <a:arcTo wR="3600" hR="3600" stAng="16200000" swAng="-5400000"/>
                <a:lnTo>
                  <a:pt x="0" y="23000"/>
                </a:lnTo>
                <a:arcTo wR="3600" hR="3600" stAng="10800000" swAng="-5400000"/>
                <a:lnTo>
                  <a:pt x="18000" y="26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C10 - What is component 3 in figure T3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1143000" y="1447560"/>
            <a:ext cx="3733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Conn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Variable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Variable indu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2249-25F6-4A7B-83E8-9954BDC7F47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6" name="Picture 5" descr=""/>
          <p:cNvPicPr/>
          <p:nvPr/>
        </p:nvPicPr>
        <p:blipFill>
          <a:blip r:embed="rId1"/>
          <a:srcRect l="24714" t="3376" r="24330" b="12715"/>
          <a:stretch/>
        </p:blipFill>
        <p:spPr>
          <a:xfrm>
            <a:off x="5334120" y="2743200"/>
            <a:ext cx="27954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C10 - What is component 3 in figure T3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43000" y="1447560"/>
            <a:ext cx="3733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Conn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Variable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D. Variable induc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241A-76D4-4FE8-A5A1-2BCEAE30BF6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1" name="Picture 5" descr=""/>
          <p:cNvPicPr/>
          <p:nvPr/>
        </p:nvPicPr>
        <p:blipFill>
          <a:blip r:embed="rId1"/>
          <a:srcRect l="24714" t="3376" r="24330" b="12715"/>
          <a:stretch/>
        </p:blipFill>
        <p:spPr>
          <a:xfrm>
            <a:off x="5334120" y="2743200"/>
            <a:ext cx="2795400" cy="3068640"/>
          </a:xfrm>
          <a:prstGeom prst="rect">
            <a:avLst/>
          </a:prstGeom>
          <a:ln w="0">
            <a:noFill/>
          </a:ln>
        </p:spPr>
      </p:pic>
      <p:sp>
        <p:nvSpPr>
          <p:cNvPr id="682" name="Rounded Rectangle 6"/>
          <p:cNvSpPr/>
          <p:nvPr/>
        </p:nvSpPr>
        <p:spPr>
          <a:xfrm>
            <a:off x="6351480" y="4114800"/>
            <a:ext cx="762120" cy="93816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938160"/>
              <a:gd name="textAreaBottom" fmla="*/ 901080 h 938160"/>
            </a:gdLst>
            <a:ahLst/>
            <a:rect l="textAreaLeft" t="textAreaTop" r="textAreaRight" b="textAreaBottom"/>
            <a:pathLst>
              <a:path w="21600" h="26587">
                <a:moveTo>
                  <a:pt x="3600" y="0"/>
                </a:moveTo>
                <a:arcTo wR="3600" hR="3600" stAng="16200000" swAng="-5400000"/>
                <a:lnTo>
                  <a:pt x="0" y="22987"/>
                </a:lnTo>
                <a:arcTo wR="3600" hR="3600" stAng="10800000" swAng="-5400000"/>
                <a:lnTo>
                  <a:pt x="18000" y="26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C11 - What is component 4 in figure T3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1066680" y="14479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ntenn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ransmit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Dummy loa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Grou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6A1C-1861-499D-BEA2-6E8AF03C9D1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7" name="Picture 5" descr=""/>
          <p:cNvPicPr/>
          <p:nvPr/>
        </p:nvPicPr>
        <p:blipFill>
          <a:blip r:embed="rId1"/>
          <a:srcRect l="24714" t="3376" r="24330" b="12715"/>
          <a:stretch/>
        </p:blipFill>
        <p:spPr>
          <a:xfrm>
            <a:off x="5334120" y="2743200"/>
            <a:ext cx="27954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C11 - What is component 4 in figure T3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1066680" y="14479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Antenna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ransmit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Dummy loa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Grou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DFF8-B93B-4463-B902-D1933822E8E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Picture 5" descr=""/>
          <p:cNvPicPr/>
          <p:nvPr/>
        </p:nvPicPr>
        <p:blipFill>
          <a:blip r:embed="rId1"/>
          <a:srcRect l="24714" t="3376" r="24330" b="12715"/>
          <a:stretch/>
        </p:blipFill>
        <p:spPr>
          <a:xfrm>
            <a:off x="5334120" y="2743200"/>
            <a:ext cx="2795400" cy="3068640"/>
          </a:xfrm>
          <a:prstGeom prst="rect">
            <a:avLst/>
          </a:prstGeom>
          <a:ln w="0">
            <a:noFill/>
          </a:ln>
        </p:spPr>
      </p:pic>
      <p:sp>
        <p:nvSpPr>
          <p:cNvPr id="693" name="Rounded Rectangle 6"/>
          <p:cNvSpPr/>
          <p:nvPr/>
        </p:nvSpPr>
        <p:spPr>
          <a:xfrm>
            <a:off x="7391520" y="2895480"/>
            <a:ext cx="484200" cy="685800"/>
          </a:xfrm>
          <a:custGeom>
            <a:avLst/>
            <a:gdLst>
              <a:gd name="textAreaLeft" fmla="*/ 23400 w 484200"/>
              <a:gd name="textAreaRight" fmla="*/ 460800 w 484200"/>
              <a:gd name="textAreaTop" fmla="*/ 23400 h 685800"/>
              <a:gd name="textAreaBottom" fmla="*/ 662400 h 685800"/>
            </a:gdLst>
            <a:ahLst/>
            <a:rect l="textAreaLeft" t="textAreaTop" r="textAreaRight" b="textAreaBottom"/>
            <a:pathLst>
              <a:path w="21600" h="30587">
                <a:moveTo>
                  <a:pt x="3600" y="0"/>
                </a:moveTo>
                <a:arcTo wR="3600" hR="3600" stAng="16200000" swAng="-5400000"/>
                <a:lnTo>
                  <a:pt x="0" y="26987"/>
                </a:lnTo>
                <a:arcTo wR="3600" hR="3600" stAng="10800000" swAng="-5400000"/>
                <a:lnTo>
                  <a:pt x="18000" y="30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A01 - What electrical component is used to oppose the flow of current in a DC circuit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Indu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Re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Volt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ransform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5F66-6491-4D72-B429-54812508365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C12 - What do the symbols on an electrical circuit schematic diagram represent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Electrical componen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Logic stat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Digital cod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raffic nod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5D9E-3068-4DC1-9848-C159552D1E8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C12 - What do the symbols on an electrical circuit schematic diagram represent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Electrical component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Logic stat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Digital cod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raffic nod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AA37-89B5-47C5-AEC7-C8F9FBEA915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C13 - Which of the following is accurately represented in electrical circuit schematic diagram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838080" y="220932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Wire length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Physical appearance of componen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he way components are interconnect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C56B-DA65-4226-9E87-8DC73B065F9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C13 - Which of the following is accurately represented in electrical circuit schematic diagram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838080" y="220932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Wire length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Physical appearance of componen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The way components are interconnected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D0F1-80E4-44C2-ABE7-BCF75B04FD3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811C-2A92-40F1-B1FB-6966F8FFD5D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2" name="Picture 2" descr=""/>
          <p:cNvPicPr/>
          <p:nvPr/>
        </p:nvPicPr>
        <p:blipFill>
          <a:blip r:embed="rId1"/>
          <a:stretch/>
        </p:blipFill>
        <p:spPr>
          <a:xfrm>
            <a:off x="209520" y="533520"/>
            <a:ext cx="5745240" cy="304776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3" descr=""/>
          <p:cNvPicPr/>
          <p:nvPr/>
        </p:nvPicPr>
        <p:blipFill>
          <a:blip r:embed="rId2"/>
          <a:stretch/>
        </p:blipFill>
        <p:spPr>
          <a:xfrm>
            <a:off x="5961240" y="2986200"/>
            <a:ext cx="2904840" cy="2881080"/>
          </a:xfrm>
          <a:prstGeom prst="rect">
            <a:avLst/>
          </a:prstGeom>
          <a:ln w="0">
            <a:noFill/>
          </a:ln>
        </p:spPr>
      </p:pic>
      <p:sp>
        <p:nvSpPr>
          <p:cNvPr id="714" name="TextBox 3"/>
          <p:cNvSpPr/>
          <p:nvPr/>
        </p:nvSpPr>
        <p:spPr>
          <a:xfrm>
            <a:off x="1298520" y="3886200"/>
            <a:ext cx="31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ple AM rad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D - Component functions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rectification; switches; indicators; power supply components; resonant circuit; shielding; power transformers; integrated circui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A32B-6277-4FDF-972A-D7E71D35A27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D01 - Which of the following devices or circuits changes an alternating current into a varying direct current signal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ransform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Rectifi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mplifi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Refl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C26E-8917-4E1E-9C32-A02DD6AB379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D01 - Which of the following devices or circuits changes an </a:t>
            </a:r>
            <a:r>
              <a:rPr b="0" lang="en-US" sz="2900" spc="-1" strike="noStrike">
                <a:solidFill>
                  <a:srgbClr val="ffc000"/>
                </a:solidFill>
                <a:latin typeface="Impact"/>
              </a:rPr>
              <a:t>alternating current</a:t>
            </a: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 into a varying </a:t>
            </a:r>
            <a:r>
              <a:rPr b="0" lang="en-US" sz="2900" spc="-1" strike="noStrike">
                <a:solidFill>
                  <a:srgbClr val="ffc000"/>
                </a:solidFill>
                <a:latin typeface="Impact"/>
              </a:rPr>
              <a:t>direct current</a:t>
            </a: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 signal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Transform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Rectifi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mplifi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Refle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EE14-52AD-4EFD-874C-3AA51E36D2B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7" name="Picture 5" descr=""/>
          <p:cNvPicPr/>
          <p:nvPr/>
        </p:nvPicPr>
        <p:blipFill>
          <a:blip r:embed="rId1"/>
          <a:stretch/>
        </p:blipFill>
        <p:spPr>
          <a:xfrm>
            <a:off x="4049640" y="3429000"/>
            <a:ext cx="3894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D02 - What best describes a relay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A switch controlled by an electromagne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current controlled amplifi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n optical sens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pass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A7CF-DED9-41F5-B2F5-2024469B436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D02 - What best describes a relay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A switch controlled by an electromagnet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A current controlled amplifi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An optical sens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A pass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F103-DB1C-4861-B5CF-83B77F5AFCD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6" name="Picture 5" descr=""/>
          <p:cNvPicPr/>
          <p:nvPr/>
        </p:nvPicPr>
        <p:blipFill>
          <a:blip r:embed="rId1"/>
          <a:stretch/>
        </p:blipFill>
        <p:spPr>
          <a:xfrm>
            <a:off x="4648320" y="28195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A01 - What electrical component is used to oppose the flow of current in a DC circuit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Induc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Resis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Volt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Transform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C316-1ACF-4026-9BD4-9217D66F1AA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3846600" y="3048120"/>
            <a:ext cx="4192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D03 - What type of switch is represented by component 3 in figure T2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Single-pole single-throw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ingle-pole double-throw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Double-pole single-throw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Double-pole double-throw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EEF2-A668-4BF8-B5F9-FAE8A2C43D7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1" name="Picture 5" descr=""/>
          <p:cNvPicPr/>
          <p:nvPr/>
        </p:nvPicPr>
        <p:blipFill>
          <a:blip r:embed="rId1"/>
          <a:srcRect l="9531" t="24570" r="6753" b="15087"/>
          <a:stretch/>
        </p:blipFill>
        <p:spPr>
          <a:xfrm>
            <a:off x="3809880" y="3352680"/>
            <a:ext cx="459288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D03 - What type of switch is represented by component 3 in figure T2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Single-pole single-throw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Single-pole double-throw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Double-pole single-throw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Double-pole double-throw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2448-1C96-4503-9B49-10212ECCBB1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6" name="Picture 5" descr=""/>
          <p:cNvPicPr/>
          <p:nvPr/>
        </p:nvPicPr>
        <p:blipFill>
          <a:blip r:embed="rId1"/>
          <a:srcRect l="9531" t="24570" r="6753" b="15087"/>
          <a:stretch/>
        </p:blipFill>
        <p:spPr>
          <a:xfrm>
            <a:off x="3809880" y="3352680"/>
            <a:ext cx="4592880" cy="2206800"/>
          </a:xfrm>
          <a:prstGeom prst="rect">
            <a:avLst/>
          </a:prstGeom>
          <a:ln w="0">
            <a:noFill/>
          </a:ln>
        </p:spPr>
      </p:pic>
      <p:sp>
        <p:nvSpPr>
          <p:cNvPr id="747" name="Rounded Rectangle 6"/>
          <p:cNvSpPr/>
          <p:nvPr/>
        </p:nvSpPr>
        <p:spPr>
          <a:xfrm>
            <a:off x="4648320" y="3517920"/>
            <a:ext cx="380880" cy="4698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69800"/>
              <a:gd name="textAreaBottom" fmla="*/ 451440 h 469800"/>
            </a:gdLst>
            <a:ahLst/>
            <a:rect l="textAreaLeft" t="textAreaTop" r="textAreaRight" b="textAreaBottom"/>
            <a:pathLst>
              <a:path w="21600" h="26638">
                <a:moveTo>
                  <a:pt x="3600" y="0"/>
                </a:moveTo>
                <a:arcTo wR="3600" hR="3600" stAng="16200000" swAng="-5400000"/>
                <a:lnTo>
                  <a:pt x="0" y="23038"/>
                </a:lnTo>
                <a:arcTo wR="3600" hR="3600" stAng="10800000" swAng="-5400000"/>
                <a:lnTo>
                  <a:pt x="18000" y="266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D04 - Which of the following can be used to display signal strength on a numeric scale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Potentio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Rela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E817-2CD8-4DD3-96BD-FCEB8515BC6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D04 - Which of the following can be used to display signal strength on a numeric scale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Potentiome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C. Met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Rela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558F-579D-4CA6-9F1B-18CF2EAFA5A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5" name="Picture 6" descr=""/>
          <p:cNvPicPr/>
          <p:nvPr/>
        </p:nvPicPr>
        <p:blipFill>
          <a:blip r:embed="rId1"/>
          <a:srcRect l="0" t="0" r="0" b="23750"/>
          <a:stretch/>
        </p:blipFill>
        <p:spPr>
          <a:xfrm>
            <a:off x="3862440" y="3809880"/>
            <a:ext cx="4711680" cy="2529000"/>
          </a:xfrm>
          <a:prstGeom prst="rect">
            <a:avLst/>
          </a:prstGeom>
          <a:ln w="0">
            <a:noFill/>
          </a:ln>
        </p:spPr>
      </p:pic>
      <p:sp>
        <p:nvSpPr>
          <p:cNvPr id="7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D05 - What type of circuit controls the amount of voltage from a power supply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Regul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Oscill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Fil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Phase inver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50AC-1A29-436E-B68E-60E01234DCA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D05 - What type of circuit controls the amount of voltage from a power supply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Regulato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Oscill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Fil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Phase inver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A842-A397-453F-B3EF-CAEA1732D20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D06 - What component is commonly used to change 120V AC house current to a lower AC voltage for other use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Variable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Transform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D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A622-88D4-4473-BFA5-D4D3E296333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 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T6D06 - What component is commonly used to change 120V AC house current to a lower AC voltage for other uses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Variable capaci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B. Transform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D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444E-9234-4E2B-AA58-4A0B43BAA9E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3" name="Picture 5" descr=""/>
          <p:cNvPicPr/>
          <p:nvPr/>
        </p:nvPicPr>
        <p:blipFill>
          <a:blip r:embed="rId1"/>
          <a:srcRect l="9760" t="4137" r="15868" b="2070"/>
          <a:stretch/>
        </p:blipFill>
        <p:spPr>
          <a:xfrm>
            <a:off x="5410080" y="2362320"/>
            <a:ext cx="2890800" cy="33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D07 - Which of the following is commonly used as a visual indicato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A. L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FE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Zener d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Bipolar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4205-6960-48FA-951D-2F226EAC7F9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6D07 - Which of the following is commonly used as a visual indicator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000"/>
                </a:solidFill>
                <a:latin typeface="Eurostile"/>
              </a:rPr>
              <a:t>A. LED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B. FE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C. Zener di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Eurostile"/>
              </a:rPr>
              <a:t>D. Bipolar transis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F664-FDAE-42AB-B5EA-619666FF316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Electrical Components 20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4:51:56Z</dcterms:created>
  <dc:creator>Howard Schultz</dc:creator>
  <dc:description/>
  <dc:language>en-US</dc:language>
  <cp:lastModifiedBy>Daniel Stevens</cp:lastModifiedBy>
  <dcterms:modified xsi:type="dcterms:W3CDTF">2015-05-23T05:02:32Z</dcterms:modified>
  <cp:revision>36</cp:revision>
  <dc:subject/>
  <dc:title>SUBELEMENT T6</dc:title>
</cp:coreProperties>
</file>