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18.jpeg" ContentType="image/jpeg"/>
  <Override PartName="/ppt/media/image12.png" ContentType="image/png"/>
  <Override PartName="/ppt/media/image16.png" ContentType="image/png"/>
  <Override PartName="/ppt/media/image1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.jpeg" ContentType="image/jpe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5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4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3.xml.rels" ContentType="application/vnd.openxmlformats-package.relationships+xml"/>
  <Override PartName="/ppt/slides/_rels/slide17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5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77.xml.rels" ContentType="application/vnd.openxmlformats-package.relationships+xml"/>
  <Override PartName="/ppt/slides/_rels/slide147.xml.rels" ContentType="application/vnd.openxmlformats-package.relationships+xml"/>
  <Override PartName="/ppt/slides/_rels/slide181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6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71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7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78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81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97.xml.rels" ContentType="application/vnd.openxmlformats-package.relationships+xml"/>
  <Override PartName="/ppt/slides/_rels/slide17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79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7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9.xml.rels" ContentType="application/vnd.openxmlformats-package.relationships+xml"/>
  <Override PartName="/ppt/slides/_rels/slide185.xml.rels" ContentType="application/vnd.openxmlformats-package.relationships+xml"/>
  <Override PartName="/ppt/slides/_rels/slide13.xml.rels" ContentType="application/vnd.openxmlformats-package.relationships+xml"/>
  <Override PartName="/ppt/slides/_rels/slide156.xml.rels" ContentType="application/vnd.openxmlformats-package.relationships+xml"/>
  <Override PartName="/ppt/slides/_rels/slide178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53.xml.rels" ContentType="application/vnd.openxmlformats-package.relationships+xml"/>
  <Override PartName="/ppt/slides/_rels/slide149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51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.xml.rels" ContentType="application/vnd.openxmlformats-package.relationships+xml"/>
  <Override PartName="/ppt/slides/_rels/slide1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82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  <p:sldId id="390" r:id="rId139"/>
    <p:sldId id="391" r:id="rId140"/>
    <p:sldId id="392" r:id="rId141"/>
    <p:sldId id="393" r:id="rId142"/>
    <p:sldId id="394" r:id="rId143"/>
    <p:sldId id="395" r:id="rId144"/>
    <p:sldId id="396" r:id="rId145"/>
    <p:sldId id="397" r:id="rId146"/>
    <p:sldId id="398" r:id="rId147"/>
    <p:sldId id="399" r:id="rId148"/>
    <p:sldId id="400" r:id="rId149"/>
    <p:sldId id="401" r:id="rId150"/>
    <p:sldId id="402" r:id="rId151"/>
    <p:sldId id="403" r:id="rId152"/>
    <p:sldId id="404" r:id="rId153"/>
    <p:sldId id="405" r:id="rId154"/>
    <p:sldId id="406" r:id="rId155"/>
    <p:sldId id="407" r:id="rId156"/>
    <p:sldId id="408" r:id="rId157"/>
    <p:sldId id="409" r:id="rId158"/>
    <p:sldId id="410" r:id="rId159"/>
    <p:sldId id="411" r:id="rId160"/>
    <p:sldId id="412" r:id="rId161"/>
    <p:sldId id="413" r:id="rId162"/>
    <p:sldId id="414" r:id="rId163"/>
    <p:sldId id="415" r:id="rId164"/>
    <p:sldId id="416" r:id="rId165"/>
    <p:sldId id="417" r:id="rId166"/>
    <p:sldId id="418" r:id="rId167"/>
    <p:sldId id="419" r:id="rId168"/>
    <p:sldId id="420" r:id="rId169"/>
    <p:sldId id="421" r:id="rId170"/>
    <p:sldId id="422" r:id="rId171"/>
    <p:sldId id="423" r:id="rId172"/>
    <p:sldId id="424" r:id="rId173"/>
    <p:sldId id="425" r:id="rId174"/>
    <p:sldId id="426" r:id="rId175"/>
    <p:sldId id="427" r:id="rId176"/>
    <p:sldId id="428" r:id="rId177"/>
    <p:sldId id="429" r:id="rId178"/>
    <p:sldId id="430" r:id="rId179"/>
    <p:sldId id="431" r:id="rId180"/>
    <p:sldId id="432" r:id="rId181"/>
    <p:sldId id="433" r:id="rId182"/>
    <p:sldId id="434" r:id="rId183"/>
    <p:sldId id="435" r:id="rId184"/>
    <p:sldId id="436" r:id="rId185"/>
    <p:sldId id="437" r:id="rId186"/>
    <p:sldId id="438" r:id="rId187"/>
    <p:sldId id="439" r:id="rId188"/>
    <p:sldId id="440" r:id="rId18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slide" Target="slides/slide135.xml"/><Relationship Id="rId140" Type="http://schemas.openxmlformats.org/officeDocument/2006/relationships/slide" Target="slides/slide136.xml"/><Relationship Id="rId141" Type="http://schemas.openxmlformats.org/officeDocument/2006/relationships/slide" Target="slides/slide137.xml"/><Relationship Id="rId142" Type="http://schemas.openxmlformats.org/officeDocument/2006/relationships/slide" Target="slides/slide138.xml"/><Relationship Id="rId143" Type="http://schemas.openxmlformats.org/officeDocument/2006/relationships/slide" Target="slides/slide139.xml"/><Relationship Id="rId144" Type="http://schemas.openxmlformats.org/officeDocument/2006/relationships/slide" Target="slides/slide140.xml"/><Relationship Id="rId145" Type="http://schemas.openxmlformats.org/officeDocument/2006/relationships/slide" Target="slides/slide141.xml"/><Relationship Id="rId146" Type="http://schemas.openxmlformats.org/officeDocument/2006/relationships/slide" Target="slides/slide142.xml"/><Relationship Id="rId147" Type="http://schemas.openxmlformats.org/officeDocument/2006/relationships/slide" Target="slides/slide143.xml"/><Relationship Id="rId148" Type="http://schemas.openxmlformats.org/officeDocument/2006/relationships/slide" Target="slides/slide144.xml"/><Relationship Id="rId149" Type="http://schemas.openxmlformats.org/officeDocument/2006/relationships/slide" Target="slides/slide145.xml"/><Relationship Id="rId150" Type="http://schemas.openxmlformats.org/officeDocument/2006/relationships/slide" Target="slides/slide146.xml"/><Relationship Id="rId151" Type="http://schemas.openxmlformats.org/officeDocument/2006/relationships/slide" Target="slides/slide147.xml"/><Relationship Id="rId152" Type="http://schemas.openxmlformats.org/officeDocument/2006/relationships/slide" Target="slides/slide148.xml"/><Relationship Id="rId153" Type="http://schemas.openxmlformats.org/officeDocument/2006/relationships/slide" Target="slides/slide149.xml"/><Relationship Id="rId154" Type="http://schemas.openxmlformats.org/officeDocument/2006/relationships/slide" Target="slides/slide150.xml"/><Relationship Id="rId155" Type="http://schemas.openxmlformats.org/officeDocument/2006/relationships/slide" Target="slides/slide151.xml"/><Relationship Id="rId156" Type="http://schemas.openxmlformats.org/officeDocument/2006/relationships/slide" Target="slides/slide152.xml"/><Relationship Id="rId157" Type="http://schemas.openxmlformats.org/officeDocument/2006/relationships/slide" Target="slides/slide153.xml"/><Relationship Id="rId158" Type="http://schemas.openxmlformats.org/officeDocument/2006/relationships/slide" Target="slides/slide154.xml"/><Relationship Id="rId159" Type="http://schemas.openxmlformats.org/officeDocument/2006/relationships/slide" Target="slides/slide155.xml"/><Relationship Id="rId160" Type="http://schemas.openxmlformats.org/officeDocument/2006/relationships/slide" Target="slides/slide156.xml"/><Relationship Id="rId161" Type="http://schemas.openxmlformats.org/officeDocument/2006/relationships/slide" Target="slides/slide157.xml"/><Relationship Id="rId162" Type="http://schemas.openxmlformats.org/officeDocument/2006/relationships/slide" Target="slides/slide158.xml"/><Relationship Id="rId163" Type="http://schemas.openxmlformats.org/officeDocument/2006/relationships/slide" Target="slides/slide159.xml"/><Relationship Id="rId164" Type="http://schemas.openxmlformats.org/officeDocument/2006/relationships/slide" Target="slides/slide160.xml"/><Relationship Id="rId165" Type="http://schemas.openxmlformats.org/officeDocument/2006/relationships/slide" Target="slides/slide161.xml"/><Relationship Id="rId166" Type="http://schemas.openxmlformats.org/officeDocument/2006/relationships/slide" Target="slides/slide162.xml"/><Relationship Id="rId167" Type="http://schemas.openxmlformats.org/officeDocument/2006/relationships/slide" Target="slides/slide163.xml"/><Relationship Id="rId168" Type="http://schemas.openxmlformats.org/officeDocument/2006/relationships/slide" Target="slides/slide164.xml"/><Relationship Id="rId169" Type="http://schemas.openxmlformats.org/officeDocument/2006/relationships/slide" Target="slides/slide165.xml"/><Relationship Id="rId170" Type="http://schemas.openxmlformats.org/officeDocument/2006/relationships/slide" Target="slides/slide166.xml"/><Relationship Id="rId171" Type="http://schemas.openxmlformats.org/officeDocument/2006/relationships/slide" Target="slides/slide167.xml"/><Relationship Id="rId172" Type="http://schemas.openxmlformats.org/officeDocument/2006/relationships/slide" Target="slides/slide168.xml"/><Relationship Id="rId173" Type="http://schemas.openxmlformats.org/officeDocument/2006/relationships/slide" Target="slides/slide169.xml"/><Relationship Id="rId174" Type="http://schemas.openxmlformats.org/officeDocument/2006/relationships/slide" Target="slides/slide170.xml"/><Relationship Id="rId175" Type="http://schemas.openxmlformats.org/officeDocument/2006/relationships/slide" Target="slides/slide171.xml"/><Relationship Id="rId176" Type="http://schemas.openxmlformats.org/officeDocument/2006/relationships/slide" Target="slides/slide172.xml"/><Relationship Id="rId177" Type="http://schemas.openxmlformats.org/officeDocument/2006/relationships/slide" Target="slides/slide173.xml"/><Relationship Id="rId178" Type="http://schemas.openxmlformats.org/officeDocument/2006/relationships/slide" Target="slides/slide174.xml"/><Relationship Id="rId179" Type="http://schemas.openxmlformats.org/officeDocument/2006/relationships/slide" Target="slides/slide175.xml"/><Relationship Id="rId180" Type="http://schemas.openxmlformats.org/officeDocument/2006/relationships/slide" Target="slides/slide176.xml"/><Relationship Id="rId181" Type="http://schemas.openxmlformats.org/officeDocument/2006/relationships/slide" Target="slides/slide177.xml"/><Relationship Id="rId182" Type="http://schemas.openxmlformats.org/officeDocument/2006/relationships/slide" Target="slides/slide178.xml"/><Relationship Id="rId183" Type="http://schemas.openxmlformats.org/officeDocument/2006/relationships/slide" Target="slides/slide179.xml"/><Relationship Id="rId184" Type="http://schemas.openxmlformats.org/officeDocument/2006/relationships/slide" Target="slides/slide180.xml"/><Relationship Id="rId185" Type="http://schemas.openxmlformats.org/officeDocument/2006/relationships/slide" Target="slides/slide181.xml"/><Relationship Id="rId186" Type="http://schemas.openxmlformats.org/officeDocument/2006/relationships/slide" Target="slides/slide182.xml"/><Relationship Id="rId187" Type="http://schemas.openxmlformats.org/officeDocument/2006/relationships/slide" Target="slides/slide183.xml"/><Relationship Id="rId188" Type="http://schemas.openxmlformats.org/officeDocument/2006/relationships/slide" Target="slides/slide184.xml"/><Relationship Id="rId189" Type="http://schemas.openxmlformats.org/officeDocument/2006/relationships/slide" Target="slides/slide185.xml"/><Relationship Id="rId19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Click to move the slide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2EB9D-0447-43C5-91DB-A7783DCCD6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element T1  FCC Rules. Technician Training Slides for 2014 Question Pool  Good through June 30, 2018  Assembled by Washington Ham Trainers, Daniel Stevens KL7WM, Howard Schultz, W7H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0AE1F-7DF1-4CEE-9A98-516C548FFB1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4D2A-A883-49FF-A928-421BC4579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817E-E837-460E-89EB-EF101D8C1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A0D9-9BB6-41DF-A9CA-C23A2CCB0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2857-9040-4D32-B4EE-6693E0733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137D46-F1A9-48F6-8EB0-F8D490B5F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C289D9-37A3-4F65-B906-7280FCC3B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9BB7E3-4A2B-4F92-AEE5-C169E0A01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2DDD26-E345-4DB7-8DBA-764C30587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021793-FA5E-48C9-9A60-8BC1EF02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387CA8-F727-4074-BF18-CBA28C710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601386-163A-4AB3-9C34-B5614521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DBE1-A176-4A16-80A1-1F570CF87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BB2551-262B-4772-BF58-CC21DC17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682B4F-E7B1-4686-A9F4-19B698C1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BC2C74-8ED2-4270-8FF2-2F4B818C9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6BCB28-635F-4D4A-B44D-CA85BB5C5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096926-DAB7-45D4-9990-78FA36E9A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4453-B70A-4042-8B78-5AFF14B57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C3B9-0142-43E5-B967-0679C6937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1E16-FB11-4444-ADD7-F57109448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8BA2-A08F-4974-8874-9056E9EAE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F17E-F388-415C-B5A7-01864891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8BFF-F567-447F-B940-E1900AEC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949A-C1A6-40CF-B6C4-81014B85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Click to edit the title text format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Click to edit the outline text forma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Second Outline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2" marL="1143000" indent="-228600"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Third Outline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3" marL="1600200" indent="-228600">
              <a:spcBef>
                <a:spcPts val="601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Fourth Outline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4" marL="2057400" indent="-228600">
              <a:spcBef>
                <a:spcPts val="601"/>
              </a:spcBef>
              <a:buClr>
                <a:srgbClr val="0d0d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Fifth Outline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Sixth Outline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Seventh Outline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6F0DD-93AB-4B71-8F7E-EE8301947A79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d0d0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d0d0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2D623-4828-4ADA-9DC8-82EE9F9AF809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Click to edit the title text format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Click to edit the outline text forma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Second Outline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2" marL="1143000" indent="-228600"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Third Outline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3" marL="1600200" indent="-228600">
              <a:spcBef>
                <a:spcPts val="601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Fourth Outline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4" marL="2057400" indent="-228600">
              <a:spcBef>
                <a:spcPts val="601"/>
              </a:spcBef>
              <a:buClr>
                <a:srgbClr val="0d0d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Fifth Outline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Sixth Outline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Seventh Outline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E97BE-C51B-4999-8557-DAA604C27D41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d0d0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13281-BE1A-4923-8D0F-59E059C61CBB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d0d0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 20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www.fcc.gov/oet/info/maps/canline/canline.gif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Cambria"/>
              </a:rPr>
              <a:t>SUBELEMENT T1 – FCC Rules, </a:t>
            </a:r>
            <a:endParaRPr b="0" lang="en-US" sz="28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d0d0d"/>
                </a:solidFill>
                <a:latin typeface="Cambria"/>
              </a:rPr>
              <a:t>Descriptions and definitions for the Amateur Radio Service, operator and station license responsibilities.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d0d0d"/>
                </a:solidFill>
                <a:latin typeface="Cambria"/>
              </a:rPr>
              <a:t> 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d0d0d"/>
                </a:solidFill>
                <a:latin typeface="Cambria"/>
              </a:rPr>
              <a:t> </a:t>
            </a:r>
            <a:r>
              <a:rPr b="1" i="1" lang="en-US" sz="2400" spc="-1" strike="noStrike">
                <a:solidFill>
                  <a:srgbClr val="0d0d0d"/>
                </a:solidFill>
                <a:latin typeface="Cambria"/>
              </a:rPr>
              <a:t>[6 Exam Questions - 6 Groups]</a:t>
            </a:r>
            <a:br>
              <a:rPr sz="2400"/>
            </a:b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15C87-32A5-4CDD-9EFD-C8B1CE04A25E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en-US" sz="2400" spc="-1" strike="noStrike">
                <a:solidFill>
                  <a:srgbClr val="0d0d0d"/>
                </a:solidFill>
                <a:latin typeface="Impact"/>
              </a:rPr>
              <a:t>T1A02 - Which agency regulates and enforces the rules for the Amateur Radio Service in the United States?</a:t>
            </a:r>
            <a:br>
              <a:rPr sz="2900"/>
            </a:br>
            <a:endParaRPr b="0" lang="en-US" sz="24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167652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d0d0d"/>
                </a:solidFill>
                <a:latin typeface="Eurostile"/>
              </a:rPr>
              <a:t>A. FEMA</a:t>
            </a:r>
            <a:endParaRPr b="0" i="1" lang="en-US" sz="22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d0d0d"/>
                </a:solidFill>
                <a:latin typeface="Eurostile"/>
              </a:rPr>
              <a:t>B. The ITU</a:t>
            </a:r>
            <a:endParaRPr b="0" i="1" lang="en-US" sz="22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d0d0d"/>
                </a:solidFill>
                <a:latin typeface="Eurostile"/>
              </a:rPr>
              <a:t>C. The FCC</a:t>
            </a:r>
            <a:endParaRPr b="0" i="1" lang="en-US" sz="22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d0d0d"/>
                </a:solidFill>
                <a:latin typeface="Eurostile"/>
              </a:rPr>
              <a:t>D. Homeland Security</a:t>
            </a:r>
            <a:endParaRPr b="0" i="1" lang="en-US" sz="22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5CB52-3C38-4542-87BC-03ECA1608169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1C12 - Who may select a desired call sign under the vanity call sign rules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762120" y="152388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Only licensed amateurs with general or extra class license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Only licensed amateurs with an extra class licens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Only an amateur licensee who has been licensed continuously for more than 10 year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Any licensed amateu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1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92B7A-6BC1-45C0-8E22-E604E270714F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1C12 - Who may select a desired call sign under the vanity call sign rules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762120" y="152388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Only licensed amateurs with general or extra class license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Only licensed amateurs with an extra class licens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Only an amateur licensee who has been licensed continuously for more than 10 year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D. Any licensed amateur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B91FD-7BFD-4A36-B338-619133BFDDC1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C13 - For which licenses classes are new licenses currently available from the FCC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1625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Novice, Technician, General, Advanced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Technician, Technician Plus, General, Advanced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Novice, Technician Plus, General, Advanced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Technician, General, Amateur Extra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66FF4-859E-41B2-AAED-D54752E78B43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C13 - For which licenses classes are new licenses currently available from the FCC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1625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Novice, Technician, General, Advanced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Technician, Technician Plus, General, Advanced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Novice, Technician Plus, General, Advanced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D. Technician, General, Amateur Extra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2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6D6C4-BAD8-44A9-9C1B-1B48C709EF60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C14 - Who may select a vanity call sign for a club station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761760" y="1905120"/>
            <a:ext cx="7467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Any Extra Class member of the club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Any member of the club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Any officer of the club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Only the person named as trustee on the club station license gran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0191C-C2A6-4655-B830-0750E51C4899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C14 - Who may select a vanity call sign for a club station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761760" y="1905120"/>
            <a:ext cx="7467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Any Extra Class member of the club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Any member of the club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Any officer of the club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D. Only the person named as trustee on the club station license grant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268BF-7DC7-4A14-9BAA-B260647CF8A7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Impact"/>
              </a:rPr>
              <a:t>T1D - Authorized and prohibited transmission: </a:t>
            </a: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communications with other countries; music; exchange of information with other services; indecent language; compensation for use of station; retransmission of other amateur signals; codes and ciphers; sale of equipment; unidentified transmissions; broadcasting 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F5D07-2919-45FF-8C99-36108FC0B21F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D01 -  With which countries are FCC-licensed amateur stations prohibited from exchanging communications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304920" y="228564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Any country whose administration has notified the ITU that it objects to such communication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Any country whose administration has notified the ARRL that it objects to such communication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Any country engaged in hostilities with another country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Any country in violation of the War Powers Act of 1934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3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91E66-B44C-42B4-ABE3-65303348BE84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D01 -  With which countries are FCC-licensed amateur stations prohibited from exchanging communications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304920" y="228564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A. Any country whose administration has notified the ITU that it objects to such communications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Any country whose administration has notified the ARRL that it objects to such communication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Any country engaged in hostilities with another country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Any country in violation of the War Powers Act of 1934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4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2CC32-B64B-4DCC-9439-500244CDCBF9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D02 - On which of the following occasions may an FCC-licensed amateur station exchange messages with a U.S. military station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During an Armed Forces Day Communications Tes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During a Memorial Day Celebra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During an Independence Day celebra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During a propagation tes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4FECA-C092-4941-B283-1FF4DBD5726C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en-US" sz="2400" spc="-1" strike="noStrike">
                <a:solidFill>
                  <a:srgbClr val="0d0d0d"/>
                </a:solidFill>
                <a:latin typeface="Impact"/>
              </a:rPr>
              <a:t>T1A02 - Which agency regulates and enforces the rules for the Amateur Radio Service in the United States?</a:t>
            </a:r>
            <a:br>
              <a:rPr sz="2900"/>
            </a:br>
            <a:endParaRPr b="0" lang="en-US" sz="24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167652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d0d0d"/>
                </a:solidFill>
                <a:latin typeface="Eurostile"/>
              </a:rPr>
              <a:t>A. FEMA</a:t>
            </a:r>
            <a:endParaRPr b="0" i="1" lang="en-US" sz="22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d0d0d"/>
                </a:solidFill>
                <a:latin typeface="Eurostile"/>
              </a:rPr>
              <a:t>B. The ITU</a:t>
            </a:r>
            <a:endParaRPr b="0" i="1" lang="en-US" sz="22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C. The FCC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d0d0d"/>
                </a:solidFill>
                <a:latin typeface="Eurostile"/>
              </a:rPr>
              <a:t>D. Homeland Security</a:t>
            </a:r>
            <a:endParaRPr b="0" i="1" lang="en-US" sz="22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CD31D-7DCA-4FB3-8355-EE83301D9C24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2" descr="http://cs.iupui.edu/%7Ekelmsimo/n241/FCC.gif"/>
          <p:cNvPicPr/>
          <p:nvPr/>
        </p:nvPicPr>
        <p:blipFill>
          <a:blip r:embed="rId1"/>
          <a:stretch/>
        </p:blipFill>
        <p:spPr>
          <a:xfrm>
            <a:off x="5791320" y="3429000"/>
            <a:ext cx="269064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D02 - On which of the following occasions may an FCC-licensed amateur station exchange messages with a U.S. military station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A. During an Armed Forces Day Communications Test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During a Memorial Day Celebra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During an Independence Day celebra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During a propagation tes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C8725-6957-4D18-8785-B759C18EDD37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1" name="Picture 2" descr=""/>
          <p:cNvPicPr/>
          <p:nvPr/>
        </p:nvPicPr>
        <p:blipFill>
          <a:blip r:embed="rId1"/>
          <a:stretch/>
        </p:blipFill>
        <p:spPr>
          <a:xfrm>
            <a:off x="5181480" y="3733920"/>
            <a:ext cx="28576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D03 - When is the transmission of codes or ciphers that hide the meaning of a message allowed by an amateur station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762120" y="23623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Only during contest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Only when operating mobil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Only when transmitting control commands to space stations or radio control craf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Only when frequencies above 1280 MHz are used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5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89DD5-F0BF-41CD-B139-BE0B11F649A3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D03 - When is the transmission of codes or ciphers that hide the meaning of a message allowed by an amateur station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762120" y="23623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Only during contest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Only when operating mobil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C. Only when transmitting control commands to space stations or radio control craft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Only when frequencies above 1280 MHz are used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5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98130-01AF-4ED4-B513-BB8152F6AC8C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D04 -  What is the only time an amateur station is authorized to transmit music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86868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When incidental to an authorized retransmission of manned spacecraft communication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When the music produces no spurious emission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When the purpose is to interfere with an illegal transmiss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When the music is transmitted above 1280 MHz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A942F-790F-4835-907D-71CA3AC6B2B8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D04 -  What is the only time an amateur station is authorized to transmit music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86868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A. When incidental to an authorized retransmission of manned spacecraft communications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When the music produces no spurious emission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When the purpose is to interfere with an illegal transmiss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When the music is transmitted above 1280 MHz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6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E00F8-7FED-4814-B9FE-FE4DD795550E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D05 - When may amateur radio operators use their stations to notify other amateurs of the availability of equipment for sale or trade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990360" y="1905120"/>
            <a:ext cx="7086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When the equipment is normally used in an amateur station and such activity is not conducted on a regular basi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When the asking price is $100.00 or les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When the asking price is less than its appraised valu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When the equipment is not the personal property of either the station licensee or the control operator or their close relative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AE042-DA45-4B08-80E1-6E4772EEC658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D05 - When may amateur radio operators use their stations to notify other amateurs of the availability of equipment for sale or trade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990360" y="1905120"/>
            <a:ext cx="7086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A. When the equipment is normally used in an amateur station and such activity is not conducted on a regular basis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d0d0d"/>
                </a:solidFill>
                <a:latin typeface="Eurostile"/>
              </a:rPr>
              <a:t>B. When the asking price is $100.00 or less</a:t>
            </a:r>
            <a:endParaRPr b="0" i="1" lang="en-US" sz="22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d0d0d"/>
                </a:solidFill>
                <a:latin typeface="Eurostile"/>
              </a:rPr>
              <a:t>C. When the asking price is less than its appraised value</a:t>
            </a:r>
            <a:endParaRPr b="0" i="1" lang="en-US" sz="22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d0d0d"/>
                </a:solidFill>
                <a:latin typeface="Eurostile"/>
              </a:rPr>
              <a:t>D. When the equipment is not the personal property of either the station licensee or the control operator or their close relatives</a:t>
            </a:r>
            <a:endParaRPr b="0" i="1" lang="en-US" sz="22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23D49-F997-4DFC-9098-7D325106F248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D06 - What, if any, are the restrictions concerning transmission of language that may be considered indecent or obscene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609120" y="220968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The FCC maintains a list of words that are not permitted to be used on amateur frequencie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Any such language is prohibited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The ITU maintains a list of words that are not permitted to be used on amateur frequencie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There is no such prohibition 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7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13A07-22F4-4ED1-AAD7-71ECFEC20A23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D06 - What, if any, are the restrictions concerning transmission of language that may be considered indecent or obscene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609120" y="220968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The FCC maintains a list of words that are not permitted to be used on amateur frequencie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B. Any such language is prohibited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The ITU maintains a list of words that are not permitted to be used on amateur frequencie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There is no such prohibition 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2F5F5-6524-412E-92D1-FB1DEE6B5F03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Station Control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304920" y="19047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ontrol Opera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Eurostile"/>
              </a:rPr>
              <a:t>Licensed amateur responsible for proper station opera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ontrol Poin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Eurostile"/>
              </a:rPr>
              <a:t>The point at which the Control Operator function is performed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Local, Remote, Automatic Contro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8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15309-4E15-4677-8671-447B8AD8CEE6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d0d0d"/>
                </a:solidFill>
                <a:latin typeface="Impact"/>
              </a:rPr>
              <a:t>T1A03 - Which part of the FCC regulations contains the rules governing the Amateur Radio Service?</a:t>
            </a:r>
            <a:br>
              <a:rPr sz="2900"/>
            </a:br>
            <a:endParaRPr b="0" lang="en-US" sz="24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167652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d0d0d"/>
                </a:solidFill>
                <a:latin typeface="Eurostile"/>
              </a:rPr>
              <a:t>A. Part 73</a:t>
            </a:r>
            <a:endParaRPr b="0" i="1" lang="en-US" sz="22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d0d0d"/>
                </a:solidFill>
                <a:latin typeface="Eurostile"/>
              </a:rPr>
              <a:t>B. Part 95</a:t>
            </a:r>
            <a:endParaRPr b="0" i="1" lang="en-US" sz="22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d0d0d"/>
                </a:solidFill>
                <a:latin typeface="Eurostile"/>
              </a:rPr>
              <a:t>C. Part 90</a:t>
            </a:r>
            <a:endParaRPr b="0" i="1" lang="en-US" sz="22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d0d0d"/>
                </a:solidFill>
                <a:latin typeface="Eurostile"/>
              </a:rPr>
              <a:t>D. Part 97</a:t>
            </a:r>
            <a:endParaRPr b="0" i="1" lang="en-US" sz="22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F0F9A-CBA4-4AC4-8D37-0348C484E88F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D07 - What types of amateur stations can automatically retransmit the signals of other amateur stations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subTitle"/>
          </p:nvPr>
        </p:nvSpPr>
        <p:spPr>
          <a:xfrm>
            <a:off x="914400" y="198108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Auxiliary, beacon, or Earth station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Auxiliary, repeater, or space station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Beacon, repeater, or space station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Earth, repeater, or space station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9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A352F-34EC-46AB-8F00-BF97E1CB8B99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D07 - What types of amateur stations can automatically retransmit the signals of other amateur stations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subTitle"/>
          </p:nvPr>
        </p:nvSpPr>
        <p:spPr>
          <a:xfrm>
            <a:off x="914400" y="198108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Auxiliary, beacon, or Earth station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B. Auxiliary, repeater, or space stations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Beacon, repeater, or space station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Earth, repeater, or space station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9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55F3B-EB17-4793-8642-AB25F0F39A97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6" name="Picture 2" descr=""/>
          <p:cNvPicPr/>
          <p:nvPr/>
        </p:nvPicPr>
        <p:blipFill>
          <a:blip r:embed="rId1"/>
          <a:stretch/>
        </p:blipFill>
        <p:spPr>
          <a:xfrm>
            <a:off x="37571400" y="2209680"/>
            <a:ext cx="2181240" cy="160020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4" descr="http://ukamsat.files.wordpress.com/2013/02/funcube-1-flight-model-image-credit-wouter-weggelaar-pa3weg.jpg"/>
          <p:cNvPicPr/>
          <p:nvPr/>
        </p:nvPicPr>
        <p:blipFill>
          <a:blip r:embed="rId2"/>
          <a:stretch/>
        </p:blipFill>
        <p:spPr>
          <a:xfrm>
            <a:off x="609480" y="4795920"/>
            <a:ext cx="2157480" cy="158112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6" descr="http://www.kc7rjk.net/wp-content/uploads/2013/07/aprsantennas.jpg"/>
          <p:cNvPicPr/>
          <p:nvPr/>
        </p:nvPicPr>
        <p:blipFill>
          <a:blip r:embed="rId3"/>
          <a:stretch/>
        </p:blipFill>
        <p:spPr>
          <a:xfrm>
            <a:off x="7010280" y="1905120"/>
            <a:ext cx="1866960" cy="280980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8" descr="http://www.qsl.net/wb3gck/cbr/cbr-fig1.gif"/>
          <p:cNvPicPr/>
          <p:nvPr/>
        </p:nvPicPr>
        <p:blipFill>
          <a:blip r:embed="rId4"/>
          <a:srcRect l="0" t="0" r="0" b="22905"/>
          <a:stretch/>
        </p:blipFill>
        <p:spPr>
          <a:xfrm>
            <a:off x="3200400" y="4795920"/>
            <a:ext cx="4267080" cy="1054080"/>
          </a:xfrm>
          <a:prstGeom prst="rect">
            <a:avLst/>
          </a:prstGeom>
          <a:ln w="0">
            <a:noFill/>
          </a:ln>
        </p:spPr>
      </p:pic>
      <p:sp>
        <p:nvSpPr>
          <p:cNvPr id="700" name="Rectangle 5"/>
          <p:cNvSpPr/>
          <p:nvPr/>
        </p:nvSpPr>
        <p:spPr>
          <a:xfrm>
            <a:off x="6705720" y="5586480"/>
            <a:ext cx="761760" cy="26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6" presetSubtype="2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75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75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D08 -  In which of the following circumstances may the control operator of an amateur station receive compensation for operating the station? 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9250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When engaging in communications on behalf of their employ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When the communication is incidental to classroom instruction at an educational institu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When re-broadcasting weather alerts during a RACES ne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When notifying other amateur operators of the availability for sale or trade of apparatu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75138-5CC7-406A-B6CB-18E70A112DF5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D08 -  In which of the following circumstances may the control operator of an amateur station receive compensation for operating the station? 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9250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When engaging in communications on behalf of their employ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B. When the communication is incidental to classroom instruction at an educational institution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When re-broadcasting weather alerts during a RACES ne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When notifying other amateur operators of the availability for sale or trade of apparatu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70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9D62E-3800-468F-BBC9-1AF30809A7BC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D09 - Under which of the following circumstances are amateur stations authorized to transmit signals related to broadcasting, program production, or news gathering, assuming no other means is available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914400" y="26665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d0d0d"/>
                </a:solidFill>
                <a:latin typeface="Eurostile"/>
              </a:rPr>
              <a:t>A. Only where such communications directly relate to the immediate safety of human life or protection of property</a:t>
            </a:r>
            <a:endParaRPr b="0" i="1" lang="en-US" sz="22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d0d0d"/>
                </a:solidFill>
                <a:latin typeface="Eurostile"/>
              </a:rPr>
              <a:t>B. Only when broadcasting communications to or from the space shuttle</a:t>
            </a:r>
            <a:endParaRPr b="0" i="1" lang="en-US" sz="22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d0d0d"/>
                </a:solidFill>
                <a:latin typeface="Eurostile"/>
              </a:rPr>
              <a:t>C. Only where noncommercial programming is gathered and supplied exclusively to the National Public Radio network </a:t>
            </a:r>
            <a:endParaRPr b="0" i="1" lang="en-US" sz="22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d0d0d"/>
                </a:solidFill>
                <a:latin typeface="Eurostile"/>
              </a:rPr>
              <a:t>D. Only when using amateur repeaters linked to the Internet</a:t>
            </a:r>
            <a:endParaRPr b="0" i="1" lang="en-US" sz="22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71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C9BB2-26FE-4E35-AE4C-648FAF225E7F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D09 - Under which of the following circumstances are amateur stations authorized to transmit signals related to broadcasting, program production, or news gathering, assuming no other means is available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914400" y="26665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A. Only where such communications directly relate to the immediate safety of human life or protection of property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d0d0d"/>
                </a:solidFill>
                <a:latin typeface="Eurostile"/>
              </a:rPr>
              <a:t>B. Only when broadcasting communications to or from the space shuttle</a:t>
            </a:r>
            <a:endParaRPr b="0" i="1" lang="en-US" sz="22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d0d0d"/>
                </a:solidFill>
                <a:latin typeface="Eurostile"/>
              </a:rPr>
              <a:t>C. Only where noncommercial programming is gathered and supplied exclusively to the National Public Radio network </a:t>
            </a:r>
            <a:endParaRPr b="0" i="1" lang="en-US" sz="22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d0d0d"/>
                </a:solidFill>
                <a:latin typeface="Eurostile"/>
              </a:rPr>
              <a:t>D. Only when using amateur repeaters linked to the Internet</a:t>
            </a:r>
            <a:endParaRPr b="0" i="1" lang="en-US" sz="22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71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0E14C-9C28-4028-BEFE-E612B729D75A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D10 - What is the meaning of the term “broadcasting” in the FCC rules for the amateur services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1142640" y="2209680"/>
            <a:ext cx="7010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Two-way transmissions by amateur station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Transmission of music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Transmission of messages directed only to amateur operators 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Transmissions intended for reception by the general public 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71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3A95-C964-4A74-91BA-CEC237E8932A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D10 - What is the meaning of the term “broadcasting” in the FCC rules for the amateur services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1142640" y="2209680"/>
            <a:ext cx="7010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Two-way transmissions by amateur station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Transmission of music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Transmission of messages directed only to amateur operators 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D. Transmissions intended for reception by the general public 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72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394F5-00C8-4C44-A3F9-7E29033EC639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D11 - When may an amateur station transmit without identifying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subTitle"/>
          </p:nvPr>
        </p:nvSpPr>
        <p:spPr>
          <a:xfrm>
            <a:off x="1143000" y="1905120"/>
            <a:ext cx="6858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When the transmissions are of a brief nature to make station adjustment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When the transmissions are unmodulated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When the transmitted power level is below 1 wat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When transmitting signals to control a model craf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72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94A17-B562-4381-9E50-75C1BD9A409A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D11 - When may an amateur station transmit without identifying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1143000" y="1905120"/>
            <a:ext cx="6858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When the transmissions are of a brief nature to make station adjustment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When the transmissions are unmodulated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When the transmitted power level is below 1 wat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D. When transmitting signals to control a model craft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73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13AB2-3AFD-4B5D-89F0-9E936984A023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5" name="Picture 6" descr="http://site.hobbypartz.com/nitroplanes/lancair120a.jpg"/>
          <p:cNvPicPr/>
          <p:nvPr/>
        </p:nvPicPr>
        <p:blipFill>
          <a:blip r:embed="rId1"/>
          <a:stretch/>
        </p:blipFill>
        <p:spPr>
          <a:xfrm>
            <a:off x="5715000" y="4495680"/>
            <a:ext cx="28321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d0d0d"/>
                </a:solidFill>
                <a:latin typeface="Impact"/>
              </a:rPr>
              <a:t>T1A03 - Which part of the FCC regulations contains the rules governing the Amateur Radio Service?</a:t>
            </a:r>
            <a:br>
              <a:rPr sz="2900"/>
            </a:br>
            <a:endParaRPr b="0" lang="en-US" sz="24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167652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d0d0d"/>
                </a:solidFill>
                <a:latin typeface="Eurostile"/>
              </a:rPr>
              <a:t>A. Part 73</a:t>
            </a:r>
            <a:endParaRPr b="0" i="1" lang="en-US" sz="22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d0d0d"/>
                </a:solidFill>
                <a:latin typeface="Eurostile"/>
              </a:rPr>
              <a:t>B. Part 95</a:t>
            </a:r>
            <a:endParaRPr b="0" i="1" lang="en-US" sz="22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d0d0d"/>
                </a:solidFill>
                <a:latin typeface="Eurostile"/>
              </a:rPr>
              <a:t>C. Part 90</a:t>
            </a:r>
            <a:endParaRPr b="0" i="1" lang="en-US" sz="22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D. Part 97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02FC8-670C-4756-B046-5CA18F309C9D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D12  - Under which of the following circumstances may an amateur radio station engage in broadcasting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9250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Under no circumstance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When transmitting code practice, information bulletins, or transmissions necessary to provide emergency communication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At any time as long as no music is transmitted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At any time as long as the material being transmitted did not originate from a commercial broadcast sta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73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1A16D-29CC-42BA-ABBE-935775F64594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D12 -  Under which of the following circumstances may an amateur radio station engage in broadcasting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9250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Under no circumstance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B. When transmitting code practice, information bulletins, or transmissions necessary to provide emergency communications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At any time as long as no music is transmitted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At any time as long as the material being transmitted did not originate from a commercial broadcast sta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74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DD76D-BEAD-4C9E-9C1F-0C6EEB20F0BA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Impact"/>
              </a:rPr>
              <a:t>T1E - Control operator and control types: </a:t>
            </a: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control operator required; eligibility; designation of control operator; privileges and duties; control point; local, automatic and remote control; location of control operator 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74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058DA-E535-4B93-82BF-810447BE2BBA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E01 -  When is an amateur station permitted to transmit without a control operator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When using automatic control, such as in the case of a repeat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When the station licensee is away and another licensed amateur is using the sta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When the transmitting station is an auxiliary sta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Nev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7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9A143-1AC9-40C5-83AF-585840538814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E01 -  When is an amateur station permitted to transmit without a control operator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When using automatic control, such as in the case of a repeat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When the station licensee is away and another licensed amateur is using the sta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When the transmitting station is an auxiliary sta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D. Never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7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22888-DFB3-43DE-8483-77CD3DAF0FC5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E02 -  Who may a station licensee designate to be the control operator of an amateur station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533520" y="20574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Any U.S. citizen or registered alie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Any family member of the station license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Any person over the age of 18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Only a person for whom an amateur operator/primary station license grant appears in the FCC database or who is authorized for alien reciprocal opera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7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D15B2-EFB8-460B-9B3A-DE0CD4895453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E02 -  Who may a station licensee designate to be the control operator of an amateur station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subTitle"/>
          </p:nvPr>
        </p:nvSpPr>
        <p:spPr>
          <a:xfrm>
            <a:off x="533520" y="20574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Any U.S. citizen or registered alie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Any family member of the station license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Any person over the age of 18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D. Only a person for whom an amateur operator/primary station license grant appears in the FCC database or who is authorized for alien reciprocal operation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7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503E1-7BE4-438F-8FCD-1F8B58432C60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E03 -  Who must designate the station control operator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The station license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The FCC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The frequency coordina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The ITU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76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098F7-5209-45BF-866B-F8112819C35C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E03 -  Who must designate the station control operator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A. The station licensee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The FCC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The frequency coordina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The ITU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7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18936-52C6-46BA-9285-0A11E6E229BF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E04 -  What determines the transmitting privileges of an amateur station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609120" y="182880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The frequency authorized by the frequency coordina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The class of operator license held by the station license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The highest class of operator license held by anyone on the premise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The class of operator license held by the control opera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F7A56-1191-4A7E-BF8B-DBBF32E3C15F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d0d0d"/>
                </a:solidFill>
                <a:latin typeface="Impact"/>
              </a:rPr>
              <a:t>T1A04 - Which of the following meets the FCC definition of harmful interference?</a:t>
            </a:r>
            <a:br>
              <a:rPr sz="2900"/>
            </a:br>
            <a:endParaRPr b="0" lang="en-US" sz="24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Radio transmissions that annoy users of a repeat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Unwanted radio transmissions that cause costly harm to radio station apparatu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That which seriously degrades, obstructs, or repeatedly interrupts a radio communication service operating in accordance with the Radio Regulation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Static from lightning storm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A46E2-D1F7-4559-AFDA-8E2E22EDFF07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E04 -  What determines the transmitting privileges of an amateur station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subTitle"/>
          </p:nvPr>
        </p:nvSpPr>
        <p:spPr>
          <a:xfrm>
            <a:off x="609120" y="182880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The frequency authorized by the frequency coordina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The class of operator license held by the station license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The highest class of operator license held by anyone on the premise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D. The class of operator license held by the control operator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77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FAA20-C783-46BF-8F42-F9789F46BC39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E05 -  What is an amateur station control point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3152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The location of the station’s transmitting antenna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The location of the station transmitting apparatus 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The location at which the control operator function is performed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The mailing address of the station license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84122-30E4-42A9-8C95-CCD1D8541143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E05 -  What is an amateur station control point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3152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The location of the station’s transmitting antenna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The location of the station transmitting apparatus 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C. The location at which the control operator function is performed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The mailing address of the station license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7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A0527-3FD5-40D1-B66A-AB76B821412E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E06 -  Under what type of control do APRS network digipeaters operate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subTitle"/>
          </p:nvPr>
        </p:nvSpPr>
        <p:spPr>
          <a:xfrm>
            <a:off x="1219320" y="167652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Automatic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Remot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Loca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Manua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78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4F2C1-C469-46A3-A8F2-DAAC6B925195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E06 -  Under what type of control do APRS network digipeaters operate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1219320" y="167652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A. Automatic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Remot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Loca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Manua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79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1C76D-610E-4F7B-8A79-746A08019226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E07 -  When the control operator is not the station licensee, who is responsible for the proper operation of the station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990360" y="2209680"/>
            <a:ext cx="73911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All licensed amateurs who are present at the opera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Only the station license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Only the control opera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The control operator and the station licensee are equally responsibl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79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ACF9D-E5BC-4C25-B096-B7DEA8EBFB22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E07 -  When the control operator is not the station licensee, who is responsible for the proper operation of the station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990360" y="2209680"/>
            <a:ext cx="73911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All licensed amateurs who are present at the opera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Only the station license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Only the control opera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D. The control operator and the station licensee are equally responsible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8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FD34B-FE10-4144-9C31-6139402D9487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E08 -  Which of the following is an example of automatic control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1218960" y="1752480"/>
            <a:ext cx="7010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Repeater opera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Controlling the station over the Interne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Using a computer or other device to automatically send CW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Using a computer or other device to automatically identify 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8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F944D-60CD-4367-8018-D1AFF46909D7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E08 -  Which of the following is an example of automatic control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subTitle"/>
          </p:nvPr>
        </p:nvSpPr>
        <p:spPr>
          <a:xfrm>
            <a:off x="1218960" y="1752480"/>
            <a:ext cx="7010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A. Repeater operation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Controlling the station over the Interne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Using a computer or other device to automatically send CW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Using a computer or other device to automatically identify 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80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CBA52-CF1C-4D8C-B54D-3A3AFB58BFEC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E09 -  What type of control is being used when the control operator is at the control point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1143000" y="20574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Radio contro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Unattended contro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Automatic contro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Local contro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81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01D87-DEE4-4C06-A3E4-3BF626EE134A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d0d0d"/>
                </a:solidFill>
                <a:latin typeface="Impact"/>
              </a:rPr>
              <a:t>T1A04 - Which of the following meets the FCC definition of harmful interference?</a:t>
            </a:r>
            <a:br>
              <a:rPr sz="2900"/>
            </a:br>
            <a:endParaRPr b="0" lang="en-US" sz="24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d0d0d"/>
                </a:solidFill>
                <a:latin typeface="Eurostile"/>
              </a:rPr>
              <a:t>A. Radio transmissions that annoy users of a repeater</a:t>
            </a:r>
            <a:endParaRPr b="0" i="1" lang="en-US" sz="22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d0d0d"/>
                </a:solidFill>
                <a:latin typeface="Eurostile"/>
              </a:rPr>
              <a:t>B. Unwanted radio transmissions that cause costly harm to radio station apparatus</a:t>
            </a:r>
            <a:endParaRPr b="0" i="1" lang="en-US" sz="22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000"/>
                </a:solidFill>
                <a:latin typeface="Eurostile"/>
              </a:rPr>
              <a:t>C. That which seriously degrades, obstructs, or repeatedly interrupts a radio communication service operating in accordance with the Radio Regulations</a:t>
            </a:r>
            <a:endParaRPr b="0" i="1" lang="en-US" sz="26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d0d0d"/>
                </a:solidFill>
                <a:latin typeface="Eurostile"/>
              </a:rPr>
              <a:t>D. Static from lightning storms</a:t>
            </a:r>
            <a:endParaRPr b="0" i="1" lang="en-US" sz="22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FE25E-8C06-4C0A-B125-7FC7DF44892C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E09 -  What type of control is being used when the control operator is at the control point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subTitle"/>
          </p:nvPr>
        </p:nvSpPr>
        <p:spPr>
          <a:xfrm>
            <a:off x="1143000" y="20574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Radio contro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Unattended contro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Automatic contro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D. Local control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81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DCA84-5014-4303-B12F-C0B2C693D3DB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E10 -  Which of the following is an example of remote control as defined in Part 97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subTitle"/>
          </p:nvPr>
        </p:nvSpPr>
        <p:spPr>
          <a:xfrm>
            <a:off x="1371600" y="220968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Repeater opera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Operating the station over the Interne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Controlling a model aircraft, boat or car by amateur radio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All of these choices are correc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82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D6A3-F304-4B18-84F7-91DECD1D90B1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E10 -  Which of the following is an example of remote control as defined in Part 97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subTitle"/>
          </p:nvPr>
        </p:nvSpPr>
        <p:spPr>
          <a:xfrm>
            <a:off x="1371600" y="220968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Repeater opera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B. Operating the station over the Internet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Controlling a model aircraft, boat or car by amateur radio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All of these choices are correc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82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F60A6-676A-43DF-838C-14BACA13BD3B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1E11 -  Who does the FCC presume to be the control operator of an amateur station, unless documentation to the contrary is in the station records?</a:t>
            </a: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The station custodia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The third party participan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The person operating the station equipmen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The station license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82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92850-B228-4E69-AC8F-C46EF344DC84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1E11 -  Who does the FCC presume to be the control operator of an amateur station, unless documentation to the contrary is in the station records?</a:t>
            </a: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The station custodia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The third party participan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The person operating the station equipmen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D. The station licensee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83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4A3BB-3C2E-493F-802E-518BEDB4B335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E12 -  When, under normal circumstances, may a Technician Class licensee be the control operator of a station operating in an exclusive Extra Class operator segment of the amateur bands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subTitle"/>
          </p:nvPr>
        </p:nvSpPr>
        <p:spPr>
          <a:xfrm>
            <a:off x="1219320" y="297144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At no tim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When operating a special event sta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As part of a multi-operator contest team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When using a club station whose trustee is an Extra Class operator license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83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179D4-3EB3-4729-A1B7-0DBD43BE422F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E12 -  When, under normal circumstances, may a Technician Class licensee be the control operator of a station operating in an exclusive Extra Class operator segment of the amateur bands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subTitle"/>
          </p:nvPr>
        </p:nvSpPr>
        <p:spPr>
          <a:xfrm>
            <a:off x="1219320" y="297144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A. At no time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When operating a special event sta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As part of a multi-operator contest team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When using a club station whose trustee is an Extra Class operator license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84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68E12-FE1A-4EDF-ABFA-50FDA87B2859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Impact"/>
              </a:rPr>
              <a:t>T1F - Station identification; repeaters; </a:t>
            </a: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hird party communications; club stations; FCC inspection 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8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54ED4-FE84-4A9B-9DEA-3C38F6E110BA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F01 -  What type of identification is being used when identifying a station on the air as Race Headquarters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 type="subTitle"/>
          </p:nvPr>
        </p:nvSpPr>
        <p:spPr>
          <a:xfrm>
            <a:off x="990720" y="20574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Tactical call sig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An official call sign reserved for RACES drill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SSID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Broadcast sta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8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0152D-FE0B-4FE2-BDC6-6C6D54F4D22B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F01 -  What type of identification is being used when identifying a station on the air as Race Headquarters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990720" y="20574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A. Tactical call sign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An official call sign reserved for RACES drill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SSID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Broadcast sta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8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78894-7394-4935-9C41-8064F8A17C75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A05 - Which of the following is a purpose of the Amateur Radio Service rules and regulations as defined by the FCC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Enhancing international goodwil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Providing inexpensive communication for local emergency organization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Training of operators in military radio operating procedure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All of these choices are correc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4393A-05E7-4224-9A1A-678073F1EB86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F02 -  When using tactical identifiers such as “Race Headquarters” during a community service net operation, how often must your station transmit the station’s FCC-assigned call sign? 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 type="subTitle"/>
          </p:nvPr>
        </p:nvSpPr>
        <p:spPr>
          <a:xfrm>
            <a:off x="1143000" y="281952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Never, the tactical call is sufficien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Once during every hou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At the end of each communication and every ten minutes during a communica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At the end of every transmiss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8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7B126-D7E4-4DC1-B116-992A351377D3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F02 -  When using tactical identifiers such as “Race Headquarters” during a community service net operation, how often must your station transmit the station’s FCC-assigned call sign? 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subTitle"/>
          </p:nvPr>
        </p:nvSpPr>
        <p:spPr>
          <a:xfrm>
            <a:off x="1143000" y="281952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Never, the tactical call is sufficien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Once during every hou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C. At the end of each communication and every ten minutes during a communication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At the end of every transmiss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86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79D6D-6F6B-49A9-A245-166B778C70F2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F03 -  When is an amateur station required to transmit its assigned call sign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219320" y="17521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At the beginning of each contact, and every 10 minutes thereaft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At least once during each transmission 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At least every 15 minutes during and at the end of a communica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At least every 10 minutes during and at the end of a communica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8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80615-D67A-4DA1-9E92-40FB7C0FB33B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F03 -  When is an amateur station required to transmit its assigned call sign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1219320" y="17521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At the beginning of each contact, and every 10 minutes thereaft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At least once during each transmission 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At least every 15 minutes during and at the end of a communica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D. At least every 10 minutes during and at the end of a communication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86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B1F72-A32A-4F21-933B-9CB7E291C010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-23760" y="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F04 -  Which of the following is an acceptable language to use for station identification when operating in a phone sub-band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 type="subTitle"/>
          </p:nvPr>
        </p:nvSpPr>
        <p:spPr>
          <a:xfrm>
            <a:off x="990360" y="3048120"/>
            <a:ext cx="739116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Any language recognized by the United Nation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Any language recognized by the ITU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The English languag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English, French, or Spanish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87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0DA2-BD88-489A-B368-DC3FBFD71A56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-23760" y="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F04 -  Which of the following is an acceptable language to use for station identification when operating in a phone sub-band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subTitle"/>
          </p:nvPr>
        </p:nvSpPr>
        <p:spPr>
          <a:xfrm>
            <a:off x="990360" y="3048120"/>
            <a:ext cx="739116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Any language recognized by the United Nation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Any language recognized by the ITU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C. The English language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English, French, or Spanish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87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3B158-AC68-4302-97BD-BB3279D68791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F05 -  What method of call sign identification is required for a station transmitting phone signals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467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Send the call sign followed by the indicator RP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Send the call sign using CW or phone emiss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Send the call sign followed by the indicator 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Send the call sign using only phone emiss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88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8D1A1-4928-4057-B633-5F05986D03F1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F05 -  What method of call sign identification is required for a station transmitting phone signals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467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Send the call sign followed by the indicator RP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B. Send the call sign using CW or phone emission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Send the call sign followed by the indicator 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Send the call sign using only phone emiss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88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C55BB-D4A3-4011-B487-687CFD7019AC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F06 -  Which of the following formats of a self-assigned indicator is acceptable when identifying using a phone transmission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KL7CC stroke W3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KL7CC slant W3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KL7CC slash W3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All of these choices are correc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88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A38BA-3A7E-4FD7-8E53-0027A5E440EA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F06 -  Which of the following formats of a self-assigned indicator is acceptable when identifying using a phone transmission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KL7CC stroke W3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KL7CC slant W3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KL7CC slash W3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D. All of these choices are correct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8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B18E5-FD34-46BB-90F9-B0F14519C052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A05 - Which of the following is a purpose of the Amateur Radio Service rules and regulations as defined by the FCC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A. Enhancing international goodwill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Providing inexpensive communication for local emergency organization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Training of operators in military radio operating procedure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All of these choices are correc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FE414-34BF-4440-B977-8E3B6D18FD42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F07 -  Which of the following restrictions apply when a non-licensed person is allowed to speak to a foreign station using a station under the control of a Technician Class control operator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subTitle"/>
          </p:nvPr>
        </p:nvSpPr>
        <p:spPr>
          <a:xfrm>
            <a:off x="1371240" y="2895480"/>
            <a:ext cx="70102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The person must be a U.S. citize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The foreign station must be one with which the U.S. has a third party agreemen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The licensed control operator must do the station identifica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All of these choices are correc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89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CAD86-47C9-44D8-9CD9-519E03A8F2E4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F07 -  Which of the following restrictions apply when a non-licensed person is allowed to speak to a foreign station using a station under the control of a Technician Class control operator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subTitle"/>
          </p:nvPr>
        </p:nvSpPr>
        <p:spPr>
          <a:xfrm>
            <a:off x="1371240" y="2895480"/>
            <a:ext cx="70102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The person must be a U.S. citize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B. The foreign station must be one with which the U.S. has a third party agreement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The licensed control operator must do the station identifica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All of these choices are correc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90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6A4B2-C02A-4B98-B276-F9EBC975A17E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d0d0d"/>
                </a:solidFill>
                <a:latin typeface="Tahoma"/>
                <a:ea typeface="Tahoma"/>
              </a:rPr>
              <a:t>US Amateurs May Handle Third-Party Traffic With: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90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7008E-DAEF-4FE3-8054-6F316AE0F09B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5" name=""/>
          <p:cNvGraphicFramePr/>
          <p:nvPr/>
        </p:nvGraphicFramePr>
        <p:xfrm>
          <a:off x="914400" y="1143000"/>
          <a:ext cx="2666880" cy="4835520"/>
        </p:xfrm>
        <a:graphic>
          <a:graphicData uri="http://schemas.openxmlformats.org/drawingml/2006/table">
            <a:tbl>
              <a:tblPr/>
              <a:tblGrid>
                <a:gridCol w="1333440"/>
                <a:gridCol w="1333440"/>
              </a:tblGrid>
              <a:tr h="180720">
                <a:tc>
                  <a:txBody>
                    <a:bodyPr lIns="43560" rIns="4356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3560" marR="43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560" rIns="4356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tigua/Barbuda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3560" marR="43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0720">
                <a:tc>
                  <a:txBody>
                    <a:bodyPr lIns="43560" rIns="4356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-LW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3560" marR="43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560" rIns="4356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gentina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3560" marR="43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0720">
                <a:tc>
                  <a:txBody>
                    <a:bodyPr lIns="43560" rIns="4356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K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3560" marR="43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560" rIns="4356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stralia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3560" marR="43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0720">
                <a:tc>
                  <a:txBody>
                    <a:bodyPr lIns="43560" rIns="4356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3560" marR="43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560" rIns="4356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liz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3560" marR="43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0720">
                <a:tc>
                  <a:txBody>
                    <a:bodyPr lIns="43560" rIns="4356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3560" marR="43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560" rIns="4356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livia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3560" marR="43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0720">
                <a:tc>
                  <a:txBody>
                    <a:bodyPr lIns="43560" rIns="4356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3560" marR="43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560" rIns="4356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snia-Herzegovina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3560" marR="43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0720">
                <a:tc>
                  <a:txBody>
                    <a:bodyPr lIns="43560" rIns="4356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P-PY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3560" marR="43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560" rIns="4356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azi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3560" marR="43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0720">
                <a:tc>
                  <a:txBody>
                    <a:bodyPr lIns="43560" rIns="4356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, VO, VY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3560" marR="43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560" rIns="4356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ada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3560" marR="43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0720">
                <a:tc>
                  <a:txBody>
                    <a:bodyPr lIns="43560" rIns="4356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-C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3560" marR="43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560" rIns="4356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l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3560" marR="43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0720">
                <a:tc>
                  <a:txBody>
                    <a:bodyPr lIns="43560" rIns="4356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J-HK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3560" marR="43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560" rIns="4356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lombia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3560" marR="43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880">
                <a:tc>
                  <a:txBody>
                    <a:bodyPr lIns="43560" rIns="4356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3560" marR="43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560" rIns="4356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oros (Federal Islamic Republic of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3560" marR="43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0720">
                <a:tc>
                  <a:txBody>
                    <a:bodyPr lIns="43560" rIns="4356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, T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3560" marR="43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560" rIns="4356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ta Rica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3560" marR="43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0720">
                <a:tc>
                  <a:txBody>
                    <a:bodyPr lIns="43560" rIns="4356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M, CO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3560" marR="43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560" rIns="4356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ba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3560" marR="43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0720">
                <a:tc>
                  <a:txBody>
                    <a:bodyPr lIns="43560" rIns="4356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3560" marR="43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560" rIns="4356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minican Republic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3560" marR="43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0720">
                <a:tc>
                  <a:txBody>
                    <a:bodyPr lIns="43560" rIns="4356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3560" marR="43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560" rIns="4356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minica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3560" marR="43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0720">
                <a:tc>
                  <a:txBody>
                    <a:bodyPr lIns="43560" rIns="4356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C-HD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3560" marR="43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560" rIns="4356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cuador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3560" marR="43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0720">
                <a:tc>
                  <a:txBody>
                    <a:bodyPr lIns="43560" rIns="4356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3560" marR="43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560" rIns="4356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 Salvador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3560" marR="43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0720">
                <a:tc>
                  <a:txBody>
                    <a:bodyPr lIns="43560" rIns="4356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3560" marR="43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560" rIns="4356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mbia, Th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3560" marR="43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0720">
                <a:tc>
                  <a:txBody>
                    <a:bodyPr lIns="43560" rIns="4356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G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3560" marR="43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560" rIns="4356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hana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3560" marR="43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0720">
                <a:tc>
                  <a:txBody>
                    <a:bodyPr lIns="43560" rIns="4356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3560" marR="43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560" rIns="4356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nada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3560" marR="43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0720">
                <a:tc>
                  <a:txBody>
                    <a:bodyPr lIns="43560" rIns="4356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G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3560" marR="43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560" rIns="4356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uatemala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3560" marR="43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0720">
                <a:tc>
                  <a:txBody>
                    <a:bodyPr lIns="43560" rIns="4356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R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3560" marR="43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560" rIns="4356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uyana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3560" marR="43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0720">
                <a:tc>
                  <a:txBody>
                    <a:bodyPr lIns="43560" rIns="4356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H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3560" marR="43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560" rIns="4356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iti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3560" marR="43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0720">
                <a:tc>
                  <a:txBody>
                    <a:bodyPr lIns="43560" rIns="4356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Q-HR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3560" marR="43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560" rIns="4356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ndura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3560" marR="43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0720">
                <a:tc>
                  <a:txBody>
                    <a:bodyPr lIns="43560" rIns="4356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X, 4Z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3560" marR="43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560" rIns="4356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rae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3560" marR="43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0720">
                <a:tc>
                  <a:txBody>
                    <a:bodyPr lIns="43560" rIns="4356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Y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3560" marR="43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560" rIns="43560" tIns="21600" bIns="21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maica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3560" marR="43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06" name=""/>
          <p:cNvGraphicFramePr/>
          <p:nvPr/>
        </p:nvGraphicFramePr>
        <p:xfrm>
          <a:off x="5981760" y="1143000"/>
          <a:ext cx="2514600" cy="4697280"/>
        </p:xfrm>
        <a:graphic>
          <a:graphicData uri="http://schemas.openxmlformats.org/drawingml/2006/table">
            <a:tbl>
              <a:tblPr/>
              <a:tblGrid>
                <a:gridCol w="1257120"/>
                <a:gridCol w="1257480"/>
              </a:tblGrid>
              <a:tr h="184320">
                <a:tc>
                  <a:txBody>
                    <a:bodyPr lIns="47160" rIns="47160" tIns="23400" bIns="23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Y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160" rIns="47160" tIns="23400" bIns="23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rda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4320">
                <a:tc>
                  <a:txBody>
                    <a:bodyPr lIns="47160" rIns="47160" tIns="23400" bIns="23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160" rIns="47160" tIns="23400" bIns="23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beria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4320">
                <a:tc>
                  <a:txBody>
                    <a:bodyPr lIns="47160" rIns="47160" tIns="23400" bIns="23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160" rIns="47160" tIns="23400" bIns="23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shall Island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4320">
                <a:tc>
                  <a:txBody>
                    <a:bodyPr lIns="47160" rIns="47160" tIns="23400" bIns="23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A-XI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160" rIns="47160" tIns="23400" bIns="23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xico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1480">
                <a:tc>
                  <a:txBody>
                    <a:bodyPr lIns="47160" rIns="47160" tIns="23400" bIns="23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160" rIns="47160" tIns="23400" bIns="23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ronesia, Federated States of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4320">
                <a:tc>
                  <a:txBody>
                    <a:bodyPr lIns="47160" rIns="47160" tIns="23400" bIns="23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160" rIns="47160" tIns="23400" bIns="23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caragua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4320">
                <a:tc>
                  <a:txBody>
                    <a:bodyPr lIns="47160" rIns="47160" tIns="23400" bIns="23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-HP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160" rIns="47160" tIns="23400" bIns="23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nama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4320">
                <a:tc>
                  <a:txBody>
                    <a:bodyPr lIns="47160" rIns="47160" tIns="23400" bIns="23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P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160" rIns="47160" tIns="23400" bIns="23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aguay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4320">
                <a:tc>
                  <a:txBody>
                    <a:bodyPr lIns="47160" rIns="47160" tIns="23400" bIns="23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A-OC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160" rIns="47160" tIns="23400" bIns="23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u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4320">
                <a:tc>
                  <a:txBody>
                    <a:bodyPr lIns="47160" rIns="47160" tIns="23400" bIns="23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-DZ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160" rIns="47160" tIns="23400" bIns="23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ilippine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4320">
                <a:tc>
                  <a:txBody>
                    <a:bodyPr lIns="47160" rIns="47160" tIns="23400" bIns="23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R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160" rIns="47160" tIns="23400" bIns="23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tcairn Island*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4320">
                <a:tc>
                  <a:txBody>
                    <a:bodyPr lIns="47160" rIns="47160" tIns="23400" bIns="23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160" rIns="47160" tIns="23400" bIns="23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. Kitts/Nevi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4320">
                <a:tc>
                  <a:txBody>
                    <a:bodyPr lIns="47160" rIns="47160" tIns="23400" bIns="23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160" rIns="47160" tIns="23400" bIns="23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. Lucia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1480">
                <a:tc>
                  <a:txBody>
                    <a:bodyPr lIns="47160" rIns="47160" tIns="23400" bIns="23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160" rIns="47160" tIns="23400" bIns="23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. Vincent and the Grenadine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4320">
                <a:tc>
                  <a:txBody>
                    <a:bodyPr lIns="47160" rIns="47160" tIns="23400" bIns="23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160" rIns="47160" tIns="23400" bIns="23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erra Leon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4320">
                <a:tc>
                  <a:txBody>
                    <a:bodyPr lIns="47160" rIns="47160" tIns="23400" bIns="23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R-ZU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160" rIns="47160" tIns="23400" bIns="23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uth Africa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4320">
                <a:tc>
                  <a:txBody>
                    <a:bodyPr lIns="47160" rIns="47160" tIns="23400" bIns="23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DA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160" rIns="47160" tIns="23400" bIns="23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waziland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4320">
                <a:tc>
                  <a:txBody>
                    <a:bodyPr lIns="47160" rIns="47160" tIns="23400" bIns="23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Y-9Z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160" rIns="47160" tIns="23400" bIns="23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nidad/Tobago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4320">
                <a:tc>
                  <a:txBody>
                    <a:bodyPr lIns="47160" rIns="47160" tIns="23400" bIns="23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-TC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160" rIns="47160" tIns="23400" bIns="23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rkey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4320">
                <a:tc>
                  <a:txBody>
                    <a:bodyPr lIns="47160" rIns="47160" tIns="23400" bIns="23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B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160" rIns="47160" tIns="23400" bIns="23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ted Kingdom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4320">
                <a:tc>
                  <a:txBody>
                    <a:bodyPr lIns="47160" rIns="47160" tIns="23400" bIns="23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V-CX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160" rIns="47160" tIns="23400" bIns="23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uguay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4320">
                <a:tc>
                  <a:txBody>
                    <a:bodyPr lIns="47160" rIns="47160" tIns="23400" bIns="23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V-YY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160" rIns="47160" tIns="23400" bIns="23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nezuela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4320">
                <a:tc>
                  <a:txBody>
                    <a:bodyPr lIns="47160" rIns="47160" tIns="23400" bIns="23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U1ITU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160" rIns="47160" tIns="23400" bIns="23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U - Geneva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4320">
                <a:tc>
                  <a:txBody>
                    <a:bodyPr lIns="47160" rIns="47160" tIns="23400" bIns="23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U1VIC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160" rIns="47160" tIns="23400" bIns="23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C - Vienna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7" name="Rectangle 10"/>
          <p:cNvSpPr/>
          <p:nvPr/>
        </p:nvSpPr>
        <p:spPr>
          <a:xfrm>
            <a:off x="1828800" y="602784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arrl.org/third-party-operating-agreem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8" name="Picture 2" descr="http://lift2013.files.wordpress.com/2013/09/flags-globe-541425.jpg"/>
          <p:cNvPicPr/>
          <p:nvPr/>
        </p:nvPicPr>
        <p:blipFill>
          <a:blip r:embed="rId1"/>
          <a:srcRect l="0" t="0" r="0" b="8835"/>
          <a:stretch/>
        </p:blipFill>
        <p:spPr>
          <a:xfrm>
            <a:off x="3733920" y="2590920"/>
            <a:ext cx="175248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F08 -  Which indicator is required by the FCC to be transmitted after a station call sign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990720" y="213372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/M when operating mobil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/R when operating a repeat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/ followed the FCC Region number when operating out of the region in which the license was issued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/KT, /AE or /AG when using new license privileges earned by CSCE while waiting for an upgrade to a previously issued license to appear in the FCC license databas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91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21C67-E527-4F96-BAFB-D76E66C7B1F4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F08 -  Which indicator is required by the FCC to be transmitted after a station call sign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subTitle"/>
          </p:nvPr>
        </p:nvSpPr>
        <p:spPr>
          <a:xfrm>
            <a:off x="990720" y="213372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/M when operating mobil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/R when operating a repeat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/ followed the FCC Region number when operating out of the region in which the license was issued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D. /KT, /AE or /AG when using new license privileges earned by CSCE while waiting for an upgrade to a previously issued license to appear in the FCC license database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91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FF7B2-A32D-4FD7-9830-DEC4B3AAEE97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F09 -  What type of amateur station simultaneously retransmits the signal of another amateur station on a different channel or channels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Beacon sta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Earth sta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Repeater sta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Message forwarding sta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91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BFCB9-97A4-443F-B807-CCD5B949B231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F09 -  What type of amateur station simultaneously retransmits the signal of another amateur station on a different channel or channels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Beacon sta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Earth sta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C. Repeater station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Message forwarding sta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92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76197-3878-4EEF-BAA9-E5C2DF4A4CD0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F10 - Who is accountable should a repeater inadvertently retransmit communications that violate the FCC rules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990360" y="266652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The control operator of the originating sta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The control operator of the repeat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The owner of the repeat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Both the originating station and the repeater own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92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F0AA6-F1B5-46E3-84BF-20F5C6C80D4C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F10 - Who is accountable should a repeater inadvertently retransmit communications that violate the FCC rules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 type="subTitle"/>
          </p:nvPr>
        </p:nvSpPr>
        <p:spPr>
          <a:xfrm>
            <a:off x="990360" y="266652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A. The control operator of the originating station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The control operator of the repeat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The owner of the repeat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Both the originating station and the repeater own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93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3C663-4053-4C64-9061-A51EE4D7C36E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F11 - To which foreign stations do the FCC rules authorize the transmission of non-emergency third party communications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066680" y="2819160"/>
            <a:ext cx="69343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Any station whose government permits such communication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Those in ITU Region 2 only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Those in ITU Regions 2 and 3 only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Those in ITU Region 3 only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93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7C5A8-43AF-4BC4-909A-50E796045046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d0d0d"/>
                </a:solidFill>
                <a:latin typeface="Impact"/>
              </a:rPr>
              <a:t>T1A06 - Which of the following services are protected from interference by amateur signals under all circumstances?</a:t>
            </a:r>
            <a:br>
              <a:rPr sz="2900"/>
            </a:br>
            <a:endParaRPr b="0" lang="en-US" sz="24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Citizens Radio Servic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 Broadcast Servic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Land Mobile Radio Servic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 Radio navigation Servic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080D8-F49D-409D-A152-8B101D672605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F11 - To which foreign stations do the FCC rules authorize the transmission of non-emergency third party communications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subTitle"/>
          </p:nvPr>
        </p:nvSpPr>
        <p:spPr>
          <a:xfrm>
            <a:off x="1066680" y="2819160"/>
            <a:ext cx="69343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A. Any station whose government permits such communications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Those in ITU Region 2 only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Those in ITU Regions 2 and 3 only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Those in ITU Region 3 only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93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5AD6B-F608-4A64-8EF4-631F977C8E63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F12  -   How many persons are required to be members of a club for a club station license to be issued by the FCC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At least 5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At least 4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A trustee and 2 officer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At least 2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9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37B35-E1C3-4DCE-AE94-8270FD4DDFF1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F12  -   How many persons are required to be members of a club for a club station license to be issued by the FCC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At least 5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B. At least 4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A trustee and 2 officer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At least 2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94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6E3C2-1F36-47F0-B53E-7BC50DD63B05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F13 -  When must the station licensee make the station and its records available for FCC inspection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subTitle"/>
          </p:nvPr>
        </p:nvSpPr>
        <p:spPr>
          <a:xfrm>
            <a:off x="838080" y="21337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At any time ten days after notification by the FCC of such an inspec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At any time upon request by an FCC representativ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Only after failing to comply with an FCC notice of viola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Only when presented with a valid warrant by an FCC official or government agen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95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7337A-61E2-454B-B550-DA641C1F25CF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F13 -  When must the station licensee make the station and its records available for FCC inspection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subTitle"/>
          </p:nvPr>
        </p:nvSpPr>
        <p:spPr>
          <a:xfrm>
            <a:off x="838080" y="21337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At any time ten days after notification by the FCC of such an inspec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B. At any time upon request by an FCC representative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Only after failing to comply with an FCC notice of viola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Only when presented with a valid warrant by an FCC official or government agen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9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4F1FA-8439-4039-9136-025795A4FCBE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Impact"/>
              </a:rPr>
              <a:t>End of</a:t>
            </a:r>
            <a:br>
              <a:rPr sz="3200"/>
            </a:br>
            <a:r>
              <a:rPr b="1" lang="en-US" sz="3200" spc="-1" strike="noStrike">
                <a:solidFill>
                  <a:srgbClr val="0d0d0d"/>
                </a:solidFill>
                <a:latin typeface="Impact"/>
              </a:rPr>
              <a:t>SUBELEMENT T1 – FCC Rules, 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5E318-035A-4CAC-8CE4-0344312D5342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d0d0d"/>
                </a:solidFill>
                <a:latin typeface="Impact"/>
              </a:rPr>
              <a:t>T1A06 - Which of the following services are protected from interference by amateur signals under all circumstances?</a:t>
            </a:r>
            <a:br>
              <a:rPr sz="2900"/>
            </a:br>
            <a:endParaRPr b="0" lang="en-US" sz="24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Citizens Radio Servic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 Broadcast Servic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Land Mobile Radio Servic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D. Radio navigation Service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5F17B-0F6B-4EF8-BAD7-99261B79A0CE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FCC Rules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153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d0d0d"/>
                </a:solidFill>
                <a:latin typeface="Cambria"/>
              </a:rPr>
              <a:t>T1A - </a:t>
            </a:r>
            <a:r>
              <a:rPr b="1" i="1" lang="en-US" sz="1400" spc="-1" strike="noStrike">
                <a:solidFill>
                  <a:srgbClr val="0d0d0d"/>
                </a:solidFill>
                <a:latin typeface="Cambria"/>
              </a:rPr>
              <a:t>Amateur Radio Service: purpose and permissible use of the Amateur Radio Service; operator/primary station license grant; where FCC rules are codified; basis and purpose of FCC rules; meanings of basic terms used in FCC rules; interference; spectrum management</a:t>
            </a:r>
            <a:endParaRPr b="0" i="1" lang="en-US" sz="1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d0d0d"/>
                </a:solidFill>
                <a:latin typeface="Cambria"/>
              </a:rPr>
              <a:t>T1B - </a:t>
            </a:r>
            <a:r>
              <a:rPr b="1" i="1" lang="en-US" sz="1400" spc="-1" strike="noStrike">
                <a:solidFill>
                  <a:srgbClr val="0d0d0d"/>
                </a:solidFill>
                <a:latin typeface="Cambria"/>
              </a:rPr>
              <a:t>Authorized frequencies: frequency allocations; ITU regions; emission modes; restricted sub-bands; spectrum sharing; transmissions near band edges </a:t>
            </a:r>
            <a:endParaRPr b="0" i="1" lang="en-US" sz="1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d0d0d"/>
                </a:solidFill>
                <a:latin typeface="Cambria"/>
              </a:rPr>
              <a:t>T1C - </a:t>
            </a:r>
            <a:r>
              <a:rPr b="1" i="1" lang="en-US" sz="1400" spc="-1" strike="noStrike">
                <a:solidFill>
                  <a:srgbClr val="0d0d0d"/>
                </a:solidFill>
                <a:latin typeface="Cambria"/>
              </a:rPr>
              <a:t>Operator licensing: operator classes; sequential, special event, and vanity call sign systems; international communications; reciprocal operation; station license and licensee; places where the amateur service is regulated by the FCC; name and address on FCC license database; license term; renewal; grace period</a:t>
            </a:r>
            <a:endParaRPr b="0" i="1" lang="en-US" sz="1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d0d0d"/>
                </a:solidFill>
                <a:latin typeface="Cambria"/>
              </a:rPr>
              <a:t>T1D - </a:t>
            </a:r>
            <a:r>
              <a:rPr b="1" i="1" lang="en-US" sz="1400" spc="-1" strike="noStrike">
                <a:solidFill>
                  <a:srgbClr val="0d0d0d"/>
                </a:solidFill>
                <a:latin typeface="Cambria"/>
              </a:rPr>
              <a:t>Authorized and prohibited transmission: communications with other countries; music; exchange of information with other services; indecent language; compensation for use of station; retransmission of other amateur signals; codes and ciphers; sale of equipment; unidentified transmissions; broadcasting </a:t>
            </a:r>
            <a:endParaRPr b="0" i="1" lang="en-US" sz="1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d0d0d"/>
                </a:solidFill>
                <a:latin typeface="Cambria"/>
              </a:rPr>
              <a:t>T1E - </a:t>
            </a:r>
            <a:r>
              <a:rPr b="1" i="1" lang="en-US" sz="1400" spc="-1" strike="noStrike">
                <a:solidFill>
                  <a:srgbClr val="0d0d0d"/>
                </a:solidFill>
                <a:latin typeface="Cambria"/>
              </a:rPr>
              <a:t>Control operator and control types: control operator required; eligibility; designation of control operator; privileges and duties; control point; local, automatic and remote control; location of control operator </a:t>
            </a:r>
            <a:endParaRPr b="0" i="1" lang="en-US" sz="1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d0d0d"/>
                </a:solidFill>
                <a:latin typeface="Cambria"/>
              </a:rPr>
              <a:t>T1F - </a:t>
            </a:r>
            <a:r>
              <a:rPr b="1" i="1" lang="en-US" sz="1400" spc="-1" strike="noStrike">
                <a:solidFill>
                  <a:srgbClr val="0d0d0d"/>
                </a:solidFill>
                <a:latin typeface="Cambria"/>
              </a:rPr>
              <a:t>Station identification; repeaters; third party communications; club stations; FCC inspection </a:t>
            </a:r>
            <a:endParaRPr b="0" i="1" lang="en-US" sz="1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A204A-AEF9-425E-8265-CED811AC773F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A07 - What is the FCC Part 97 definition of telemetry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80880" y="16765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An information bulletin issued by the FCC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A one-way transmission to initiate, modify or terminate functions of a device at a distanc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A one-way transmission of measurements at a distance from the measuring instrumen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An information bulletin from a VEC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E0E32-99F8-480A-827A-AB2838634373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A07 - What is the FCC Part 97 definition of telemetry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380880" y="16765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An information bulletin issued by the FCC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A one-way transmission to initiate, modify or terminate functions of a device at a distanc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C. A one-way transmission of measurements at a distance from the measuring instrument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An information bulletin from a VEC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F3CC9-687A-4E80-B8E5-CE88489A6F63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1A08 - Which of the following entities recommends transmit/receive channels and other parameters for auxiliary and repeater stations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Frequency Spectrum Manag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Frequency Coordina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FCC Regional Field Office 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International Telecommunications Un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EE03D-967A-4D53-8DA4-E428E5785F26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1A08 - Which of the following entities recommends transmit/receive channels and other parameters for auxiliary and repeater stations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Frequency Spectrum Manag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B. Frequency Coordinator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FCC Regional Field Office 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International Telecommunications Un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863FB-BC12-40DF-B8C2-6863196A3531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1A09 - Who selects a Frequency Coordinator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609480" y="167652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The FCC Office of Spectrum Management and Coordination Policy 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The local chapter of the Office of National Council of Independent Frequency Coordinator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Amateur operators in a local or regional area whose stations are eligible to be auxiliary or repeater station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FCC Regional Field Offic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D244B-6B5A-4FFD-9BE2-429E4472C6DB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1A09 - Who selects a Frequency Coordinator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grpSp>
        <p:nvGrpSpPr>
          <p:cNvPr id="188" name="Subtitle 2"/>
          <p:cNvGrpSpPr/>
          <p:nvPr/>
        </p:nvGrpSpPr>
        <p:grpSpPr>
          <a:xfrm>
            <a:off x="542880" y="1609560"/>
            <a:ext cx="7527960" cy="4705560"/>
            <a:chOff x="542880" y="1609560"/>
            <a:chExt cx="7527960" cy="4705560"/>
          </a:xfrm>
        </p:grpSpPr>
        <p:pic>
          <p:nvPicPr>
            <p:cNvPr id="189" name="Subtitle 2" descr=""/>
            <p:cNvPicPr/>
            <p:nvPr/>
          </p:nvPicPr>
          <p:blipFill>
            <a:blip r:embed="rId1"/>
            <a:stretch/>
          </p:blipFill>
          <p:spPr>
            <a:xfrm>
              <a:off x="542880" y="1609560"/>
              <a:ext cx="7527960" cy="470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609480" y="1676520"/>
              <a:ext cx="739152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d0d0d"/>
                  </a:solidFill>
                  <a:latin typeface="Eurostile"/>
                  <a:ea typeface="Lucida Sans Unicode"/>
                </a:rPr>
                <a:t>A. The FCC Office of Spectrum Management and Coordination Policy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d0d0d"/>
                  </a:solidFill>
                  <a:latin typeface="Eurostile"/>
                  <a:ea typeface="Lucida Sans Unicode"/>
                </a:rPr>
                <a:t>B. The local chapter of the Office of National Council of Independent Frequency Coordinator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c000"/>
                  </a:solidFill>
                  <a:latin typeface="Eurostile"/>
                  <a:ea typeface="Lucida Sans Unicode"/>
                </a:rPr>
                <a:t>C. Amateur operators in a local or regional area whose stations are eligible to be auxiliary or repeater station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d0d0d"/>
                  </a:solidFill>
                  <a:latin typeface="Eurostile"/>
                  <a:ea typeface="Lucida Sans Unicode"/>
                </a:rPr>
                <a:t>D. FCC Regional Field Offic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AF97C-4F74-482E-8455-B5DEC642F92F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6840" y="304920"/>
            <a:ext cx="42670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Local Frequency Coordinators help organize repeater activities within a region to minimize interference issue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The Western Washington Amateur Relay Association (WWARA) covers Western Washington and has repeater lists and the local band pla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http://www.WWARA.org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E3F91-900F-4EE2-8D9A-47F7A2752ACE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Picture 1" descr=""/>
          <p:cNvPicPr/>
          <p:nvPr/>
        </p:nvPicPr>
        <p:blipFill>
          <a:blip r:embed="rId1"/>
          <a:stretch/>
        </p:blipFill>
        <p:spPr>
          <a:xfrm>
            <a:off x="4648320" y="1295280"/>
            <a:ext cx="3657600" cy="2446560"/>
          </a:xfrm>
          <a:prstGeom prst="rect">
            <a:avLst/>
          </a:prstGeom>
          <a:ln w="0">
            <a:noFill/>
          </a:ln>
        </p:spPr>
      </p:pic>
      <p:sp>
        <p:nvSpPr>
          <p:cNvPr id="197" name="TextBox 6"/>
          <p:cNvSpPr/>
          <p:nvPr/>
        </p:nvSpPr>
        <p:spPr>
          <a:xfrm>
            <a:off x="5029200" y="419112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WARA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    PO BOX 31521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    SEATTLE WA 98103-152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1A10 - What is the FCC Part 97 definition of an amateur station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A station in the Amateur Radio Service consisting of the apparatus necessary for carrying on radio communication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A building where Amateur Radio receivers, transmitters, and RF power amplifiers are installed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Any radio station operated by a non-professiona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Any radio station for hobby us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91A55-7346-4446-8441-0F8BAEBB4857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1A10 - What is the FCC Part 97 definition of an amateur station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A. A station in the Amateur Radio Service consisting of the apparatus necessary for carrying on radio communications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A building where Amateur Radio receivers, transmitters, and RF power amplifiers are installed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Any radio station operated by a non-professiona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Any radio station for hobby us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3045B-95CC-401D-B9FC-C68CDE968A33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A11 - When is willful interference to other amateur radio stations permitted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Only if the station being interfered with is expressing extreme religious or political views 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At no time 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Only during a contes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At any time, amateurs are not protected from willful interferenc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476B4-2216-4092-BDB8-08150D9ACF5C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Certificate of Successful Completion (CSCE)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Eurostile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04B22-0202-4699-B2BD-007E14BEDB59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21044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A11 - When is willful interference to other amateur radio stations permitted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Only if the station being interfered with is expressing extreme religious or political views 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B. At no time 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Only during a contes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At any time, amateurs are not protected from willful interferenc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C4735-5999-488C-AE7D-5FB56A004C7D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1A12 - Which of the following is a permissible use of the Amateur Radio Service? </a:t>
            </a: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533520" y="22093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Broadcasting music and videos to friend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Providing a way for amateur radio operators to earn additional income by using their stations to pass message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Providing low-cost communications for start-up businesse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Allowing a person to conduct radio experiments and to communicate with other licensed hams around the world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67F8E-CCEB-4363-84B7-7F353BE7FE06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1A12 - Which of the following is a permissible use of the Amateur Radio Service? </a:t>
            </a: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33520" y="22093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Broadcasting music and videos to friend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Providing a way for amateur radio operators to earn additional income by using their stations to pass message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Providing low-cost communications for start-up businesse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D. Allowing a person to conduct radio experiments and to communicate with other licensed hams around the world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74470-F282-4C4D-970D-97CAD6B461D5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1A13 - What is the FCC Part 97 definition of telecommand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6840" y="14475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An instruction bulletin issued by the FCC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A one-way radio transmission of measurements at a distance from the measuring instrumen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A one-way transmission to initiate, modify or terminate functions of a device at a distanc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An instruction from a VEC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D2394-0FAC-44DC-92A9-B42B24C0E803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1A13 - What is the FCC Part 97 definition of telecommand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6840" y="14475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An instruction bulletin issued by the FCC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A one-way radio transmission of measurements at a distance from the measuring instrumen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C. A one-way transmission to initiate, modify or terminate functions of a device at a distance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An instruction from a VEC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C8404-BB3C-4583-8A42-DD36738FA73D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1A14 - What must you do if you are operating on the 23 cm band and learn that you are interfering with a radiolocation station outside the United States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914400" y="2590920"/>
            <a:ext cx="7238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Stop operating or take steps to eliminate the harmful interferenc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Nothing, because this band is allocated exclusively to the amateur servic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Establish contact with the radiolocation station and ask them to change frequency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Change to CW mode, because this would not likely cause interferenc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69E34-53BC-49B9-9B31-1E6B015EC138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1A14 - What must you do if you are operating on the 23 cm band and learn that you are interfering with a radiolocation station outside the United States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914400" y="2590920"/>
            <a:ext cx="7238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A. Stop operating or take steps to eliminate the harmful interference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Nothing, because this band is allocated exclusively to the amateur servic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Establish contact with the radiolocation station and ask them to change frequency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Change to CW mode, because this would not likely cause interferenc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ABD02-4E1D-4E65-8C5E-F2766AC0A7B7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66"/>
                </a:solidFill>
                <a:latin typeface="Impact"/>
              </a:rPr>
              <a:t>G1B03 - Which of the following is a purpose of a beacon station as identified in the FCC Rules?</a:t>
            </a: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837720" y="14475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d0d0d"/>
                </a:solidFill>
                <a:latin typeface="Lucida Sans Unicode"/>
                <a:ea typeface="Lucida Sans Unicode"/>
              </a:rPr>
              <a:t>A. Observation of propagation and reception</a:t>
            </a:r>
            <a:endParaRPr b="0" i="1" lang="en-US" sz="2200" spc="-1" strike="noStrike">
              <a:solidFill>
                <a:srgbClr val="0d0d0d"/>
              </a:solidFill>
              <a:latin typeface="Lucida Sans Unicode"/>
            </a:endParaRPr>
          </a:p>
          <a:p>
            <a:pPr lvl="1"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d0d0d"/>
                </a:solidFill>
                <a:latin typeface="Lucida Sans Unicode"/>
                <a:ea typeface="Lucida Sans Unicode"/>
              </a:rPr>
              <a:t>B. Automatic identification of repeaters</a:t>
            </a:r>
            <a:endParaRPr b="0" i="1" lang="en-US" sz="2200" spc="-1" strike="noStrike">
              <a:solidFill>
                <a:srgbClr val="0d0d0d"/>
              </a:solidFill>
              <a:latin typeface="Lucida Sans Unicode"/>
            </a:endParaRPr>
          </a:p>
          <a:p>
            <a:pPr lvl="1"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d0d0d"/>
                </a:solidFill>
                <a:latin typeface="Lucida Sans Unicode"/>
                <a:ea typeface="Lucida Sans Unicode"/>
              </a:rPr>
              <a:t>C. Transmission of bulletins of general interest to Amateur Radio licensees</a:t>
            </a:r>
            <a:endParaRPr b="0" i="1" lang="en-US" sz="2200" spc="-1" strike="noStrike">
              <a:solidFill>
                <a:srgbClr val="0d0d0d"/>
              </a:solidFill>
              <a:latin typeface="Lucida Sans Unicode"/>
            </a:endParaRPr>
          </a:p>
          <a:p>
            <a:pPr lvl="1"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d0d0d"/>
                </a:solidFill>
                <a:latin typeface="Lucida Sans Unicode"/>
                <a:ea typeface="Lucida Sans Unicode"/>
              </a:rPr>
              <a:t>D. Identifying net frequencies</a:t>
            </a:r>
            <a:endParaRPr b="0" i="1" lang="en-US" sz="22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6FCC0-9EDE-44AB-983E-B4F02DEB2504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66"/>
                </a:solidFill>
                <a:latin typeface="Impact"/>
              </a:rPr>
              <a:t>G1B03 - Which of the following is a purpose of a beacon station as identified in the FCC Rules?</a:t>
            </a: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837720" y="14475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000"/>
                </a:solidFill>
                <a:latin typeface="Lucida Sans Unicode"/>
                <a:ea typeface="Lucida Sans Unicode"/>
              </a:rPr>
              <a:t>A. Observation of propagation and recep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1"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d0d0d"/>
                </a:solidFill>
                <a:latin typeface="Lucida Sans Unicode"/>
                <a:ea typeface="Lucida Sans Unicode"/>
              </a:rPr>
              <a:t>B. Automatic identification of repeaters</a:t>
            </a:r>
            <a:endParaRPr b="0" i="1" lang="en-US" sz="2200" spc="-1" strike="noStrike">
              <a:solidFill>
                <a:srgbClr val="0d0d0d"/>
              </a:solidFill>
              <a:latin typeface="Lucida Sans Unicode"/>
            </a:endParaRPr>
          </a:p>
          <a:p>
            <a:pPr lvl="1"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d0d0d"/>
                </a:solidFill>
                <a:latin typeface="Lucida Sans Unicode"/>
                <a:ea typeface="Lucida Sans Unicode"/>
              </a:rPr>
              <a:t>C. Transmission of bulletins of general interest to Amateur Radio licensees</a:t>
            </a:r>
            <a:endParaRPr b="0" i="1" lang="en-US" sz="2200" spc="-1" strike="noStrike">
              <a:solidFill>
                <a:srgbClr val="0d0d0d"/>
              </a:solidFill>
              <a:latin typeface="Lucida Sans Unicode"/>
            </a:endParaRPr>
          </a:p>
          <a:p>
            <a:pPr lvl="1"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d0d0d"/>
                </a:solidFill>
                <a:latin typeface="Lucida Sans Unicode"/>
                <a:ea typeface="Lucida Sans Unicode"/>
              </a:rPr>
              <a:t>D. Identifying net frequencies</a:t>
            </a:r>
            <a:endParaRPr b="0" i="1" lang="en-US" sz="22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90E38-FFA7-43B0-9AA1-3BB3E72C4FCD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B01 - What is the ITU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An agency of the United States Department of Telecommunications Managemen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A United Nations agency for information and communication technology issue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An independent frequency coordination agency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A department of the FCC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3638A-ED81-49C2-A7C6-7110F5E05420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0d0d"/>
                </a:solidFill>
                <a:latin typeface="Impact"/>
              </a:rPr>
              <a:t>FCC Part 97</a:t>
            </a:r>
            <a:endParaRPr b="0" lang="en-US" sz="48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0" y="182844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Comic Sans MS"/>
                <a:ea typeface="Lucida Sans Unicode"/>
              </a:rPr>
              <a:t>Title 47 governs all Telecommunications in the U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2" marL="9144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Comic Sans MS"/>
                <a:ea typeface="Lucida Sans Unicode"/>
              </a:rPr>
              <a:t>There are 301 parts (Part 0-300)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2" marL="9144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1"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Comic Sans MS"/>
                <a:ea typeface="Lucida Sans Unicode"/>
              </a:rPr>
              <a:t>Part 97 applies to Amateur Radio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1"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Comic Sans MS"/>
                <a:ea typeface="Lucida Sans Unicode"/>
              </a:rPr>
              <a:t>Copies available at: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Comic Sans MS"/>
                <a:ea typeface="Lucida Sans Unicode"/>
              </a:rPr>
              <a:t>http://www.arrl.org/FandES/field/regulations/rules-g.html</a:t>
            </a:r>
            <a:br>
              <a:rPr sz="2400"/>
            </a:br>
            <a:r>
              <a:rPr b="0" i="1" lang="en-US" sz="2400" spc="-1" strike="noStrike">
                <a:solidFill>
                  <a:srgbClr val="0d0d0d"/>
                </a:solidFill>
                <a:latin typeface="Comic Sans MS"/>
                <a:ea typeface="Lucida Sans Unicode"/>
              </a:rPr>
              <a:t>http://www.fcc.gov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9455D-8F10-4AD4-AEAD-17D69F8B3D4D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B01 - What is the ITU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An agency of the United States Department of Telecommunications Managemen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B. A United Nations agency for information and communication technology issues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An independent frequency coordination agency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A department of the FCC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F4AFE-B52D-4DD9-BA46-5BA85EA6D8AD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International Telecommunication Union (ITU) Regions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Eurostile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C49E9-53C7-42E5-9369-1FB9573623AB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" name="Picture 3" descr="ITU_Reg"/>
          <p:cNvPicPr/>
          <p:nvPr/>
        </p:nvPicPr>
        <p:blipFill>
          <a:blip r:embed="rId1"/>
          <a:stretch/>
        </p:blipFill>
        <p:spPr>
          <a:xfrm>
            <a:off x="533520" y="1371600"/>
            <a:ext cx="8229600" cy="47656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1B02 - Why are the frequency assignments for some U.S. Territories different from those in the 50 U.S. States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6840" y="23623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Some U. S. Territories are located in ITU regions other than region 2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Territorial governments are allowed to select their own frequency allocation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Territorial frequency allocations must also include those of adjacent countrie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Any territory that was in existence before the ratification of the Communications Act of 1934 is exempt from FCC frequency regulation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B94A4-A1CC-445B-856F-08A5CDF1CBD4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1B02 - Why are the frequency assignments for some U.S. Territories different from those in the 50 U.S. States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6840" y="23623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A. Some U. S. Territories are located in ITU regions other than region 2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Territorial governments are allowed to select their own frequency allocation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Territorial frequency allocations must also include those of adjacent countrie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Any territory that was in existence before the ratification of the Communications Act of 1934 is exempt from FCC frequency regulation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9546C-7C66-48C3-9224-6AA2BDD90082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Wavelength vs Frequency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151920" y="914040"/>
            <a:ext cx="8915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Eurostile"/>
              </a:rPr>
              <a:t>The distance a radio wave travels in one cycle is called </a:t>
            </a:r>
            <a:r>
              <a:rPr b="0" i="1" lang="en-US" sz="2400" spc="-1" strike="noStrike">
                <a:solidFill>
                  <a:srgbClr val="ffc000"/>
                </a:solidFill>
                <a:latin typeface="Eurostile"/>
              </a:rPr>
              <a:t>wavelength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Eurostile"/>
              </a:rPr>
              <a:t>The number of cycles per second is </a:t>
            </a:r>
            <a:r>
              <a:rPr b="0" i="1" lang="en-US" sz="2400" spc="-1" strike="noStrike">
                <a:solidFill>
                  <a:srgbClr val="ffc000"/>
                </a:solidFill>
                <a:latin typeface="Eurostile"/>
              </a:rPr>
              <a:t>frequency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Eurostile"/>
              </a:rPr>
              <a:t>The maximum displacement of wave from reference value is </a:t>
            </a:r>
            <a:r>
              <a:rPr b="0" i="1" lang="en-US" sz="2400" spc="-1" strike="noStrike">
                <a:solidFill>
                  <a:srgbClr val="ffc000"/>
                </a:solidFill>
                <a:latin typeface="Eurostile"/>
              </a:rPr>
              <a:t>amplitud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1EF34-BC8A-4D31-948F-E185CBE8C6AE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1" name="Group 4"/>
          <p:cNvGrpSpPr/>
          <p:nvPr/>
        </p:nvGrpSpPr>
        <p:grpSpPr>
          <a:xfrm>
            <a:off x="1127160" y="2475000"/>
            <a:ext cx="6673680" cy="3765600"/>
            <a:chOff x="1127160" y="2475000"/>
            <a:chExt cx="6673680" cy="3765600"/>
          </a:xfrm>
        </p:grpSpPr>
        <p:sp>
          <p:nvSpPr>
            <p:cNvPr id="272" name="Line 5"/>
            <p:cNvSpPr/>
            <p:nvPr/>
          </p:nvSpPr>
          <p:spPr>
            <a:xfrm>
              <a:off x="1447920" y="4183200"/>
              <a:ext cx="6095880" cy="0"/>
            </a:xfrm>
            <a:prstGeom prst="line">
              <a:avLst/>
            </a:prstGeom>
            <a:ln w="507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Arc 6"/>
            <p:cNvSpPr/>
            <p:nvPr/>
          </p:nvSpPr>
          <p:spPr>
            <a:xfrm rot="10800000">
              <a:off x="1906560" y="4184640"/>
              <a:ext cx="838080" cy="137160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1371600"/>
                <a:gd name="textAreaBottom" fmla="*/ 1371960 h 13716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21600"/>
                  </a:moveTo>
                  <a:cubicBezTo>
                    <a:pt x="0" y="9686"/>
                    <a:pt x="9645" y="22"/>
                    <a:pt x="21559" y="0"/>
                  </a:cubicBezTo>
                </a:path>
                <a:path stroke="0" w="21600" h="21600">
                  <a:moveTo>
                    <a:pt x="0" y="21600"/>
                  </a:moveTo>
                  <a:cubicBezTo>
                    <a:pt x="0" y="9686"/>
                    <a:pt x="9645" y="22"/>
                    <a:pt x="21559" y="0"/>
                  </a:cubicBez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4" name="Group 7"/>
            <p:cNvGrpSpPr/>
            <p:nvPr/>
          </p:nvGrpSpPr>
          <p:grpSpPr>
            <a:xfrm>
              <a:off x="2742840" y="2734920"/>
              <a:ext cx="1602000" cy="1523880"/>
              <a:chOff x="2742840" y="2734920"/>
              <a:chExt cx="1602000" cy="1523880"/>
            </a:xfrm>
          </p:grpSpPr>
          <p:sp>
            <p:nvSpPr>
              <p:cNvPr id="275" name="Arc 8"/>
              <p:cNvSpPr/>
              <p:nvPr/>
            </p:nvSpPr>
            <p:spPr>
              <a:xfrm rot="10800000">
                <a:off x="2742840" y="2734920"/>
                <a:ext cx="762120" cy="1523880"/>
              </a:xfrm>
              <a:custGeom>
                <a:avLst/>
                <a:gdLst>
                  <a:gd name="textAreaLeft" fmla="*/ 0 w 762120"/>
                  <a:gd name="textAreaRight" fmla="*/ 762480 w 762120"/>
                  <a:gd name="textAreaTop" fmla="*/ 0 h 1523880"/>
                  <a:gd name="textAreaBottom" fmla="*/ 1524240 h 152388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599" y="134"/>
                    </a:moveTo>
                    <a:cubicBezTo>
                      <a:pt x="21525" y="12011"/>
                      <a:pt x="11876" y="21599"/>
                      <a:pt x="0" y="21600"/>
                    </a:cubicBezTo>
                  </a:path>
                  <a:path stroke="0" w="21600" h="21600">
                    <a:moveTo>
                      <a:pt x="21599" y="134"/>
                    </a:moveTo>
                    <a:cubicBezTo>
                      <a:pt x="21525" y="12011"/>
                      <a:pt x="11876" y="21599"/>
                      <a:pt x="0" y="21600"/>
                    </a:cubicBezTo>
                    <a:lnTo>
                      <a:pt x="0" y="0"/>
                    </a:lnTo>
                    <a:lnTo>
                      <a:pt x="21599" y="134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Arc 9"/>
              <p:cNvSpPr/>
              <p:nvPr/>
            </p:nvSpPr>
            <p:spPr>
              <a:xfrm rot="10800000">
                <a:off x="3506760" y="2734920"/>
                <a:ext cx="838080" cy="1523880"/>
              </a:xfrm>
              <a:custGeom>
                <a:avLst/>
                <a:gdLst>
                  <a:gd name="textAreaLeft" fmla="*/ 0 w 838080"/>
                  <a:gd name="textAreaRight" fmla="*/ 838440 w 838080"/>
                  <a:gd name="textAreaTop" fmla="*/ 0 h 1523880"/>
                  <a:gd name="textAreaBottom" fmla="*/ 1524240 h 152388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723" y="21600"/>
                      <a:pt x="74" y="12011"/>
                      <a:pt x="0" y="134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723" y="21600"/>
                      <a:pt x="74" y="12011"/>
                      <a:pt x="0" y="134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Group 10"/>
            <p:cNvGrpSpPr/>
            <p:nvPr/>
          </p:nvGrpSpPr>
          <p:grpSpPr>
            <a:xfrm>
              <a:off x="4344840" y="4183200"/>
              <a:ext cx="1598760" cy="1371600"/>
              <a:chOff x="4344840" y="4183200"/>
              <a:chExt cx="1598760" cy="1371600"/>
            </a:xfrm>
          </p:grpSpPr>
          <p:sp>
            <p:nvSpPr>
              <p:cNvPr id="278" name="Arc 11"/>
              <p:cNvSpPr/>
              <p:nvPr/>
            </p:nvSpPr>
            <p:spPr>
              <a:xfrm>
                <a:off x="4344840" y="4183200"/>
                <a:ext cx="762120" cy="1371600"/>
              </a:xfrm>
              <a:custGeom>
                <a:avLst/>
                <a:gdLst>
                  <a:gd name="textAreaLeft" fmla="*/ 0 w 762120"/>
                  <a:gd name="textAreaRight" fmla="*/ 762480 w 762120"/>
                  <a:gd name="textAreaTop" fmla="*/ 0 h 1371600"/>
                  <a:gd name="textAreaBottom" fmla="*/ 1371960 h 13716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719" y="21600"/>
                      <a:pt x="69" y="12005"/>
                      <a:pt x="0" y="124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719" y="21600"/>
                      <a:pt x="69" y="12005"/>
                      <a:pt x="0" y="124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Arc 12"/>
              <p:cNvSpPr/>
              <p:nvPr/>
            </p:nvSpPr>
            <p:spPr>
              <a:xfrm>
                <a:off x="5105520" y="4183200"/>
                <a:ext cx="838080" cy="1371600"/>
              </a:xfrm>
              <a:custGeom>
                <a:avLst/>
                <a:gdLst>
                  <a:gd name="textAreaLeft" fmla="*/ 0 w 838080"/>
                  <a:gd name="textAreaRight" fmla="*/ 838440 w 838080"/>
                  <a:gd name="textAreaTop" fmla="*/ 0 h 1371600"/>
                  <a:gd name="textAreaBottom" fmla="*/ 1371960 h 13716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599" y="124"/>
                    </a:moveTo>
                    <a:cubicBezTo>
                      <a:pt x="21530" y="12005"/>
                      <a:pt x="11880" y="21599"/>
                      <a:pt x="0" y="21600"/>
                    </a:cubicBezTo>
                  </a:path>
                  <a:path stroke="0" w="21600" h="21600">
                    <a:moveTo>
                      <a:pt x="21599" y="124"/>
                    </a:moveTo>
                    <a:cubicBezTo>
                      <a:pt x="21530" y="12005"/>
                      <a:pt x="11880" y="21599"/>
                      <a:pt x="0" y="21600"/>
                    </a:cubicBezTo>
                    <a:lnTo>
                      <a:pt x="0" y="0"/>
                    </a:lnTo>
                    <a:lnTo>
                      <a:pt x="21599" y="124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0" name="Line 13"/>
            <p:cNvSpPr/>
            <p:nvPr/>
          </p:nvSpPr>
          <p:spPr>
            <a:xfrm>
              <a:off x="1447920" y="5554800"/>
              <a:ext cx="6019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Line 14"/>
            <p:cNvSpPr/>
            <p:nvPr/>
          </p:nvSpPr>
          <p:spPr>
            <a:xfrm>
              <a:off x="1447920" y="2735280"/>
              <a:ext cx="6019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Arc 15"/>
            <p:cNvSpPr/>
            <p:nvPr/>
          </p:nvSpPr>
          <p:spPr>
            <a:xfrm>
              <a:off x="5945040" y="2736720"/>
              <a:ext cx="914400" cy="144792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1447920"/>
                <a:gd name="textAreaBottom" fmla="*/ 1448280 h 14479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21600"/>
                  </a:moveTo>
                  <a:cubicBezTo>
                    <a:pt x="0" y="9685"/>
                    <a:pt x="9647" y="20"/>
                    <a:pt x="21562" y="0"/>
                  </a:cubicBezTo>
                </a:path>
                <a:path stroke="0" w="21600" h="21600">
                  <a:moveTo>
                    <a:pt x="0" y="21600"/>
                  </a:moveTo>
                  <a:cubicBezTo>
                    <a:pt x="0" y="9685"/>
                    <a:pt x="9647" y="20"/>
                    <a:pt x="21562" y="0"/>
                  </a:cubicBez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Line 16"/>
            <p:cNvSpPr/>
            <p:nvPr/>
          </p:nvSpPr>
          <p:spPr>
            <a:xfrm>
              <a:off x="2743200" y="2735280"/>
              <a:ext cx="0" cy="3505320"/>
            </a:xfrm>
            <a:prstGeom prst="line">
              <a:avLst/>
            </a:prstGeom>
            <a:ln w="507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Line 17"/>
            <p:cNvSpPr/>
            <p:nvPr/>
          </p:nvSpPr>
          <p:spPr>
            <a:xfrm>
              <a:off x="5943600" y="2735280"/>
              <a:ext cx="0" cy="3505320"/>
            </a:xfrm>
            <a:prstGeom prst="line">
              <a:avLst/>
            </a:prstGeom>
            <a:ln w="507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Rectangle 18"/>
            <p:cNvSpPr/>
            <p:nvPr/>
          </p:nvSpPr>
          <p:spPr>
            <a:xfrm>
              <a:off x="2956320" y="5645160"/>
              <a:ext cx="26708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One Wavelengt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Line 19"/>
            <p:cNvSpPr/>
            <p:nvPr/>
          </p:nvSpPr>
          <p:spPr>
            <a:xfrm>
              <a:off x="6324480" y="4640400"/>
              <a:ext cx="11430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Rectangle 20"/>
            <p:cNvSpPr/>
            <p:nvPr/>
          </p:nvSpPr>
          <p:spPr>
            <a:xfrm>
              <a:off x="6384960" y="4730760"/>
              <a:ext cx="933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Tim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Rectangle 21"/>
            <p:cNvSpPr/>
            <p:nvPr/>
          </p:nvSpPr>
          <p:spPr>
            <a:xfrm>
              <a:off x="1143360" y="2887560"/>
              <a:ext cx="640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V+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Rectangle 22"/>
            <p:cNvSpPr/>
            <p:nvPr/>
          </p:nvSpPr>
          <p:spPr>
            <a:xfrm>
              <a:off x="1127160" y="4944960"/>
              <a:ext cx="5587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V-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Rectangle 23"/>
            <p:cNvSpPr/>
            <p:nvPr/>
          </p:nvSpPr>
          <p:spPr>
            <a:xfrm>
              <a:off x="1127160" y="3892680"/>
              <a:ext cx="619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0V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Line 24"/>
            <p:cNvSpPr/>
            <p:nvPr/>
          </p:nvSpPr>
          <p:spPr>
            <a:xfrm>
              <a:off x="2819520" y="6164280"/>
              <a:ext cx="304776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Line 25"/>
            <p:cNvSpPr/>
            <p:nvPr/>
          </p:nvSpPr>
          <p:spPr>
            <a:xfrm>
              <a:off x="2819520" y="3040200"/>
              <a:ext cx="304776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Rectangle 27"/>
            <p:cNvSpPr/>
            <p:nvPr/>
          </p:nvSpPr>
          <p:spPr>
            <a:xfrm>
              <a:off x="6094800" y="3116160"/>
              <a:ext cx="1706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Amplitud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Line 28"/>
            <p:cNvSpPr/>
            <p:nvPr/>
          </p:nvSpPr>
          <p:spPr>
            <a:xfrm flipV="1">
              <a:off x="6705720" y="281160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Line 29"/>
            <p:cNvSpPr/>
            <p:nvPr/>
          </p:nvSpPr>
          <p:spPr>
            <a:xfrm>
              <a:off x="6705720" y="364968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Rectangle 26"/>
            <p:cNvSpPr/>
            <p:nvPr/>
          </p:nvSpPr>
          <p:spPr>
            <a:xfrm>
              <a:off x="3963960" y="2475000"/>
              <a:ext cx="1692360" cy="51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One Cycl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Rectangle 20"/>
          <p:cNvSpPr/>
          <p:nvPr/>
        </p:nvSpPr>
        <p:spPr>
          <a:xfrm>
            <a:off x="3080520" y="4975200"/>
            <a:ext cx="1033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½ Wa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Rectangle 20"/>
          <p:cNvSpPr/>
          <p:nvPr/>
        </p:nvSpPr>
        <p:spPr>
          <a:xfrm>
            <a:off x="2525760" y="3639960"/>
            <a:ext cx="977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¼ wa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99" name="Elbow Connector 36"/>
          <p:cNvCxnSpPr/>
          <p:nvPr/>
        </p:nvCxnSpPr>
        <p:spPr>
          <a:xfrm flipH="1" flipV="1" rot="5400000">
            <a:off x="2724840" y="3250080"/>
            <a:ext cx="951480" cy="762480"/>
          </a:xfrm>
          <a:prstGeom prst="bentConnector3">
            <a:avLst>
              <a:gd name="adj1" fmla="val 227"/>
            </a:avLst>
          </a:prstGeom>
          <a:ln w="3492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00" name="Elbow Connector 41"/>
          <p:cNvCxnSpPr/>
          <p:nvPr/>
        </p:nvCxnSpPr>
        <p:spPr>
          <a:xfrm flipV="1">
            <a:off x="2819520" y="4230360"/>
            <a:ext cx="1499040" cy="1234080"/>
          </a:xfrm>
          <a:prstGeom prst="bentConnector3">
            <a:avLst>
              <a:gd name="adj1" fmla="val 100000"/>
            </a:avLst>
          </a:prstGeom>
          <a:ln w="34920">
            <a:solidFill>
              <a:srgbClr val="ffffff"/>
            </a:solidFill>
            <a:miter/>
            <a:tailEnd len="med" type="arrow" w="med"/>
          </a:ln>
        </p:spPr>
      </p:cxnSp>
    </p:spTree>
  </p:cSld>
  <p:transition spd="med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Frequency to Wavelength Conversion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52280" y="2438280"/>
            <a:ext cx="88394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To convert from frequency to wavelength in meters: 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000"/>
                </a:solidFill>
                <a:latin typeface="Eurostile"/>
              </a:rPr>
              <a:t>Wavelength = 300/Freq (MHz)</a:t>
            </a:r>
            <a:endParaRPr b="0" i="1" lang="en-US" sz="4000" spc="-1" strike="noStrike">
              <a:solidFill>
                <a:srgbClr val="0d0d0d"/>
              </a:solidFill>
              <a:latin typeface="Lucida Sans Unicode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Eurostile"/>
              </a:rPr>
              <a:t>Frequency and wavelength are inversely proportional – as one increases, the other decrease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Eurostile"/>
              </a:rPr>
              <a:t>Longer (wavelength) – Lower (frequency)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BD9E6-5044-473B-ACA5-59F0EC065FA5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E6C57-BEF3-4ACD-A760-D1CEC71DDF82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7" name="Picture 5" descr=""/>
          <p:cNvPicPr/>
          <p:nvPr/>
        </p:nvPicPr>
        <p:blipFill>
          <a:blip r:embed="rId1"/>
          <a:srcRect l="3411" t="1499" r="0" b="58671"/>
          <a:stretch/>
        </p:blipFill>
        <p:spPr>
          <a:xfrm>
            <a:off x="49320" y="533520"/>
            <a:ext cx="8899560" cy="56703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FCC Line A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24B31-E2E6-4490-85AB-6D273E79392E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1" name="Picture 3" descr="Ma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4520" y="1295280"/>
            <a:ext cx="838980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echnician HF Privileges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2F59-FAB7-4BD2-985F-00D66155C92A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5" name="Picture 5" descr=""/>
          <p:cNvPicPr/>
          <p:nvPr/>
        </p:nvPicPr>
        <p:blipFill>
          <a:blip r:embed="rId1"/>
          <a:srcRect l="2949" t="39667" r="0" b="10496"/>
          <a:stretch/>
        </p:blipFill>
        <p:spPr>
          <a:xfrm>
            <a:off x="2666880" y="666720"/>
            <a:ext cx="6297840" cy="4997520"/>
          </a:xfrm>
          <a:prstGeom prst="rect">
            <a:avLst/>
          </a:prstGeom>
          <a:ln w="0">
            <a:noFill/>
          </a:ln>
        </p:spPr>
      </p:pic>
      <p:sp>
        <p:nvSpPr>
          <p:cNvPr id="316" name="TextBox 6"/>
          <p:cNvSpPr/>
          <p:nvPr/>
        </p:nvSpPr>
        <p:spPr>
          <a:xfrm>
            <a:off x="380880" y="3733920"/>
            <a:ext cx="3505320" cy="228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d0d0d"/>
                </a:solidFill>
                <a:latin typeface="Times New Roman"/>
              </a:rPr>
              <a:t>No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d0d0d"/>
                </a:solidFill>
                <a:latin typeface="Times New Roman"/>
              </a:rPr>
              <a:t>This information does not appear in the Technician exa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d0d0d"/>
                </a:solidFill>
                <a:latin typeface="Times New Roman"/>
              </a:rPr>
              <a:t>Technician Licensees may use up to 1500 watts PE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d0d0d"/>
                </a:solidFill>
                <a:latin typeface="Times New Roman"/>
              </a:rPr>
              <a:t>Technician + HF Licensees may use up to 1500 watts PEP and 200 watts PEP on the HF band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TextBox 7"/>
          <p:cNvSpPr/>
          <p:nvPr/>
        </p:nvSpPr>
        <p:spPr>
          <a:xfrm>
            <a:off x="4419720" y="609480"/>
            <a:ext cx="4545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Impact"/>
              </a:rPr>
              <a:t>Metric Units of Measure</a:t>
            </a:r>
            <a:br>
              <a:rPr sz="29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8075D-6804-4F29-9A72-A0E894E7719C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457200" y="4114800"/>
          <a:ext cx="3651120" cy="1596960"/>
        </p:xfrm>
        <a:graphic>
          <a:graphicData uri="http://schemas.openxmlformats.org/drawingml/2006/table">
            <a:tbl>
              <a:tblPr/>
              <a:tblGrid>
                <a:gridCol w="1552680"/>
                <a:gridCol w="2098440"/>
              </a:tblGrid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Gigahertz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,000,00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Megahertz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,00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Kilohertz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Hertz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2" name=""/>
          <p:cNvGraphicFramePr/>
          <p:nvPr/>
        </p:nvGraphicFramePr>
        <p:xfrm>
          <a:off x="4745160" y="4114800"/>
          <a:ext cx="3803400" cy="1606680"/>
        </p:xfrm>
        <a:graphic>
          <a:graphicData uri="http://schemas.openxmlformats.org/drawingml/2006/table">
            <a:tbl>
              <a:tblPr/>
              <a:tblGrid>
                <a:gridCol w="1982520"/>
                <a:gridCol w="1820880"/>
              </a:tblGrid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Milliampe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0.0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Microampe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0.0000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Nanoampe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0.0000000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3" name="Text Box 70"/>
          <p:cNvSpPr/>
          <p:nvPr/>
        </p:nvSpPr>
        <p:spPr>
          <a:xfrm rot="19080000">
            <a:off x="871560" y="3069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ll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Text Box 71"/>
          <p:cNvSpPr/>
          <p:nvPr/>
        </p:nvSpPr>
        <p:spPr>
          <a:xfrm rot="19080000">
            <a:off x="1333440" y="315576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ousand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Text Box 72"/>
          <p:cNvSpPr/>
          <p:nvPr/>
        </p:nvSpPr>
        <p:spPr>
          <a:xfrm rot="19080000">
            <a:off x="2149560" y="3115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undred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Text Box 73"/>
          <p:cNvSpPr/>
          <p:nvPr/>
        </p:nvSpPr>
        <p:spPr>
          <a:xfrm rot="19080000">
            <a:off x="2843280" y="3142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Text Box 74"/>
          <p:cNvSpPr/>
          <p:nvPr/>
        </p:nvSpPr>
        <p:spPr>
          <a:xfrm flipH="1" rot="2520000">
            <a:off x="4538520" y="3198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nth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Text Box 75"/>
          <p:cNvSpPr/>
          <p:nvPr/>
        </p:nvSpPr>
        <p:spPr>
          <a:xfrm flipH="1" rot="2520000">
            <a:off x="6084000" y="3311280"/>
            <a:ext cx="153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ousandth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Text Box 76"/>
          <p:cNvSpPr/>
          <p:nvPr/>
        </p:nvSpPr>
        <p:spPr>
          <a:xfrm flipH="1" rot="2520000">
            <a:off x="5280120" y="3296880"/>
            <a:ext cx="149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undredth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Text Box 77"/>
          <p:cNvSpPr/>
          <p:nvPr/>
        </p:nvSpPr>
        <p:spPr>
          <a:xfrm flipH="1" rot="2520000">
            <a:off x="6824520" y="32349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llionth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Text Box 80"/>
          <p:cNvSpPr/>
          <p:nvPr/>
        </p:nvSpPr>
        <p:spPr>
          <a:xfrm>
            <a:off x="1523880" y="1295280"/>
            <a:ext cx="26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LARGER    th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Text Box 81"/>
          <p:cNvSpPr/>
          <p:nvPr/>
        </p:nvSpPr>
        <p:spPr>
          <a:xfrm>
            <a:off x="5367240" y="1295280"/>
            <a:ext cx="31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SMALLER   than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Text Box 82"/>
          <p:cNvSpPr/>
          <p:nvPr/>
        </p:nvSpPr>
        <p:spPr>
          <a:xfrm>
            <a:off x="4267080" y="1295280"/>
            <a:ext cx="3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4" name="Group 3"/>
          <p:cNvGrpSpPr/>
          <p:nvPr/>
        </p:nvGrpSpPr>
        <p:grpSpPr>
          <a:xfrm>
            <a:off x="914400" y="1752480"/>
            <a:ext cx="8761320" cy="1465200"/>
            <a:chOff x="914400" y="1752480"/>
            <a:chExt cx="8761320" cy="1465200"/>
          </a:xfrm>
        </p:grpSpPr>
        <p:sp>
          <p:nvSpPr>
            <p:cNvPr id="335" name="Rectangle 4"/>
            <p:cNvSpPr/>
            <p:nvPr/>
          </p:nvSpPr>
          <p:spPr>
            <a:xfrm>
              <a:off x="914400" y="1752480"/>
              <a:ext cx="87613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0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9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10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6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10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3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10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10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10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0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10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-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10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-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10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-3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10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-6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10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-9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10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-12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G      M      k       h     da             d        c      m      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µ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n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p     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Text Box 5"/>
            <p:cNvSpPr/>
            <p:nvPr/>
          </p:nvSpPr>
          <p:spPr>
            <a:xfrm>
              <a:off x="966960" y="2514600"/>
              <a:ext cx="845640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giga    </a:t>
              </a:r>
              <a:r>
                <a:rPr b="1" lang="en-US" sz="16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mega    kilo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   hecto   deca 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0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   deci     centi     </a:t>
              </a:r>
              <a:r>
                <a:rPr b="1" lang="en-US" sz="16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milli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    </a:t>
              </a:r>
              <a:r>
                <a:rPr b="1" lang="en-US" sz="16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micro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   nano  pico</a:t>
              </a:r>
              <a:r>
                <a:rPr b="0" lang="en-US" sz="1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FCC Universal License System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137124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  <a:ea typeface="Lucida Sans Unicode"/>
              </a:rPr>
              <a:t>Online License Service http://wireless.fcc.gov/uls/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1"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1"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  <a:ea typeface="Lucida Sans Unicode"/>
              </a:rPr>
              <a:t>Tracks all FCC License Applications and Licensee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1"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1"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  <a:ea typeface="Lucida Sans Unicode"/>
              </a:rPr>
              <a:t>When your license shows up here, you’re legal </a:t>
            </a:r>
            <a:r>
              <a:rPr b="0" i="1" lang="en-US" sz="2400" spc="-1" strike="noStrike">
                <a:solidFill>
                  <a:srgbClr val="0d0d0d"/>
                </a:solidFill>
                <a:latin typeface="Wingdings"/>
                <a:ea typeface="Wingdings"/>
              </a:rPr>
              <a:t>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368A0-DE98-4A4E-A249-0E1F40B28ED1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requency Calculations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380520" y="914040"/>
            <a:ext cx="4869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d0d0d"/>
                </a:solidFill>
                <a:uFillTx/>
                <a:latin typeface="Eurostile"/>
                <a:ea typeface="Times New Roman"/>
              </a:rPr>
              <a:t>300</a:t>
            </a:r>
            <a:r>
              <a:rPr b="0" i="1" lang="en-US" sz="2000" spc="-1" strike="noStrike">
                <a:solidFill>
                  <a:srgbClr val="0d0d0d"/>
                </a:solidFill>
                <a:latin typeface="Eurostile"/>
                <a:ea typeface="Times New Roman"/>
              </a:rPr>
              <a:t>   is the Speed of Light in free space</a:t>
            </a:r>
            <a:endParaRPr b="0" i="1" lang="en-US" sz="2000" spc="-1" strike="noStrike">
              <a:solidFill>
                <a:srgbClr val="0d0d0d"/>
              </a:solidFill>
              <a:latin typeface="Lucida Sans Unicode"/>
            </a:endParaRPr>
          </a:p>
          <a:p>
            <a:pPr lvl="1" marL="4572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Lucida Sans Unicode"/>
                <a:ea typeface="Times New Roman"/>
              </a:rPr>
              <a:t>Radio wave travel at the Speed of Light</a:t>
            </a:r>
            <a:endParaRPr b="0" i="1" lang="en-US" sz="1800" spc="-1" strike="noStrike">
              <a:solidFill>
                <a:srgbClr val="0d0d0d"/>
              </a:solidFill>
              <a:latin typeface="Lucida Sans Unicode"/>
            </a:endParaRPr>
          </a:p>
          <a:p>
            <a:pPr lvl="1" marL="4572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Lucida Sans Unicode"/>
                <a:ea typeface="Times New Roman"/>
              </a:rPr>
              <a:t>300,000,000 meters per second</a:t>
            </a:r>
            <a:endParaRPr b="0" i="1" lang="en-US" sz="1800" spc="-1" strike="noStrike">
              <a:solidFill>
                <a:srgbClr val="0d0d0d"/>
              </a:solidFill>
              <a:latin typeface="Lucida Sans Unicode"/>
            </a:endParaRPr>
          </a:p>
          <a:p>
            <a:pPr lvl="1" marL="4572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Lucida Sans Unicode"/>
                <a:ea typeface="Times New Roman"/>
              </a:rPr>
              <a:t>Radio waves moves slower in wire</a:t>
            </a:r>
            <a:endParaRPr b="0" i="1" lang="en-US" sz="1800" spc="-1" strike="noStrike">
              <a:solidFill>
                <a:srgbClr val="0d0d0d"/>
              </a:solidFill>
              <a:latin typeface="Lucida Sans Unicode"/>
            </a:endParaRPr>
          </a:p>
          <a:p>
            <a:pPr lvl="1" marL="4572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Lucida Sans Unicode"/>
                <a:ea typeface="Times New Roman"/>
              </a:rPr>
              <a:t>Velocity Factor is speed in a material divided by the speed of light   i.e.   .66</a:t>
            </a:r>
            <a:endParaRPr b="0" i="1" lang="en-US" sz="1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d0d0d"/>
                </a:solidFill>
                <a:uFillTx/>
                <a:latin typeface="Eurostile"/>
                <a:ea typeface="Times New Roman"/>
              </a:rPr>
              <a:t>f</a:t>
            </a:r>
            <a:r>
              <a:rPr b="1" i="1" lang="en-US" sz="2000" spc="-1" strike="noStrike">
                <a:solidFill>
                  <a:srgbClr val="0d0d0d"/>
                </a:solidFill>
                <a:latin typeface="Eurostile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d0d0d"/>
                </a:solidFill>
                <a:latin typeface="Eurostile"/>
                <a:ea typeface="Times New Roman"/>
              </a:rPr>
              <a:t>  is frequency in millions (MHz)</a:t>
            </a:r>
            <a:endParaRPr b="0" i="1" lang="en-US" sz="2000" spc="-1" strike="noStrike">
              <a:solidFill>
                <a:srgbClr val="0d0d0d"/>
              </a:solidFill>
              <a:latin typeface="Lucida Sans Unicode"/>
            </a:endParaRPr>
          </a:p>
          <a:p>
            <a:pPr lvl="1" marL="4572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Lucida Sans Unicode"/>
                <a:ea typeface="Times New Roman"/>
              </a:rPr>
              <a:t>The millions of  cycles cancel the millions of meters 146,520,000   =   146.53 MHz</a:t>
            </a:r>
            <a:endParaRPr b="0" i="1" lang="en-US" sz="1800" spc="-1" strike="noStrike">
              <a:solidFill>
                <a:srgbClr val="0d0d0d"/>
              </a:solidFill>
              <a:latin typeface="Lucida Sans Unicode"/>
            </a:endParaRPr>
          </a:p>
          <a:p>
            <a:pPr lvl="1" marL="45720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d0d0d"/>
                </a:solidFill>
                <a:uFillTx/>
                <a:latin typeface="Eurostile"/>
                <a:ea typeface="Times New Roman"/>
              </a:rPr>
              <a:t>m</a:t>
            </a:r>
            <a:r>
              <a:rPr b="0" i="1" lang="en-US" sz="2000" spc="-1" strike="noStrike">
                <a:solidFill>
                  <a:srgbClr val="0d0d0d"/>
                </a:solidFill>
                <a:latin typeface="Eurostile"/>
                <a:ea typeface="Times New Roman"/>
              </a:rPr>
              <a:t>   is Wave length in Meters or the distance                     </a:t>
            </a:r>
            <a:r>
              <a:rPr b="0" i="1" lang="en-US" sz="2000" spc="-1" strike="noStrike">
                <a:solidFill>
                  <a:srgbClr val="0d0d0d"/>
                </a:solidFill>
                <a:latin typeface="Eurostile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d0d0d"/>
                </a:solidFill>
                <a:latin typeface="Eurostile"/>
                <a:ea typeface="Times New Roman"/>
              </a:rPr>
              <a:t>of a full cycle</a:t>
            </a:r>
            <a:endParaRPr b="0" i="1" lang="en-US" sz="2000" spc="-1" strike="noStrike">
              <a:solidFill>
                <a:srgbClr val="0d0d0d"/>
              </a:solidFill>
              <a:latin typeface="Lucida Sans Unicode"/>
            </a:endParaRPr>
          </a:p>
          <a:p>
            <a:pPr lvl="1" marL="4572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Lucida Sans Unicode"/>
                <a:ea typeface="Times New Roman"/>
              </a:rPr>
              <a:t>How far it takes a wave to complete a complete cycle</a:t>
            </a:r>
            <a:endParaRPr b="0" i="1" lang="en-US" sz="1800" spc="-1" strike="noStrike">
              <a:solidFill>
                <a:srgbClr val="0d0d0d"/>
              </a:solidFill>
              <a:latin typeface="Lucida Sans Unicode"/>
            </a:endParaRPr>
          </a:p>
          <a:p>
            <a:pPr lvl="1" marL="4572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Lucida Sans Unicode"/>
                <a:ea typeface="Times New Roman"/>
              </a:rPr>
              <a:t>The higher the frequency the lower the meter (shorter)</a:t>
            </a:r>
            <a:endParaRPr b="0" i="1" lang="en-US" sz="1800" spc="-1" strike="noStrike">
              <a:solidFill>
                <a:srgbClr val="0d0d0d"/>
              </a:solidFill>
              <a:latin typeface="Lucida Sans Unicode"/>
            </a:endParaRPr>
          </a:p>
          <a:p>
            <a:pPr lvl="1" marL="4572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Lucida Sans Unicode"/>
                <a:ea typeface="Times New Roman"/>
              </a:rPr>
              <a:t>The lower the frequency the higher the meters (longer)</a:t>
            </a:r>
            <a:endParaRPr b="0" i="1" lang="en-US" sz="1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9EB34-39FB-4978-8F4B-D5860AEE946A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1" name="Group 5"/>
          <p:cNvGrpSpPr/>
          <p:nvPr/>
        </p:nvGrpSpPr>
        <p:grpSpPr>
          <a:xfrm>
            <a:off x="5486400" y="1486080"/>
            <a:ext cx="2743200" cy="2666880"/>
            <a:chOff x="5486400" y="1486080"/>
            <a:chExt cx="2743200" cy="2666880"/>
          </a:xfrm>
        </p:grpSpPr>
        <p:grpSp>
          <p:nvGrpSpPr>
            <p:cNvPr id="342" name="Group 6"/>
            <p:cNvGrpSpPr/>
            <p:nvPr/>
          </p:nvGrpSpPr>
          <p:grpSpPr>
            <a:xfrm>
              <a:off x="5486400" y="1486080"/>
              <a:ext cx="2743200" cy="2666880"/>
              <a:chOff x="5486400" y="1486080"/>
              <a:chExt cx="2743200" cy="2666880"/>
            </a:xfrm>
          </p:grpSpPr>
          <p:sp>
            <p:nvSpPr>
              <p:cNvPr id="343" name="Oval 7"/>
              <p:cNvSpPr/>
              <p:nvPr/>
            </p:nvSpPr>
            <p:spPr>
              <a:xfrm>
                <a:off x="5486400" y="1486080"/>
                <a:ext cx="2743200" cy="266688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Line 8"/>
              <p:cNvSpPr/>
              <p:nvPr/>
            </p:nvSpPr>
            <p:spPr>
              <a:xfrm>
                <a:off x="5486400" y="2857680"/>
                <a:ext cx="2743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Line 9"/>
              <p:cNvSpPr/>
              <p:nvPr/>
            </p:nvSpPr>
            <p:spPr>
              <a:xfrm flipV="1">
                <a:off x="6858000" y="2857680"/>
                <a:ext cx="0" cy="1295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6" name="Text Box 10"/>
            <p:cNvSpPr/>
            <p:nvPr/>
          </p:nvSpPr>
          <p:spPr>
            <a:xfrm>
              <a:off x="6248520" y="1943280"/>
              <a:ext cx="1181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ahoma"/>
                  <a:ea typeface="Arial"/>
                </a:rPr>
                <a:t>300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Text Box 11"/>
            <p:cNvSpPr/>
            <p:nvPr/>
          </p:nvSpPr>
          <p:spPr>
            <a:xfrm>
              <a:off x="6172200" y="308628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ahoma"/>
                  <a:ea typeface="Arial"/>
                </a:rPr>
                <a:t>m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Text Box 12"/>
            <p:cNvSpPr/>
            <p:nvPr/>
          </p:nvSpPr>
          <p:spPr>
            <a:xfrm>
              <a:off x="7162920" y="308628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ahoma"/>
                  <a:ea typeface="Arial"/>
                </a:rPr>
                <a:t>f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9" name="Text Box 14"/>
          <p:cNvSpPr/>
          <p:nvPr/>
        </p:nvSpPr>
        <p:spPr>
          <a:xfrm>
            <a:off x="5249880" y="46483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300 = m x 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1B03 - Which frequency is within the 6 meter band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295280" y="11430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49.00 MHz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52.525 MHz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28.50 MHz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222.15 MHz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BE6EF-19BD-4536-91AF-7D6B3E42F9E6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1B03 - Which frequency is within the 6 meter band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295280" y="11430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49.00 MHz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B. 52.525 MHz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28.50 MHz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222.15 MHz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	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8D017-EB16-4667-B064-DA6DD2527C56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8" name="Group 5"/>
          <p:cNvGrpSpPr/>
          <p:nvPr/>
        </p:nvGrpSpPr>
        <p:grpSpPr>
          <a:xfrm>
            <a:off x="5334120" y="1255680"/>
            <a:ext cx="2743200" cy="2666880"/>
            <a:chOff x="5334120" y="1255680"/>
            <a:chExt cx="2743200" cy="2666880"/>
          </a:xfrm>
        </p:grpSpPr>
        <p:grpSp>
          <p:nvGrpSpPr>
            <p:cNvPr id="359" name="Group 6"/>
            <p:cNvGrpSpPr/>
            <p:nvPr/>
          </p:nvGrpSpPr>
          <p:grpSpPr>
            <a:xfrm>
              <a:off x="5334120" y="1255680"/>
              <a:ext cx="2743200" cy="2666880"/>
              <a:chOff x="5334120" y="1255680"/>
              <a:chExt cx="2743200" cy="2666880"/>
            </a:xfrm>
          </p:grpSpPr>
          <p:sp>
            <p:nvSpPr>
              <p:cNvPr id="360" name="Oval 7"/>
              <p:cNvSpPr/>
              <p:nvPr/>
            </p:nvSpPr>
            <p:spPr>
              <a:xfrm>
                <a:off x="5334120" y="1255680"/>
                <a:ext cx="2743200" cy="266688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Line 8"/>
              <p:cNvSpPr/>
              <p:nvPr/>
            </p:nvSpPr>
            <p:spPr>
              <a:xfrm>
                <a:off x="5334120" y="2627280"/>
                <a:ext cx="2743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Line 9"/>
              <p:cNvSpPr/>
              <p:nvPr/>
            </p:nvSpPr>
            <p:spPr>
              <a:xfrm flipV="1">
                <a:off x="6705720" y="2627280"/>
                <a:ext cx="0" cy="1295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3" name="Text Box 10"/>
            <p:cNvSpPr/>
            <p:nvPr/>
          </p:nvSpPr>
          <p:spPr>
            <a:xfrm>
              <a:off x="6096240" y="1712880"/>
              <a:ext cx="1181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ahoma"/>
                  <a:ea typeface="Arial"/>
                </a:rPr>
                <a:t>300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Text Box 11"/>
            <p:cNvSpPr/>
            <p:nvPr/>
          </p:nvSpPr>
          <p:spPr>
            <a:xfrm>
              <a:off x="5723280" y="2855880"/>
              <a:ext cx="963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ahoma"/>
                  <a:ea typeface="Arial"/>
                </a:rPr>
                <a:t>6m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Text Box 12"/>
            <p:cNvSpPr/>
            <p:nvPr/>
          </p:nvSpPr>
          <p:spPr>
            <a:xfrm>
              <a:off x="7010640" y="285588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ahoma"/>
                  <a:ea typeface="Arial"/>
                </a:rPr>
                <a:t>f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6" name="Rectangle 13"/>
          <p:cNvSpPr/>
          <p:nvPr/>
        </p:nvSpPr>
        <p:spPr>
          <a:xfrm>
            <a:off x="4114800" y="430200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f  =  50 MH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6m Band 50 to 54 MH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Rectangle 14"/>
          <p:cNvSpPr/>
          <p:nvPr/>
        </p:nvSpPr>
        <p:spPr>
          <a:xfrm>
            <a:off x="685800" y="388620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2d050"/>
                </a:solidFill>
                <a:latin typeface="Times New Roman"/>
              </a:rPr>
              <a:t>What are you looking fo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2d050"/>
                </a:solidFill>
                <a:latin typeface="Times New Roman"/>
              </a:rPr>
              <a:t>What do you hav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8" name="Picture 15" descr=""/>
          <p:cNvPicPr/>
          <p:nvPr/>
        </p:nvPicPr>
        <p:blipFill>
          <a:blip r:embed="rId1"/>
          <a:srcRect l="20831" t="35666" r="0" b="60171"/>
          <a:stretch/>
        </p:blipFill>
        <p:spPr>
          <a:xfrm>
            <a:off x="695160" y="5486400"/>
            <a:ext cx="7753680" cy="6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B04 - Which amateur band are you using when your station is transmitting on 146.52 MHz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990720" y="2286000"/>
            <a:ext cx="6400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2 meter band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20 meter band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14 meter band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6 meter band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859A-5C60-41A9-9CD5-D64F14C14490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B04 - Which amateur band are you using when your station is transmitting on 146.52 MHz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1003320" y="2265480"/>
            <a:ext cx="6400800" cy="30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A. 2 meter band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20 meter band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14 meter band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6 meter band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6485D-CCE3-4CD4-B327-63BFA54F51FD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7" name="Group 5"/>
          <p:cNvGrpSpPr/>
          <p:nvPr/>
        </p:nvGrpSpPr>
        <p:grpSpPr>
          <a:xfrm>
            <a:off x="5486400" y="1486080"/>
            <a:ext cx="3467160" cy="2666880"/>
            <a:chOff x="5486400" y="1486080"/>
            <a:chExt cx="3467160" cy="2666880"/>
          </a:xfrm>
        </p:grpSpPr>
        <p:grpSp>
          <p:nvGrpSpPr>
            <p:cNvPr id="378" name="Group 6"/>
            <p:cNvGrpSpPr/>
            <p:nvPr/>
          </p:nvGrpSpPr>
          <p:grpSpPr>
            <a:xfrm>
              <a:off x="5486400" y="1486080"/>
              <a:ext cx="2743200" cy="2666880"/>
              <a:chOff x="5486400" y="1486080"/>
              <a:chExt cx="2743200" cy="2666880"/>
            </a:xfrm>
          </p:grpSpPr>
          <p:sp>
            <p:nvSpPr>
              <p:cNvPr id="379" name="Oval 7"/>
              <p:cNvSpPr/>
              <p:nvPr/>
            </p:nvSpPr>
            <p:spPr>
              <a:xfrm>
                <a:off x="5486400" y="1486080"/>
                <a:ext cx="2743200" cy="266688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Line 8"/>
              <p:cNvSpPr/>
              <p:nvPr/>
            </p:nvSpPr>
            <p:spPr>
              <a:xfrm>
                <a:off x="5486400" y="2857680"/>
                <a:ext cx="2743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Line 9"/>
              <p:cNvSpPr/>
              <p:nvPr/>
            </p:nvSpPr>
            <p:spPr>
              <a:xfrm flipV="1">
                <a:off x="6858000" y="2857680"/>
                <a:ext cx="0" cy="1295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2" name="Text Box 10"/>
            <p:cNvSpPr/>
            <p:nvPr/>
          </p:nvSpPr>
          <p:spPr>
            <a:xfrm>
              <a:off x="6248520" y="1943280"/>
              <a:ext cx="1181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ahoma"/>
                  <a:ea typeface="Arial"/>
                </a:rPr>
                <a:t>300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Text Box 11"/>
            <p:cNvSpPr/>
            <p:nvPr/>
          </p:nvSpPr>
          <p:spPr>
            <a:xfrm>
              <a:off x="6172200" y="308628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ahoma"/>
                  <a:ea typeface="Arial"/>
                </a:rPr>
                <a:t>m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Text Box 12"/>
            <p:cNvSpPr/>
            <p:nvPr/>
          </p:nvSpPr>
          <p:spPr>
            <a:xfrm>
              <a:off x="7010640" y="3086280"/>
              <a:ext cx="1942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ahoma"/>
                  <a:ea typeface="Arial"/>
                </a:rPr>
                <a:t>146.52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5" name="Rectangle 13"/>
          <p:cNvSpPr/>
          <p:nvPr/>
        </p:nvSpPr>
        <p:spPr>
          <a:xfrm>
            <a:off x="4952880" y="4267080"/>
            <a:ext cx="3505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  =  300 / 146.5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 = 2.047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2 meter b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Rectangle 14"/>
          <p:cNvSpPr/>
          <p:nvPr/>
        </p:nvSpPr>
        <p:spPr>
          <a:xfrm>
            <a:off x="914400" y="41004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2d050"/>
                </a:solidFill>
                <a:latin typeface="Times New Roman"/>
              </a:rPr>
              <a:t>What are you looking fo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2d050"/>
                </a:solidFill>
                <a:latin typeface="Times New Roman"/>
              </a:rPr>
              <a:t>What do you hav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7" name="Picture 15" descr=""/>
          <p:cNvPicPr/>
          <p:nvPr/>
        </p:nvPicPr>
        <p:blipFill>
          <a:blip r:embed="rId1"/>
          <a:srcRect l="21674" t="29836" r="-1070" b="64837"/>
          <a:stretch/>
        </p:blipFill>
        <p:spPr>
          <a:xfrm>
            <a:off x="380880" y="5651640"/>
            <a:ext cx="6332760" cy="65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B05 -  Which 70 cm frequency is authorized to a Technician Class license holder operating in ITU Region 2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1143000" y="213336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53.350 MHz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146.520 MHz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443.350 MHz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222.520 MHz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A8034-D0FD-495B-A8EA-A3BE100DE86A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1B05 -  Which 70 cm frequency is authorized to a Technician Class license holder operating in ITU Region 2?</a:t>
            </a: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1143000" y="213336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53.350 MHz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146.520 MHz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C. 443.350 MHz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222.520 MHz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E025B-56C4-410C-B55F-0FE33241D561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457200" y="42670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2d050"/>
                </a:solidFill>
                <a:latin typeface="Times New Roman"/>
              </a:rPr>
              <a:t>What are you looking fo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2d050"/>
                </a:solidFill>
                <a:latin typeface="Times New Roman"/>
              </a:rPr>
              <a:t>What do you hav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7" name="Group 6"/>
          <p:cNvGrpSpPr/>
          <p:nvPr/>
        </p:nvGrpSpPr>
        <p:grpSpPr>
          <a:xfrm>
            <a:off x="5097600" y="1486080"/>
            <a:ext cx="3132000" cy="2666880"/>
            <a:chOff x="5097600" y="1486080"/>
            <a:chExt cx="3132000" cy="2666880"/>
          </a:xfrm>
        </p:grpSpPr>
        <p:grpSp>
          <p:nvGrpSpPr>
            <p:cNvPr id="398" name="Group 7"/>
            <p:cNvGrpSpPr/>
            <p:nvPr/>
          </p:nvGrpSpPr>
          <p:grpSpPr>
            <a:xfrm>
              <a:off x="5486400" y="1486080"/>
              <a:ext cx="2743200" cy="2666880"/>
              <a:chOff x="5486400" y="1486080"/>
              <a:chExt cx="2743200" cy="2666880"/>
            </a:xfrm>
          </p:grpSpPr>
          <p:sp>
            <p:nvSpPr>
              <p:cNvPr id="399" name="Oval 7"/>
              <p:cNvSpPr/>
              <p:nvPr/>
            </p:nvSpPr>
            <p:spPr>
              <a:xfrm>
                <a:off x="5486400" y="1486080"/>
                <a:ext cx="2743200" cy="266688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Line 8"/>
              <p:cNvSpPr/>
              <p:nvPr/>
            </p:nvSpPr>
            <p:spPr>
              <a:xfrm>
                <a:off x="5486400" y="2857680"/>
                <a:ext cx="2743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Line 9"/>
              <p:cNvSpPr/>
              <p:nvPr/>
            </p:nvSpPr>
            <p:spPr>
              <a:xfrm flipV="1">
                <a:off x="6858000" y="2857680"/>
                <a:ext cx="0" cy="1295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02" name="Text Box 10"/>
            <p:cNvSpPr/>
            <p:nvPr/>
          </p:nvSpPr>
          <p:spPr>
            <a:xfrm>
              <a:off x="6248520" y="1943280"/>
              <a:ext cx="1181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ahoma"/>
                  <a:ea typeface="Arial"/>
                </a:rPr>
                <a:t>300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Text Box 11"/>
            <p:cNvSpPr/>
            <p:nvPr/>
          </p:nvSpPr>
          <p:spPr>
            <a:xfrm>
              <a:off x="5097600" y="3086280"/>
              <a:ext cx="160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ahoma"/>
                  <a:ea typeface="Arial"/>
                </a:rPr>
                <a:t>70 cm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Text Box 12"/>
            <p:cNvSpPr/>
            <p:nvPr/>
          </p:nvSpPr>
          <p:spPr>
            <a:xfrm>
              <a:off x="7231320" y="310356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ahoma"/>
                  <a:ea typeface="Arial"/>
                </a:rPr>
                <a:t>f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5" name="Rectangle 14"/>
          <p:cNvSpPr/>
          <p:nvPr/>
        </p:nvSpPr>
        <p:spPr>
          <a:xfrm>
            <a:off x="5516640" y="4319640"/>
            <a:ext cx="329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70 cm  =  0.70 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 = 300 / 0.7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 = 428.57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70 cm band 420 to 4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6" name="Picture 15" descr=""/>
          <p:cNvPicPr/>
          <p:nvPr/>
        </p:nvPicPr>
        <p:blipFill>
          <a:blip r:embed="rId1"/>
          <a:srcRect l="21650" t="20169" r="6271" b="75999"/>
          <a:stretch/>
        </p:blipFill>
        <p:spPr>
          <a:xfrm>
            <a:off x="277920" y="5711760"/>
            <a:ext cx="513216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1B06 - Which 23 cm frequency is authorized to a Technician Class licensee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1066680" y="144792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2315 MHz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1296 MHz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3390 MHz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146.52 MHz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EFADA-21AB-4969-B335-ED63F209D40B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1B06 - Which 23 cm frequency is authorized to a Technician Class licensee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1066680" y="144792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2315 MHz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B. 1296 MHz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3390 MHz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146.52 MHz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031AE-6499-4320-BA39-376F26199BF6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5" name="Group 5"/>
          <p:cNvGrpSpPr/>
          <p:nvPr/>
        </p:nvGrpSpPr>
        <p:grpSpPr>
          <a:xfrm>
            <a:off x="5227560" y="1255680"/>
            <a:ext cx="2849400" cy="2666880"/>
            <a:chOff x="5227560" y="1255680"/>
            <a:chExt cx="2849400" cy="2666880"/>
          </a:xfrm>
        </p:grpSpPr>
        <p:grpSp>
          <p:nvGrpSpPr>
            <p:cNvPr id="416" name="Group 6"/>
            <p:cNvGrpSpPr/>
            <p:nvPr/>
          </p:nvGrpSpPr>
          <p:grpSpPr>
            <a:xfrm>
              <a:off x="5333760" y="1255680"/>
              <a:ext cx="2743200" cy="2666880"/>
              <a:chOff x="5333760" y="1255680"/>
              <a:chExt cx="2743200" cy="2666880"/>
            </a:xfrm>
          </p:grpSpPr>
          <p:sp>
            <p:nvSpPr>
              <p:cNvPr id="417" name="Oval 7"/>
              <p:cNvSpPr/>
              <p:nvPr/>
            </p:nvSpPr>
            <p:spPr>
              <a:xfrm>
                <a:off x="5333760" y="1255680"/>
                <a:ext cx="2743200" cy="266688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Line 8"/>
              <p:cNvSpPr/>
              <p:nvPr/>
            </p:nvSpPr>
            <p:spPr>
              <a:xfrm>
                <a:off x="5333760" y="2627280"/>
                <a:ext cx="2743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Line 9"/>
              <p:cNvSpPr/>
              <p:nvPr/>
            </p:nvSpPr>
            <p:spPr>
              <a:xfrm flipV="1">
                <a:off x="6705360" y="2627280"/>
                <a:ext cx="0" cy="1295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20" name="Text Box 10"/>
            <p:cNvSpPr/>
            <p:nvPr/>
          </p:nvSpPr>
          <p:spPr>
            <a:xfrm>
              <a:off x="6095880" y="1712880"/>
              <a:ext cx="1181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ahoma"/>
                  <a:ea typeface="Arial"/>
                </a:rPr>
                <a:t>300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Text Box 11"/>
            <p:cNvSpPr/>
            <p:nvPr/>
          </p:nvSpPr>
          <p:spPr>
            <a:xfrm>
              <a:off x="5227560" y="281916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ahoma"/>
                  <a:ea typeface="Arial"/>
                </a:rPr>
                <a:t>23cm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Text Box 12"/>
            <p:cNvSpPr/>
            <p:nvPr/>
          </p:nvSpPr>
          <p:spPr>
            <a:xfrm>
              <a:off x="7010280" y="285588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ahoma"/>
                  <a:ea typeface="Arial"/>
                </a:rPr>
                <a:t>f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3" name="Rectangle 13"/>
          <p:cNvSpPr/>
          <p:nvPr/>
        </p:nvSpPr>
        <p:spPr>
          <a:xfrm>
            <a:off x="685800" y="388620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2d050"/>
                </a:solidFill>
                <a:latin typeface="Times New Roman"/>
              </a:rPr>
              <a:t>What are you looking fo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2d050"/>
                </a:solidFill>
                <a:latin typeface="Times New Roman"/>
              </a:rPr>
              <a:t>What do you hav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Rectangle 14"/>
          <p:cNvSpPr/>
          <p:nvPr/>
        </p:nvSpPr>
        <p:spPr>
          <a:xfrm>
            <a:off x="4876920" y="4038480"/>
            <a:ext cx="3900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23 cm  =  0.23 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300 / 0.23  =  1304.34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23 cm band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1240  to 1300 MH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5" name="Picture 15" descr=""/>
          <p:cNvPicPr/>
          <p:nvPr/>
        </p:nvPicPr>
        <p:blipFill>
          <a:blip r:embed="rId1"/>
          <a:srcRect l="22444" t="9059" r="2974" b="85499"/>
          <a:stretch/>
        </p:blipFill>
        <p:spPr>
          <a:xfrm>
            <a:off x="152280" y="5791320"/>
            <a:ext cx="5075280" cy="5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B07 - What amateur band are you using if you are transmitting on 223.50 MHz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09480" y="23619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15 meter band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10 meter band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2 meter band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1.25 meter band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31902-2944-4BC3-B657-D38A982F1E81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Definitions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75960" y="13712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Regulatory Body</a:t>
            </a:r>
            <a:r>
              <a:rPr b="0" i="1" lang="en-US" sz="2400" spc="-1" strike="noStrike">
                <a:solidFill>
                  <a:srgbClr val="ffffff"/>
                </a:solidFill>
                <a:latin typeface="Eurostile"/>
              </a:rPr>
              <a:t> </a:t>
            </a:r>
            <a:r>
              <a:rPr b="0" i="1" lang="en-US" sz="2400" spc="-1" strike="noStrike">
                <a:solidFill>
                  <a:srgbClr val="ffc000"/>
                </a:solidFill>
                <a:latin typeface="Eurostile"/>
              </a:rPr>
              <a:t>– FCC rules are defined in Part 97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mateur Service</a:t>
            </a:r>
            <a:r>
              <a:rPr b="0" i="1" lang="en-US" sz="2400" spc="-1" strike="noStrike">
                <a:solidFill>
                  <a:srgbClr val="ffffff"/>
                </a:solidFill>
                <a:latin typeface="Eurostile"/>
              </a:rPr>
              <a:t> </a:t>
            </a:r>
            <a:r>
              <a:rPr b="0" i="1" lang="en-US" sz="2400" spc="-1" strike="noStrike">
                <a:solidFill>
                  <a:srgbClr val="ffc000"/>
                </a:solidFill>
                <a:latin typeface="Eurostile"/>
              </a:rPr>
              <a:t>– A radio communication service, carried out by authorized individuals without pecuniary interes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mateur Operator</a:t>
            </a:r>
            <a:r>
              <a:rPr b="0" i="1" lang="en-US" sz="2400" spc="-1" strike="noStrike">
                <a:solidFill>
                  <a:srgbClr val="ffffff"/>
                </a:solidFill>
                <a:latin typeface="Eurostile"/>
              </a:rPr>
              <a:t> </a:t>
            </a:r>
            <a:r>
              <a:rPr b="0" i="1" lang="en-US" sz="2400" spc="-1" strike="noStrike">
                <a:solidFill>
                  <a:srgbClr val="ffc000"/>
                </a:solidFill>
                <a:latin typeface="Eurostile"/>
              </a:rPr>
              <a:t>– A person granted a license for amateur servic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mateur Station</a:t>
            </a:r>
            <a:r>
              <a:rPr b="0" i="1" lang="en-US" sz="2400" spc="-1" strike="noStrike">
                <a:solidFill>
                  <a:srgbClr val="ffffff"/>
                </a:solidFill>
                <a:latin typeface="Eurostile"/>
              </a:rPr>
              <a:t> </a:t>
            </a:r>
            <a:r>
              <a:rPr b="0" i="1" lang="en-US" sz="2400" spc="-1" strike="noStrike">
                <a:solidFill>
                  <a:srgbClr val="ffc000"/>
                </a:solidFill>
                <a:latin typeface="Eurostile"/>
              </a:rPr>
              <a:t>– A station licensed for Amateur Servic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mateur Space Station</a:t>
            </a:r>
            <a:r>
              <a:rPr b="0" i="1" lang="en-US" sz="2400" spc="-1" strike="noStrike">
                <a:solidFill>
                  <a:srgbClr val="ffffff"/>
                </a:solidFill>
                <a:latin typeface="Eurostile"/>
              </a:rPr>
              <a:t> </a:t>
            </a:r>
            <a:r>
              <a:rPr b="0" i="1" lang="en-US" sz="2400" spc="-1" strike="noStrike">
                <a:solidFill>
                  <a:srgbClr val="ffc000"/>
                </a:solidFill>
                <a:latin typeface="Eurostile"/>
              </a:rPr>
              <a:t>– An amateur station over 50KM high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Unidentified Communications</a:t>
            </a:r>
            <a:r>
              <a:rPr b="0" i="1" lang="en-US" sz="2400" spc="-1" strike="noStrike">
                <a:solidFill>
                  <a:srgbClr val="ffffff"/>
                </a:solidFill>
                <a:latin typeface="Eurostile"/>
              </a:rPr>
              <a:t> </a:t>
            </a:r>
            <a:r>
              <a:rPr b="0" i="1" lang="en-US" sz="2400" spc="-1" strike="noStrike">
                <a:solidFill>
                  <a:srgbClr val="ffc000"/>
                </a:solidFill>
                <a:latin typeface="Eurostile"/>
              </a:rPr>
              <a:t>– Communications from an unidentified sourc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Interference</a:t>
            </a:r>
            <a:r>
              <a:rPr b="0" i="1" lang="en-US" sz="2400" spc="-1" strike="noStrike">
                <a:solidFill>
                  <a:srgbClr val="ffffff"/>
                </a:solidFill>
                <a:latin typeface="Eurostile"/>
              </a:rPr>
              <a:t> </a:t>
            </a:r>
            <a:r>
              <a:rPr b="0" i="1" lang="en-US" sz="2400" spc="-1" strike="noStrike">
                <a:solidFill>
                  <a:srgbClr val="ffc000"/>
                </a:solidFill>
                <a:latin typeface="Eurostile"/>
              </a:rPr>
              <a:t>– Unwanted signals that disrupt other communication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80B8D-855F-41EB-B47C-0DDD3293F143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B07 - What amateur band are you using if you are transmitting on 223.50 MHz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609480" y="2209320"/>
            <a:ext cx="64008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15 meter band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10 meter band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2 meter band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D. 1.25 meter band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5F550-9023-45DC-A1F3-2BADA100E45E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4" name="Group 5"/>
          <p:cNvGrpSpPr/>
          <p:nvPr/>
        </p:nvGrpSpPr>
        <p:grpSpPr>
          <a:xfrm>
            <a:off x="5334120" y="1255680"/>
            <a:ext cx="3251160" cy="2666880"/>
            <a:chOff x="5334120" y="1255680"/>
            <a:chExt cx="3251160" cy="2666880"/>
          </a:xfrm>
        </p:grpSpPr>
        <p:grpSp>
          <p:nvGrpSpPr>
            <p:cNvPr id="435" name="Group 6"/>
            <p:cNvGrpSpPr/>
            <p:nvPr/>
          </p:nvGrpSpPr>
          <p:grpSpPr>
            <a:xfrm>
              <a:off x="5334120" y="1255680"/>
              <a:ext cx="2743200" cy="2666880"/>
              <a:chOff x="5334120" y="1255680"/>
              <a:chExt cx="2743200" cy="2666880"/>
            </a:xfrm>
          </p:grpSpPr>
          <p:sp>
            <p:nvSpPr>
              <p:cNvPr id="436" name="Oval 7"/>
              <p:cNvSpPr/>
              <p:nvPr/>
            </p:nvSpPr>
            <p:spPr>
              <a:xfrm>
                <a:off x="5334120" y="1255680"/>
                <a:ext cx="2743200" cy="266688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" name="Line 8"/>
              <p:cNvSpPr/>
              <p:nvPr/>
            </p:nvSpPr>
            <p:spPr>
              <a:xfrm>
                <a:off x="5334120" y="2627280"/>
                <a:ext cx="2743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" name="Line 9"/>
              <p:cNvSpPr/>
              <p:nvPr/>
            </p:nvSpPr>
            <p:spPr>
              <a:xfrm flipV="1">
                <a:off x="6705720" y="2627280"/>
                <a:ext cx="0" cy="1295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39" name="Text Box 10"/>
            <p:cNvSpPr/>
            <p:nvPr/>
          </p:nvSpPr>
          <p:spPr>
            <a:xfrm>
              <a:off x="6096240" y="1712880"/>
              <a:ext cx="1181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ahoma"/>
                  <a:ea typeface="Arial"/>
                </a:rPr>
                <a:t>300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Text Box 11"/>
            <p:cNvSpPr/>
            <p:nvPr/>
          </p:nvSpPr>
          <p:spPr>
            <a:xfrm>
              <a:off x="5867640" y="2819160"/>
              <a:ext cx="63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ahoma"/>
                  <a:ea typeface="Arial"/>
                </a:rPr>
                <a:t>m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Text Box 12"/>
            <p:cNvSpPr/>
            <p:nvPr/>
          </p:nvSpPr>
          <p:spPr>
            <a:xfrm>
              <a:off x="6680520" y="2815920"/>
              <a:ext cx="1904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ahoma"/>
                  <a:ea typeface="Arial"/>
                </a:rPr>
                <a:t>223.50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2" name="Rectangle 13"/>
          <p:cNvSpPr/>
          <p:nvPr/>
        </p:nvSpPr>
        <p:spPr>
          <a:xfrm>
            <a:off x="685800" y="42670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2d050"/>
                </a:solidFill>
                <a:latin typeface="Times New Roman"/>
              </a:rPr>
              <a:t>What are you looking fo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2d050"/>
                </a:solidFill>
                <a:latin typeface="Times New Roman"/>
              </a:rPr>
              <a:t>What do you hav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3" name="Picture 14" descr=""/>
          <p:cNvPicPr/>
          <p:nvPr/>
        </p:nvPicPr>
        <p:blipFill>
          <a:blip r:embed="rId1"/>
          <a:srcRect l="20993" t="23928" r="4424" b="70630"/>
          <a:stretch/>
        </p:blipFill>
        <p:spPr>
          <a:xfrm>
            <a:off x="152280" y="5684760"/>
            <a:ext cx="6021360" cy="679680"/>
          </a:xfrm>
          <a:prstGeom prst="rect">
            <a:avLst/>
          </a:prstGeom>
          <a:ln w="0">
            <a:noFill/>
          </a:ln>
        </p:spPr>
      </p:pic>
      <p:sp>
        <p:nvSpPr>
          <p:cNvPr id="444" name="Rectangle 15"/>
          <p:cNvSpPr/>
          <p:nvPr/>
        </p:nvSpPr>
        <p:spPr>
          <a:xfrm>
            <a:off x="5715000" y="4114800"/>
            <a:ext cx="2870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 = 300 / 223.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 =  1.3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.25 meter band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22 to 225 MH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B08 - Which of the following is a result of the fact that the amateur service is secondary in some portions of the 70 cm band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6858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U.S. amateurs may find non-amateur stations in the bands, and must avoid interfering with them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U.S. amateurs must give foreign amateur stations priority in those portion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International communications are not permitted on 70 cm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Digital transmissions are not permitted on 70 cm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4921F-3FB4-4293-AF15-7845B0BED5B1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B08 - Which of the following is a result of the fact that the amateur service is secondary in some portions of the 70 cm band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6858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000"/>
                </a:solidFill>
                <a:latin typeface="Eurostile"/>
              </a:rPr>
              <a:t>A. U.S. amateurs may find non-amateur stations in the bands, and must avoid interfering with them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U.S. amateurs must give foreign amateur stations priority in those portion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International communications are not permitted on 70 cm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Digital transmissions are not permitted on 70 cm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B275A-921D-41BA-BD10-43D6A592F640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B09 - Why should you not set your transmit frequency to be exactly at the edge of an amateur band or sub-band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533160" y="2209320"/>
            <a:ext cx="83055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To allow for calibration error in the transmitter frequency display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So that modulation sidebands do not extend beyond the band edg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To allow for transmitter frequency drif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All of these choices are correc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E5996-1EEB-4246-BCCA-5D539146DB83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B09 - Why should you not set your transmit frequency to be exactly at the edge of an amateur band or sub-band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533160" y="2209320"/>
            <a:ext cx="83055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To allow for calibration error in the transmitter frequency display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So that modulation sidebands do not extend beyond the band edg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To allow for transmitter frequency drif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000"/>
                </a:solidFill>
                <a:latin typeface="Eurostile"/>
              </a:rPr>
              <a:t>D. All of these choices are correct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47BCE-9FD6-4E6D-9133-A78EB382C06B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B10 - Which of the bands above 30 MHz that are available to Technician Class operators have mode-restricted sub-bands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685440" y="2209680"/>
            <a:ext cx="84582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The 6 meter, 2 meter, and 70 cm band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The 2 meter and 13 cm band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The 6 meter, 2 meter, and 1.25 meter band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The 2 meter and 70 cm band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156A3-5111-4544-AB12-B94E8EC019D4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B10 - Which of the bands above 30 MHz that are available to Technician Class operators have mode-restricted sub-bands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685440" y="2209680"/>
            <a:ext cx="84582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The 6 meter, 2 meter, and 70 cm band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The 2 meter and 13 cm band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000"/>
                </a:solidFill>
                <a:latin typeface="Eurostile"/>
              </a:rPr>
              <a:t>C. The 6 meter, 2 meter, and 1.25 meter bands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The 2 meter and 70 cm band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4A705-C449-4895-9810-D67AFD24E5FF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9" name="Picture 5" descr=""/>
          <p:cNvPicPr/>
          <p:nvPr/>
        </p:nvPicPr>
        <p:blipFill>
          <a:blip r:embed="rId1"/>
          <a:srcRect l="4197" t="15183" r="6223" b="60082"/>
          <a:stretch/>
        </p:blipFill>
        <p:spPr>
          <a:xfrm>
            <a:off x="228600" y="4267080"/>
            <a:ext cx="4879800" cy="2082960"/>
          </a:xfrm>
          <a:prstGeom prst="rect">
            <a:avLst/>
          </a:prstGeom>
          <a:ln w="0">
            <a:noFill/>
          </a:ln>
        </p:spPr>
      </p:pic>
      <p:sp>
        <p:nvSpPr>
          <p:cNvPr id="470" name="Rectangle 7"/>
          <p:cNvSpPr/>
          <p:nvPr/>
        </p:nvSpPr>
        <p:spPr>
          <a:xfrm>
            <a:off x="1219320" y="4495680"/>
            <a:ext cx="396216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B11 - What emission modes are permitted in the mode-restricted sub-bands at 50.0 to 50.1 MHz and 144.0 to 144.1 MHz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609480" y="243828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CW only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CW and RTTY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SSB only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CW and SSB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0C291-73CD-4C5C-9A33-691D680D8D74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B11 - What emission modes are permitted in the mode-restricted sub-bands at 50.0 to 50.1 MHz and 144.0 to 144.1 MHz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609480" y="243828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000"/>
                </a:solidFill>
                <a:latin typeface="Eurostile"/>
              </a:rPr>
              <a:t>A. CW only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CW and RTTY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SSB only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CW and SSB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7552A-C15D-43D7-896B-64C50B7A0CB0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9" name="Picture 5" descr=""/>
          <p:cNvPicPr/>
          <p:nvPr/>
        </p:nvPicPr>
        <p:blipFill>
          <a:blip r:embed="rId1"/>
          <a:srcRect l="4197" t="15183" r="6223" b="60082"/>
          <a:stretch/>
        </p:blipFill>
        <p:spPr>
          <a:xfrm>
            <a:off x="3505320" y="3200400"/>
            <a:ext cx="5108400" cy="21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B12 - Why are frequency assignments for U.S. stations operating maritime mobile not the same everywhere in the world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38088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 Amateur maritime mobile stations in international waters must conform to the frequency assignments of the country nearest to their vess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Amateur frequency assignments can vary among the three ITU region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Frequency assignments are determined by the captain of the vess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Amateur frequency assignments are different in each of the 90 ITU zone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B5FE4-40BD-4187-A092-C24797976716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Five Fundamental Purposes of Ham Radio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6765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1025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1. </a:t>
            </a:r>
            <a:r>
              <a:rPr b="0" i="1" lang="en-US" sz="2000" spc="-1" strike="noStrike">
                <a:solidFill>
                  <a:srgbClr val="ffc000"/>
                </a:solidFill>
                <a:latin typeface="Lucida Sans Unicode"/>
                <a:ea typeface="Lucida Sans Unicode"/>
              </a:rPr>
              <a:t>Recognition and enhancement of the value of the amateur service to the public as a voluntary noncommercial communication service, particularly with respect to providing emergency communications.</a:t>
            </a:r>
            <a:endParaRPr b="0" i="1" lang="en-US" sz="2000" spc="-1" strike="noStrike">
              <a:solidFill>
                <a:srgbClr val="0d0d0d"/>
              </a:solidFill>
              <a:latin typeface="Lucida Sans Unicode"/>
            </a:endParaRPr>
          </a:p>
          <a:p>
            <a:pPr lvl="1" marL="1025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2. </a:t>
            </a:r>
            <a:r>
              <a:rPr b="0" i="1" lang="en-US" sz="2000" spc="-1" strike="noStrike">
                <a:solidFill>
                  <a:srgbClr val="ffc000"/>
                </a:solidFill>
                <a:latin typeface="Lucida Sans Unicode"/>
                <a:ea typeface="Lucida Sans Unicode"/>
              </a:rPr>
              <a:t>Continuation and extension of the amateur’s proven ability to contribute to the advancement of the radio art.</a:t>
            </a:r>
            <a:endParaRPr b="0" i="1" lang="en-US" sz="2000" spc="-1" strike="noStrike">
              <a:solidFill>
                <a:srgbClr val="0d0d0d"/>
              </a:solidFill>
              <a:latin typeface="Lucida Sans Unicode"/>
            </a:endParaRPr>
          </a:p>
          <a:p>
            <a:pPr lvl="1" marL="1025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3. </a:t>
            </a:r>
            <a:r>
              <a:rPr b="0" i="1" lang="en-US" sz="2000" spc="-1" strike="noStrike">
                <a:solidFill>
                  <a:srgbClr val="ffc000"/>
                </a:solidFill>
                <a:latin typeface="Lucida Sans Unicode"/>
                <a:ea typeface="Lucida Sans Unicode"/>
              </a:rPr>
              <a:t>Encouragement and improvement of the amateur service through rules which provide for advancing skills in both the communications and technical phases of the art.</a:t>
            </a:r>
            <a:endParaRPr b="0" i="1" lang="en-US" sz="2000" spc="-1" strike="noStrike">
              <a:solidFill>
                <a:srgbClr val="0d0d0d"/>
              </a:solidFill>
              <a:latin typeface="Lucida Sans Unicode"/>
            </a:endParaRPr>
          </a:p>
          <a:p>
            <a:pPr lvl="1" marL="1025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4. </a:t>
            </a:r>
            <a:r>
              <a:rPr b="0" i="1" lang="en-US" sz="2000" spc="-1" strike="noStrike">
                <a:solidFill>
                  <a:srgbClr val="ffc000"/>
                </a:solidFill>
                <a:latin typeface="Lucida Sans Unicode"/>
                <a:ea typeface="Lucida Sans Unicode"/>
              </a:rPr>
              <a:t>Expansion of the existing reservoir within the amateur radio service of trained operators, technicians, and electronics experts.</a:t>
            </a:r>
            <a:endParaRPr b="0" i="1" lang="en-US" sz="2000" spc="-1" strike="noStrike">
              <a:solidFill>
                <a:srgbClr val="0d0d0d"/>
              </a:solidFill>
              <a:latin typeface="Lucida Sans Unicode"/>
            </a:endParaRPr>
          </a:p>
          <a:p>
            <a:pPr lvl="1" marL="1025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5. </a:t>
            </a:r>
            <a:r>
              <a:rPr b="0" i="1" lang="en-US" sz="2000" spc="-1" strike="noStrike">
                <a:solidFill>
                  <a:srgbClr val="ffc000"/>
                </a:solidFill>
                <a:latin typeface="Lucida Sans Unicode"/>
                <a:ea typeface="Lucida Sans Unicode"/>
              </a:rPr>
              <a:t>Continuation and extension of the amateur’s unique ability to enhance international goodwill.</a:t>
            </a:r>
            <a:endParaRPr b="0" i="1" lang="en-US" sz="20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E5A7F-EBAB-4279-9058-A44F38D53A41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B12 - Why are frequency assignments for U.S. stations operating maritime mobile not the same everywhere in the world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38088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 Amateur maritime mobile stations in international waters must conform to the frequency assignments of the country nearest to their vess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B. Amateur frequency assignments can vary among the three ITU regions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Frequency assignments are determined by the captain of the vess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Amateur frequency assignments are different in each of the 90 ITU zone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FB48-3933-4519-833C-A2166A60A126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ITU Regions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48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70250-7458-44A0-AD7C-427643363514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1" name="Picture 3" descr="ITU_Reg"/>
          <p:cNvPicPr/>
          <p:nvPr/>
        </p:nvPicPr>
        <p:blipFill>
          <a:blip r:embed="rId1"/>
          <a:stretch/>
        </p:blipFill>
        <p:spPr>
          <a:xfrm>
            <a:off x="990720" y="1631880"/>
            <a:ext cx="7315200" cy="42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1B13    Which emission may be used between 219 and 220 MHz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09480" y="11430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Spread spectrum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Data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SSB voic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Fast-scan televis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AA076-2CB5-454E-A9E5-E67C543640D0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1B13    Which emission may be used between 219 and 220 MHz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609480" y="11430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Spread spectrum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B. Data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SSB voic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Fast-scan televis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2454D-7903-4096-8AC8-0F9803EE9445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0" name="Picture 7" descr=""/>
          <p:cNvPicPr/>
          <p:nvPr/>
        </p:nvPicPr>
        <p:blipFill>
          <a:blip r:embed="rId1"/>
          <a:srcRect l="65908" t="23667" r="0" b="61502"/>
          <a:stretch/>
        </p:blipFill>
        <p:spPr>
          <a:xfrm>
            <a:off x="3505320" y="3787920"/>
            <a:ext cx="3852720" cy="132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Impact"/>
              </a:rPr>
              <a:t>T1C - Operator licensing: operator classes; sequential, special event, and vanity call sign systems; international communications; reciprocal operation; station license and licensee; places where the amateur service is regulated by the FCC; name and address on FCC license database; license term; renewal; grace period</a:t>
            </a:r>
            <a:br>
              <a:rPr sz="2400"/>
            </a:br>
            <a:endParaRPr b="0" lang="en-US" sz="24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6C30F-F6FB-4E99-9406-BD89C5452FA0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Rectangle 5"/>
          <p:cNvSpPr/>
          <p:nvPr/>
        </p:nvSpPr>
        <p:spPr>
          <a:xfrm>
            <a:off x="3587400" y="1992240"/>
            <a:ext cx="184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allsign Grou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Rectangle 6"/>
          <p:cNvSpPr/>
          <p:nvPr/>
        </p:nvSpPr>
        <p:spPr>
          <a:xfrm>
            <a:off x="789120" y="23734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ll valid US Callsigns start with A, K, N or W and contain a digit 0-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77880" y="2957400"/>
          <a:ext cx="7694640" cy="3443400"/>
        </p:xfrm>
        <a:graphic>
          <a:graphicData uri="http://schemas.openxmlformats.org/drawingml/2006/table">
            <a:tbl>
              <a:tblPr/>
              <a:tblGrid>
                <a:gridCol w="3848040"/>
                <a:gridCol w="3846600"/>
              </a:tblGrid>
              <a:tr h="86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Group 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1x2, 2x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W1AW, KU7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Group 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x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KK7L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Group 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1x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N7WS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Group 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x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KB7PJ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dissolve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US Call Districts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E12BD-D74C-4BBF-BDC5-A64ADF1B236B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0" name="Picture 6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342280" cy="5105520"/>
          </a:xfrm>
          <a:prstGeom prst="rect">
            <a:avLst/>
          </a:prstGeom>
          <a:ln w="0">
            <a:noFill/>
          </a:ln>
        </p:spPr>
      </p:pic>
      <p:sp>
        <p:nvSpPr>
          <p:cNvPr id="511" name="TextBox 7"/>
          <p:cNvSpPr/>
          <p:nvPr/>
        </p:nvSpPr>
        <p:spPr>
          <a:xfrm>
            <a:off x="7162920" y="5486400"/>
            <a:ext cx="1484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Other Call Sign Categories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838080" y="114300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d0d0d"/>
                </a:solidFill>
                <a:latin typeface="Eurostile"/>
              </a:rPr>
              <a:t>Vanity Call Sign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lvl="1"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Custom call sign chosen by you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1"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Can be any valid callsign available to your license clas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d0d0d"/>
                </a:solidFill>
                <a:latin typeface="Eurostile"/>
              </a:rPr>
              <a:t>Club Call Sign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lvl="1"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Call sign for your club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1"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Can be any valid callsign available to the truste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d0d0d"/>
                </a:solidFill>
                <a:latin typeface="Eurostile"/>
              </a:rPr>
              <a:t>Special Event Call Sign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lvl="1"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1x1 – N8D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1"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Valid only for the duration of the even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1"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Available to any amateur license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1127F-36CE-42DD-8BEC-CEE42E42C307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342900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Impact"/>
              </a:rPr>
              <a:t>FCC Amateur License</a:t>
            </a:r>
            <a:endParaRPr b="0" lang="en-US" sz="44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B20B3-32A3-4CA1-831F-4235FCBD31EC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9" name="Picture 7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613400" cy="6010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C01 - Which type of call sign has a single letter in both its prefix and suffix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Vanity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Sequentia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Special even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In-memoriam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B4C5B-4A9E-496E-9B0C-1CA53B58A592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C01 - Which type of call sign has a single letter in both its prefix and suffix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Vanity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Sequentia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C. Special event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In-memoriam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95833-5535-4E57-80CB-E655A731FEB6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A01  - Which of the following is a purpose of the Amateur Radio Service as stated in the FCC rules and regulations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d0d0d"/>
                </a:solidFill>
                <a:latin typeface="Eurostile"/>
              </a:rPr>
              <a:t>A. Providing personal radio communications for as many citizens as possible</a:t>
            </a:r>
            <a:endParaRPr b="0" i="1" lang="en-US" sz="22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d0d0d"/>
                </a:solidFill>
                <a:latin typeface="Eurostile"/>
              </a:rPr>
              <a:t>B. Providing communications for international non-profit organizations</a:t>
            </a:r>
            <a:endParaRPr b="0" i="1" lang="en-US" sz="22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d0d0d"/>
                </a:solidFill>
                <a:latin typeface="Eurostile"/>
              </a:rPr>
              <a:t>C. Advancing skills in the technical and communication phases of the radio art</a:t>
            </a:r>
            <a:endParaRPr b="0" i="1" lang="en-US" sz="22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d0d0d"/>
                </a:solidFill>
                <a:latin typeface="Eurostile"/>
              </a:rPr>
              <a:t>D. All of these choices are correct </a:t>
            </a:r>
            <a:endParaRPr b="0" i="1" lang="en-US" sz="22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6A08D-1E51-4572-8520-26ABB26C21AA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1C02 - Which of the following is a valid US amateur radio station call sign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609480" y="1371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KMA3505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W3ABC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KDKA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11Q1176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63312-384F-4E2E-8416-1722C02DA0FA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1C02 - Which of the following is a valid US amateur radio station call sign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609480" y="1371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KMA3505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B. W3ABC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KDKA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11Q1176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D726A-BD68-44B1-B49C-6427A6A4AE07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53452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1C03 - What types of international communications are permitted by an FCC-licensed amateur station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838080" y="182844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Communications incidental to the purposes of the amateur service and remarks of a personal charact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Communications incidental to conducting business or remarks of a personal natur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Only communications incidental to contest exchanges, all other communications are prohibited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Any communications that would be permitted by an international broadcast sta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4F5CB-5901-49E8-86E5-80B423500C13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53452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1C03 - What types of international communications are permitted by an FCC-licensed amateur station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838080" y="182844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000"/>
                </a:solidFill>
                <a:latin typeface="Eurostile"/>
              </a:rPr>
              <a:t>A. Communications incidental to the purposes of the amateur service and remarks of a personal character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Communications incidental to conducting business or remarks of a personal natur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Only communications incidental to contest exchanges, all other communications are prohibited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Any communications that would be permitted by an international broadcast sta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77519-07B6-4B35-8503-95E757104FFD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C04 - When are you allowed to operate your amateur station in a foreign country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914040" y="198072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When the foreign country authorizes i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When there is a mutual agreement allowing third party communications?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When authorization permits amateur communications in a foreign languag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When you are communicating with non-licensed individuals in another country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737AC-5D36-4B21-907E-904D4861C42A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C04 - When are you allowed to operate your amateur station in a foreign country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914400" y="19807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A. When the foreign country authorizes it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When there is a mutual agreement allowing third party communications?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When authorization permits amateur communications in a foreign languag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When you are communicating with non-licensed individuals in another country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9D159-B370-4988-9ED8-6F4331D676B4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1C05 - Which of the following is a vanity call sign which a technician class amateur operator might select if available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838080" y="220932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K1XXX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KA1X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W1XX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All of these choices are correc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15A23-D00E-4FCB-8A15-C2E58C16E43F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1C05 - Which of the following is a vanity call sign which a technician class amateur operator might select if available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838080" y="220932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A. K1XXX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KA1X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W1XX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All of these choices are correc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828D1-892C-4DB2-A494-EBA5A86C1582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1C06 - From which of the following locations may an FCC-licensed amateur station transmit, in addition to places where the FCC regulates communications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685440" y="2666520"/>
            <a:ext cx="84582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From within any country that belongs to the International Telecommunications Un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From within any country that is a member of the United Nations 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From anywhere within in ITU Regions 2 and 3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From any vessel or craft located in international waters and documented or registered in the United State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6CC81-45F2-45AD-9F18-0051BC0CA16C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1C06 - From which of the following locations may an FCC-licensed amateur station transmit, in addition to places where the FCC regulates communications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685440" y="2666520"/>
            <a:ext cx="84582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From within any country that belongs to the International Telecommunications Un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From within any country that is a member of the United Nations 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From anywhere within in ITU Regions 2 and 3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000"/>
                </a:solidFill>
                <a:latin typeface="Eurostile"/>
              </a:rPr>
              <a:t>D. From any vessel or craft located in international waters and documented or registered in the United States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76FD3-3B58-4549-9B80-FA0CA5E572B4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A01  - Which of the following is a purpose of the Amateur Radio Service as stated in the FCC rules and regulations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d0d0d"/>
                </a:solidFill>
                <a:latin typeface="Eurostile"/>
              </a:rPr>
              <a:t>A. Providing personal radio communications for as many citizens as possible</a:t>
            </a:r>
            <a:endParaRPr b="0" i="1" lang="en-US" sz="22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d0d0d"/>
                </a:solidFill>
                <a:latin typeface="Eurostile"/>
              </a:rPr>
              <a:t>B. Providing communications for international non-profit organizations</a:t>
            </a:r>
            <a:endParaRPr b="0" i="1" lang="en-US" sz="22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C. Advancing skills in the technical and communication phases of the radio art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d0d0d"/>
                </a:solidFill>
                <a:latin typeface="Eurostile"/>
              </a:rPr>
              <a:t>D. All of these choices are correct </a:t>
            </a:r>
            <a:endParaRPr b="0" i="1" lang="en-US" sz="22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74EF7-F2EA-4CBB-9EC7-70250EDB85CC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1C07 - What may result when correspondence from the FCC is returned as undeliverable because the grantee failed to provide the correct mailing address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838080" y="2895120"/>
            <a:ext cx="74678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Fine or imprisonmen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Revocation of the station license or suspension of the operator licens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Require the licensee to be re-examined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A reduction of one rank in operator clas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A3AF0-3AB2-4CA0-A845-77E0F6FB0241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1C07 - What may result when correspondence from the FCC is returned as undeliverable because the grantee failed to provide the correct mailing address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838080" y="2895120"/>
            <a:ext cx="74678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Fine or imprisonmen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000"/>
                </a:solidFill>
                <a:latin typeface="Eurostile"/>
              </a:rPr>
              <a:t>B. Revocation of the station license or suspension of the operator license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Require the licensee to be re-examined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A reduction of one rank in operator clas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6FA50-B38F-44A8-8F63-0CD7591478BD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1C08 - What is the normal term for an FCC-issued primary station/operator amateur radio license grant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838080" y="259056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Five year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Lif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Ten year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Twenty year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2BAC2-B9E2-4A22-B8D5-F9FF9D85EF46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1C08 - What is the normal term for an FCC-issued primary station/operator amateur radio license grant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838080" y="259056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Five year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Lif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000"/>
                </a:solidFill>
                <a:latin typeface="Eurostile"/>
              </a:rPr>
              <a:t>C. Ten years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Twenty year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13A6F-62C2-455C-8090-AE29E3D34F1A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C09 - What is the grace period following the expiration of an amateur license within which the license may be renewed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838080" y="259092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Two year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Three year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Five year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Ten years 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47228-38D1-4953-BC3F-513E4BA2D909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1C09 - What is the grace period following the expiration of an amateur license within which the license may be renewed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838080" y="2590920"/>
            <a:ext cx="64008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A. Two years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Three year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Five year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Ten years 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92B22-A14C-477E-9FB4-50DF6B2336D3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92504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1C10 - How soon after passing the examination for your first amateur radio license may you operate a transmitter on an amateur service frequency? 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990720" y="3047760"/>
            <a:ext cx="71625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Immediately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30 days after the test dat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As soon as your operator/station license grant appears in the FCC’s license databas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You must wait until you receive your license in the mail from the FCC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D3B37-BA03-45D7-BA4E-DF1F0DE41A21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92504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1C10 - How soon after passing the examination for your first amateur radio license may you operate a transmitter on an amateur service frequency? 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990720" y="3047760"/>
            <a:ext cx="71625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Immediately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30 days after the test dat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000"/>
                </a:solidFill>
                <a:latin typeface="Eurostile"/>
              </a:rPr>
              <a:t>C. As soon as your operator/station license grant appears in the FCC’s license database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You must wait until you receive your license in the mail from the FCC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9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6E524-CC28-4D2F-A34E-9CB72BDF9D20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8188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1C11 -  If your license has expired and is still within the allowable grace period, may you continue to operate a transmitter on amateur service frequencies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685440" y="27432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No, transmitting is not allowed until the FCC license database shows that the license has been renewed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Yes, but only if you identify using the suffix GP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Yes, but only during authorized net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Yes, for up to two year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2A81-E0B6-4319-87DD-2AB7BA01CCCC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8188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1C11 -  If your license has expired and is still within the allowable grace period, may you continue to operate a transmitter on amateur service frequencies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685440" y="27432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000"/>
                </a:solidFill>
                <a:latin typeface="Eurostile"/>
              </a:rPr>
              <a:t>A. No, transmitting is not allowed until the FCC license database shows that the license has been renewed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Yes, but only if you identify using the suffix GP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Yes, but only during authorized net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Yes, for up to two year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145E7-77CD-49D0-B621-6E027C745C37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FCC R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5T14:07:24Z</dcterms:created>
  <dc:creator>Howard Schultz</dc:creator>
  <dc:description/>
  <dc:language>en-US</dc:language>
  <cp:lastModifiedBy>Daniel Stevens</cp:lastModifiedBy>
  <dcterms:modified xsi:type="dcterms:W3CDTF">2015-05-23T04:53:42Z</dcterms:modified>
  <cp:revision>94</cp:revision>
  <dc:subject/>
  <dc:title>SUBELEMENT T1 – FCC Rules, descriptions and definitions for the Amateur Radio Service, operator and station license responsibilities - [6 Exam Questions - 6 Groups]</dc:title>
</cp:coreProperties>
</file>