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dt" idx="1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47F48-1397-45F9-8228-2FF1D88BEB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element T2  Operating Procedures. Technician Training Slides for 2014 Question Pool  Good through June 30, 2018  Assembled by Washington Ham Trainers, Daniel Stevens KL7WM, Howard Schultz, W7H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AD052-8AFE-4A73-BD7B-D8DCEE3AC2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1EEAB8-9079-433B-A359-9081CDB768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PM requires more complex receiving hard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5F2DA3-FE03-41A3-A8A0-3BF6B78031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615-4066-4C70-87F2-14B462A5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93A-0944-46E4-926A-E1CCA694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3BE-24EA-4D27-BBBE-4D348226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E21-94B9-48BF-A2C8-F12BFADA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83D97-7EA5-42A7-9AFB-95A9227C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1FB27-CB2E-40CB-8E83-763AD4C2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DD5F5-C8DB-4425-B683-808DB383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9B3FD-57ED-4B7F-9614-778F4541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DBCBF-2C40-4C04-A166-126507D5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3FC57-AB85-4CF9-96D5-6F038D5B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D947F-4721-410E-9147-9017289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8BD-A9D1-4B67-B6A3-5CE970D9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1D36D-0FD3-48B3-AEF6-775CFAE0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314D3-98FD-4D00-B42A-AB672083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6C2A9-89FC-446C-AE7A-701666D7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DC19D-31A4-417F-AABA-744D3E5E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E874A-AC24-4C9E-9127-B35C6CCF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56CA0-7960-4DC9-883C-7E5D43B6D6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12895-6212-4B58-8519-B25239764C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E74D8A-A54F-4D76-A53E-628F07C55A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03FD3-C106-4B7D-B66C-1713A85F4E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4C255-E5B0-4537-8566-D37D18645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A3E-5C7A-4C3F-B536-76FA43D9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E01ED9-2CD6-4235-B2CD-BBD6405DA1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5B723-2AD1-4990-A3FA-93589270C3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2144D-B390-4045-8478-DC7DE96EA0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0D47CA-2179-49F5-8491-3D54265612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CA72B-C28C-4F07-80AB-55E423326D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F63B00-58C5-4618-A464-D6547D4C2C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4DE9D-BCE7-4A61-B9CD-F14FAAEA05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511DE-3989-4DA9-BFED-EC1240AA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B8D5F-548E-4BDD-8FB9-51AAEEDB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0811D-BB51-4666-80CA-D7F7D0E2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CCD-E486-4E4B-A897-8FBE27FC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286B6-130B-481D-8C6B-B70B1F27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72E16-B192-47A2-85DE-529AFBC6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65F6C-7AE7-4962-85DB-6D5FBA51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9FE05-FBAA-4506-8E3C-9DD9E191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6BA93-F241-46D9-9216-64127843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3C2E4-59B7-49C8-9448-60A00C3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F62E4-9105-4D99-A0D2-DB4AD5A8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71D27-702E-4BA8-9A7F-FEBF338D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6E77D-ED70-402D-91A5-D72A824B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A40-F42B-4010-97C2-1ECB0994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412-5D91-4EC9-AECF-B3B66535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044-CEDB-4EB4-A386-24312AB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B6F-28D5-4D7A-8EE9-E9838F5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431-F97F-4171-ACF7-0199B63D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162F39-FFE7-4A4C-B69D-D6C97D7721CC}" type="datetime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Operating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A2EF8-92C7-48CA-AB11-045E8001EFF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7B02D-BA6A-4082-A8B4-96DE0A88DAA7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1EDB3-69BC-4ACF-8752-6599EBC65499}" type="slidenum">
              <a: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rPr>
              <a:t>Operating Procedures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73D13-E8D1-4697-B7A1-A6F2E11BE09A}" type="slidenum">
              <a: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rPr>
              <a:t>Operating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ABAE0-66DA-480E-B351-9F520E88CE11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rPr>
              <a:t>Operating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89AB-F75E-4777-91C0-4DB46C1E70F2}" type="slidenum">
              <a:rPr b="0" lang="en-US" sz="1200" spc="-1" strike="noStrike">
                <a:solidFill>
                  <a:srgbClr val="0d0d0d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T2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Operating Procedure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[3 Exam Questions - 3 Groups]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628DA-D81A-4009-974B-4B13E7D470C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2   What is the national calling frequency for FM simplex operations in the 70 cm band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146.520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145.000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432.100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446.000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BADBD-675B-412E-B598-A854617AE46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21747" t="20399" r="0" b="75820"/>
          <a:stretch/>
        </p:blipFill>
        <p:spPr>
          <a:xfrm>
            <a:off x="1828800" y="5329080"/>
            <a:ext cx="6742080" cy="503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rcRect l="3387" t="25291" r="79306" b="70929"/>
          <a:stretch/>
        </p:blipFill>
        <p:spPr>
          <a:xfrm>
            <a:off x="336600" y="5329080"/>
            <a:ext cx="1492200" cy="503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70600" y="3657600"/>
            <a:ext cx="351000" cy="182412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52280" y="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D02 Which of the following are objectives of the Amateur Auxilia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1440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To conduct efficient and orderly amateur licensing examin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To encourage amateur self regulation and compliance with the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To coordinate repeaters for efficient and orderly spectrum 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To provide emergency and public safety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AE005-7A9E-46F1-AFCE-897A3341A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52280" y="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D02 Which of the following are objectives of the Amateur Auxilia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To conduct efficient and orderly amateur licensing examin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Comic Sans MS"/>
                <a:ea typeface="Lucida Sans Unicode"/>
              </a:rPr>
              <a:t>B. To encourage amateur self regulation and compliance with the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To coordinate repeaters for efficient and orderly spectrum 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To provide emergency and public safety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42CD7F-2D06-4E98-9788-2E1BEF299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57200" y="274680"/>
            <a:ext cx="82296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oper Black"/>
              </a:rPr>
              <a:t>Azimuthal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4920" y="1295280"/>
            <a:ext cx="3581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The Azimuthal Projection provides accurate antenna bearings to other locations on the globe via “great circle”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Short path and long path bearings are easily f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96522C-B3C4-40DD-B1E3-72364754B1C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rcRect l="5569" t="13761" r="6897" b="1644"/>
          <a:stretch/>
        </p:blipFill>
        <p:spPr>
          <a:xfrm>
            <a:off x="4191120" y="1106640"/>
            <a:ext cx="4572000" cy="51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52280" y="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D04 Which of the following describes an azimuthal projection ma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A world map that shows accurate land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A world map projection centered on a particular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A world map that shows the angle at which an amateur satellite crosses the equ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A world map that shows the number of degrees longitude that an amateur satellite appears to move westward at the equator with each or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20F9C-2DE7-4F4D-A056-B6A713DA7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52280" y="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D04 Which of the following describes an azimuthal projection ma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A world map that shows accurate land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Comic Sans MS"/>
                <a:ea typeface="Lucida Sans Unicode"/>
              </a:rPr>
              <a:t>B. A world map projection centered on a particular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A world map that shows the angle at which an amateur satellite crosses the equ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A world map that shows the number of degrees longitude that an amateur satellite appears to move westward at the equator with each or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216860-33EA-4242-8EEA-B90F91B46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E11 What does the abbreviation "MFSK" stand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" y="24382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Manual Frequency Shift Ke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Multi (or Multiple) Frequency Shift Ke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Manual Frequency Sideband Ke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Multi (or Multiple) Frequency Sideband Ke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C8146-93FF-49F2-93A1-3BFA398CD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E11 What does the abbreviation "MFSK" stand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" y="24382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Manual Frequency Shift Ke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Comic Sans MS"/>
                <a:ea typeface="Lucida Sans Unicode"/>
              </a:rPr>
              <a:t>B. Multi (or Multiple) Frequency Shift Ke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Manual Frequency Sideband Ke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Multi (or Multiple) Frequency Sideband Ke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7E4CE-5CAA-46C8-A516-1684D9D7B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G2E12 How does the receiving station respond to an ARQ data mode packet containing error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" y="2362320"/>
            <a:ext cx="822960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Terminates the cont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Requests the packet be retransmi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Sends the packet back to the transmitting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Requests a change in transmitting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15FD21-0C4A-4F78-86B0-3568BF552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Impact"/>
              </a:rPr>
              <a:t>G2E12 How does the receiving station respond to an ARQ data mode packet containing error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" y="2362320"/>
            <a:ext cx="822960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Terminates the cont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Comic Sans MS"/>
                <a:ea typeface="Lucida Sans Unicode"/>
              </a:rPr>
              <a:t>B. Requests the packet be retransmi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Sends the packet back to the transmitting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Requests a change in transmitting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78C98E-8916-47C0-B1A4-5E10393D0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09480" y="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End of</a:t>
            </a:r>
            <a:br>
              <a:rPr sz="3200"/>
            </a:b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SUBELEMENT T2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Operating Procedures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3DAD4-DA14-40FA-B3BF-5DA7228CB34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A03 - What is a common repeater frequency offset in the 70 cm band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Plus or minus 5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Plus or minus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Minus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Plus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30AEC-B47E-4C24-8F9D-EC1345657D3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A03 - What is a common repeater frequency offset in the 70 cm band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Plus or minus 5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Plus or minus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Minus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Plus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7D9551-27EE-4336-BCFC-8F7436C4640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Impact"/>
              </a:rPr>
              <a:t>G2A01 Which sideband is most commonly used for voice Communications on frequencies of 14 MHz or higher?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2286000"/>
            <a:ext cx="82296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Upper side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Lower side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Vestigial side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Double side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F3784F-FC8E-4199-9571-8777B692B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Impact"/>
              </a:rPr>
              <a:t>G2A01 Which sideband is most commonly used for voice Communications on frequencies of 14 MHz or higher?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286000"/>
            <a:ext cx="82296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Comic Sans MS"/>
                <a:ea typeface="Lucida Sans Unicode"/>
              </a:rPr>
              <a:t>A. Upper side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Lower side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Vestigial side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Double side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E85675-0EBA-4F8F-975A-3B6D5F6B6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4 - What is an appropriate way to call another station on a repeater if you know the other station's call sig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05740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Say break, break then say the station's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Say the station's call sign then identify with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Say CQ three times then the other station's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Wait for the station to call CQ then answer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AF458-FD00-40D4-B127-5B387111E2E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4 - What is an appropriate way to call another station on a repeater if you know the other station's call sig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05740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Say break, break then say the station's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B. Say the station's call sign then identify with your call 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Say CQ three times then the other station's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Wait for the station to call CQ then answer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652792-39BE-4018-8B32-4E738A5159B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09480" y="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5 - How should you respond to a station calling CQ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752480"/>
            <a:ext cx="7620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ransmit CQ followed by the other station’s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ransmit your call sign followed by the other station’s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ransmit the other station’s call sign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ransmit a signal report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34B336-3980-4CC3-82DB-5AFFB4B4D7A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5 - How should you respond to a station calling CQ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752480"/>
            <a:ext cx="7620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ransmit CQ followed by the other station’s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ransmit your call sign followed by the other station’s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C. Transmit the other station’s call sign followed by your call 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ransmit a signal report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B6715-A1E0-4443-AF4F-0D64E3FDF0D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0"/>
            <a:ext cx="8915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6 - What must an amateur operator do when making on-air transmissions to test equipment or antenna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21337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Properly identify the transmitting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Make test transmissions only after 10:00 p.m. local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Notify the FCC of the test trans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State the purpose of the test during the test 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307513-5E18-4D07-8927-936BD177563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0"/>
            <a:ext cx="8534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Impact"/>
              </a:rPr>
              <a:t>T2A - Station operation: </a:t>
            </a:r>
            <a:r>
              <a:rPr b="0" lang="en-US" sz="20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choosing an operating frequency; calling another station; test  transmissions; procedural signs; use of  minimum power; choosing an operating  frequency; band plans; calling frequencies;  repeater offsets </a:t>
            </a:r>
            <a:br>
              <a:rPr sz="2000"/>
            </a:b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Impact"/>
              </a:rPr>
              <a:t>T2B – VHF/UHF operating practices: </a:t>
            </a:r>
            <a:r>
              <a:rPr b="0" lang="en-US" sz="20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SSB phone; FM repeater; simplex; splits and shifts;  CTCSS; DTMF; tone squelch; carrier  squelch; phonetics; operational problem  resolution; Q signals </a:t>
            </a:r>
            <a:br>
              <a:rPr sz="2000"/>
            </a:b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Impact"/>
              </a:rPr>
              <a:t>T2C – Public service: </a:t>
            </a:r>
            <a:r>
              <a:rPr b="0" lang="en-US" sz="20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emergency and non-emergency  operations; applicability of FCC rules; RACES  and ARES; net and traffic procedures; emergency restrictions</a:t>
            </a:r>
            <a:br>
              <a:rPr sz="2000"/>
            </a:br>
            <a:br>
              <a:rPr sz="29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84166D-96E1-46C1-9B78-4BE8AFD1597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0"/>
            <a:ext cx="8915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6 - What must an amateur operator do when making on-air transmissions to test equipment or antenna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21337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Properly identify the transmitting 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Make test transmissions only after 10:00 p.m. local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Notify the FCC of the test trans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State the purpose of the test during the test 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CE0AD4-B1FF-4099-8A5D-F587EB8753B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7 - Which of the following is true when making a test transmissio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7524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Station identification is not required if the transmission is less than 15 sec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Station identification is not required if the transmission is less than 1 w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Station identification is only required once an hour when the transmissions are for test purposes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Station identification is required at least every ten minutes during the test and at the end of the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68ACC-5D7E-412D-9D81-675B20A45AC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7 - Which of the following is true when making a test transmissio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7524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Station identification is not required if the transmission is less than 15 sec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Station identification is not required if the transmission is less than 1 w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Station identification is only required once an hour when the transmissions are for test purposes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Station identification is required at least every ten minutes during the test and at the end of the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695E33-7189-4989-99D8-8B71C766413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Repeater Input/Output Off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52388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d0d0d"/>
                </a:solidFill>
                <a:latin typeface="Cooper Black"/>
                <a:ea typeface="Lucida Sans Unicode"/>
              </a:rPr>
              <a:t>Band</a:t>
            </a:r>
            <a:r>
              <a:rPr b="0" i="1" lang="en-US" sz="3200" spc="-1" strike="noStrike">
                <a:solidFill>
                  <a:srgbClr val="0d0d0d"/>
                </a:solidFill>
                <a:latin typeface="Cooper Black"/>
                <a:ea typeface="Lucida Sans Unicode"/>
              </a:rPr>
              <a:t>	</a:t>
            </a:r>
            <a:r>
              <a:rPr b="0" i="1" lang="en-US" sz="3200" spc="-1" strike="noStrike">
                <a:solidFill>
                  <a:srgbClr val="0d0d0d"/>
                </a:solidFill>
                <a:latin typeface="Cooper Black"/>
                <a:ea typeface="Lucida Sans Unicode"/>
              </a:rPr>
              <a:t>	</a:t>
            </a:r>
            <a:r>
              <a:rPr b="0" i="1" lang="en-US" sz="3200" spc="-1" strike="noStrike">
                <a:solidFill>
                  <a:srgbClr val="0d0d0d"/>
                </a:solidFill>
                <a:latin typeface="Cooper Black"/>
                <a:ea typeface="Lucida Sans Unicode"/>
              </a:rPr>
              <a:t>Off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6 meters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  1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2 meters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    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1 25 meters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1.6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70 cm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 5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33 cm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12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23 cm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  20 MHz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2A703-448A-4E2B-874D-9351C19614F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8   What is the meaning of the procedural signal “CQ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Call on the quarter h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 new antenna is being tested (no station should answ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Only the called station should trans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Calling any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C1AF5-6D88-4001-9F23-14AD496442B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8   What is the meaning of the procedural signal “CQ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Call on the quarter h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 new antenna is being tested (no station should answ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Only the called station should trans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Calling any 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A7B6A-E967-4B6E-A98C-A21E132F132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9 - What brief statement is often transmitted in place of “CQ” to indicate that you are listening on a repe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28600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 words “Hello test”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Your call sig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he repeater call sign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he letters “QSY”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3CFE8-6F66-449A-A7B8-4EEC52B9728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9 - What brief statement is often transmitted in place of “CQ” to indicate that you are listening on a repe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8600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 words “Hello test”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B. Your call sig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he repeater call sign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he letters “QSY”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CCA65-10A2-48D9-9680-4E1D3FC98F2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10 - What is a band plan, beyond the privileges established by the FC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752480"/>
            <a:ext cx="754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A voluntary guideline for using different modes or activities within an amateur 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 mandated list of operating sche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A list of scheduled net freq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 plan devised by a club to indicate frequency band 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61EB69-0030-450F-9F86-D6674727E99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10 - What is a band plan, beyond the privileges established by the FC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1752480"/>
            <a:ext cx="754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A voluntary guideline for using different modes or activities within an amateur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 mandated list of operating schedu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A list of scheduled net frequenc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 plan devised by a club to indicate frequency band us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69AB1E-6E69-4745-8A82-CB41F252606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ITU Phonetic Alphab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1219320"/>
            <a:ext cx="4419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Alfa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AL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FA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B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Bravo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BRAH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VO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Charlie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CHAR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LE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D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Delta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DELL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TA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E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Echo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ECK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oxtrot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OKS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TR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G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Gol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GO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H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Hotel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HOH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TE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India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IN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DEE A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Juliet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JEW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LEE ET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K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Kilo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LO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ima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E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MA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M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Mike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MIK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November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NO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VEM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B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O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Oscar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OSS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CA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apa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AH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A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Q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Quebec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KEH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BE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Romeo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ROW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ME O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S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Sierra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SEE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AIR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RA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T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Tango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TANG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G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U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Uniform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YOU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NEE FO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V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Victor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VIK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TA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W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Whiskey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WISS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X-Ray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ECKS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Yankee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YANG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Zulu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ZOO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LO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831C91-0EC3-489F-9108-D0179732194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219320"/>
            <a:ext cx="36576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ooper Black"/>
              </a:rPr>
              <a:t>Agreed upon words to represent the letters of the “roman alphabet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ooper Black"/>
              </a:rPr>
              <a:t>The boldfaced syllables are emphasized.  The pronunciations shown in this table were designed for those who speak any of the international languag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ooper Black"/>
              </a:rPr>
              <a:t>The pronunciations given for “</a:t>
            </a:r>
            <a:r>
              <a:rPr b="1" i="1" lang="en-US" sz="1800" spc="-1" strike="noStrike">
                <a:solidFill>
                  <a:srgbClr val="0d0d0d"/>
                </a:solidFill>
                <a:latin typeface="Cooper Black"/>
              </a:rPr>
              <a:t>Oscar</a:t>
            </a:r>
            <a:r>
              <a:rPr b="1" lang="en-US" sz="1800" spc="-1" strike="noStrike">
                <a:solidFill>
                  <a:srgbClr val="0d0d0d"/>
                </a:solidFill>
                <a:latin typeface="Cooper Black"/>
              </a:rPr>
              <a:t>”, “</a:t>
            </a:r>
            <a:r>
              <a:rPr b="1" i="1" lang="en-US" sz="1800" spc="-1" strike="noStrike">
                <a:solidFill>
                  <a:srgbClr val="0d0d0d"/>
                </a:solidFill>
                <a:latin typeface="Cooper Black"/>
              </a:rPr>
              <a:t>Papa</a:t>
            </a:r>
            <a:r>
              <a:rPr b="1" lang="en-US" sz="1800" spc="-1" strike="noStrike">
                <a:solidFill>
                  <a:srgbClr val="0d0d0d"/>
                </a:solidFill>
                <a:latin typeface="Cooper Black"/>
              </a:rPr>
              <a:t>” and “Victor” may seem awkward to English-speaking people in the U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-228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ARRL Band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BF46A-BCEB-4E88-9E7C-0C1ABE3833B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676296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380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VHF/UHF Band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26BC33-91C7-459F-9E15-1AF6DBF96D1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65751" t="38520" r="0" b="0"/>
          <a:stretch/>
        </p:blipFill>
        <p:spPr>
          <a:xfrm>
            <a:off x="685800" y="1219320"/>
            <a:ext cx="3276720" cy="46386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rcRect l="65751" t="0" r="0" b="61484"/>
          <a:stretch/>
        </p:blipFill>
        <p:spPr>
          <a:xfrm>
            <a:off x="4648320" y="1752480"/>
            <a:ext cx="369396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4920" y="0"/>
            <a:ext cx="8762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A11 - Which of the following is an FCC rule regarding power levels used in the amateur bands, under normal, non-distress circumstances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228600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re is no limit to power as long as there is no interference with other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No more than 200 watts PEP may be u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Up to 1500 watts PEP may be used on any amateur frequency without rest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While not exceeding the maximum power permitted on a given band, use the minimum power necessary to carry out the desired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7B148-1BAE-4009-AB2A-42764DEE096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4920" y="0"/>
            <a:ext cx="8762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A11 - Which of the following is an FCC rule regarding power levels used in the amateur bands, under normal, non-distress circumstances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228600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re is no limit to power as long as there is no interference with other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No more than 200 watts PEP may be u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Up to 1500 watts PEP may be used on any amateur frequency without rest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While not exceeding the maximum power permitted on a given band, use the </a:t>
            </a: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Eurostile"/>
                <a:ea typeface="Lucida Sans Unicode"/>
              </a:rPr>
              <a:t>minimum power </a:t>
            </a: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necessary to carry out the desired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6EADC7-36D6-4545-95C8-C84E968D454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A12 - Which of the following is a guideline to use when choosing an operating frequency for calling CQ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Listen first to be sure that no one else is using the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sk if the frequency is in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Make sure you are in your assigned 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9FC3D-B7B2-4F19-818E-A547FA75B2E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A12 - Which of the following is a guideline to use when choosing an operating frequency for calling CQ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Listen first to be sure that no one else is using the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sk if the frequency is in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Make sure you are in your assigned 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2D2A86-F312-4D15-8ACD-FE77AF8D2CD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09480" y="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 – VHF/UHF operating practic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9320" y="2514600"/>
            <a:ext cx="7391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SSB phone; FM repeater; simplex; splits and shifts; CTCSS; DTMF; tone squelch; carrier squelch; phonetics; operational problem resolution; Q sign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6226A-612C-4791-A665-2F6C58AB179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09480" y="0"/>
            <a:ext cx="8534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1 - What is the term used to describe an amateur station that is transmitting and receiving on the same frequency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Full duplex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Diplex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Simplex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Multiplex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2E4C6-87D2-4F77-8805-7AC89C0B16A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09480" y="0"/>
            <a:ext cx="8534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1 - What is the term used to describe an amateur station that is transmitting and receiving on the same frequency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Full duplex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Diplex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C. Simplex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Multiplex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C7BD35-2494-482D-900C-DB76BC0B47D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09480" y="-152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Repeater Access T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143000"/>
            <a:ext cx="4038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ontinuous Tone Coded Squelch System (CTCSS) tones are sub-audible tones added to an FM carri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Some repeater systems require CTCSS tones to acces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To access a repeater, in addition to knowing the repeater offset or shift, as previously discussed, you must also know if a tone is required and what it i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8EE62-0EF1-4974-8EB6-31F358F8A97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403440" cy="47116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5692680" y="4916520"/>
            <a:ext cx="654120" cy="412560"/>
          </a:xfrm>
          <a:prstGeom prst="ellipse">
            <a:avLst/>
          </a:prstGeom>
          <a:noFill/>
          <a:ln cap="sq"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577960"/>
            <a:ext cx="654120" cy="412920"/>
          </a:xfrm>
          <a:prstGeom prst="ellipse">
            <a:avLst/>
          </a:prstGeom>
          <a:noFill/>
          <a:ln cap="sq"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92680" y="2577960"/>
            <a:ext cx="654120" cy="412920"/>
          </a:xfrm>
          <a:prstGeom prst="ellipse">
            <a:avLst/>
          </a:prstGeom>
          <a:noFill/>
          <a:ln cap="sq"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438280" y="762120"/>
            <a:ext cx="4038840" cy="5486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94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VHF/UHF Propa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762120"/>
            <a:ext cx="266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oper Black"/>
                <a:ea typeface="Lucida Sans Unicode"/>
              </a:rPr>
              <a:t>VHF / UHF signals typically travel by line of sight propa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41EEDF-9423-43A1-A0A8-F0EEB6CB6A0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692760" y="5680080"/>
          <a:ext cx="198468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2760" y="5680080"/>
                    <a:ext cx="1984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53880" y="5551560"/>
          <a:ext cx="1403640" cy="6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5551560"/>
                    <a:ext cx="14036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9920" y="762120"/>
            <a:ext cx="266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VHF / UHF signals can be blocked by   and/or reflected     off mountains          and large                 building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762120"/>
            <a:ext cx="3276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4869000"/>
            <a:ext cx="1130040" cy="1063440"/>
          </a:xfrm>
          <a:prstGeom prst="line">
            <a:avLst/>
          </a:prstGeom>
          <a:ln cap="sq" w="47520">
            <a:solidFill>
              <a:srgbClr val="2a6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"/>
          <p:cNvCxnSpPr/>
          <p:nvPr/>
        </p:nvCxnSpPr>
        <p:spPr>
          <a:xfrm flipV="1">
            <a:off x="5562720" y="4037760"/>
            <a:ext cx="762480" cy="831240"/>
          </a:xfrm>
          <a:prstGeom prst="straightConnector1">
            <a:avLst/>
          </a:prstGeom>
          <a:ln cap="sq" w="47520">
            <a:solidFill>
              <a:srgbClr val="2a6bb9"/>
            </a:solidFill>
            <a:miter/>
            <a:tailEnd len="med" type="arrow" w="med"/>
          </a:ln>
        </p:spPr>
      </p:cxnSp>
      <p:sp>
        <p:nvSpPr>
          <p:cNvPr id="195" name=""/>
          <p:cNvSpPr/>
          <p:nvPr/>
        </p:nvSpPr>
        <p:spPr>
          <a:xfrm flipH="1">
            <a:off x="1755720" y="4724280"/>
            <a:ext cx="1674720" cy="1131840"/>
          </a:xfrm>
          <a:prstGeom prst="line">
            <a:avLst/>
          </a:prstGeom>
          <a:ln cap="sq" w="47520">
            <a:solidFill>
              <a:srgbClr val="2a6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 flipH="1" flipV="1">
            <a:off x="2437920" y="3885840"/>
            <a:ext cx="991440" cy="838800"/>
          </a:xfrm>
          <a:prstGeom prst="straightConnector1">
            <a:avLst/>
          </a:prstGeom>
          <a:ln cap="sq" w="47520">
            <a:solidFill>
              <a:srgbClr val="2a6bb9"/>
            </a:solidFill>
            <a:miter/>
            <a:tailEnd len="med" type="arrow" w="med"/>
          </a:ln>
        </p:spPr>
      </p:cxnSp>
    </p:spTree>
  </p:cSld>
  <p:transition spd="slow"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176A0-F974-447A-843C-BEB9E9A05F4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rcRect l="18567" t="13358" r="12866" b="20220"/>
          <a:stretch/>
        </p:blipFill>
        <p:spPr>
          <a:xfrm>
            <a:off x="2286000" y="457200"/>
            <a:ext cx="4343400" cy="5610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62120" y="220968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1000080"/>
            <a:ext cx="2133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er Offset +/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7120" y="2022480"/>
            <a:ext cx="76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23920" y="2419200"/>
            <a:ext cx="1524240" cy="19080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ff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980000">
            <a:off x="2760480" y="1564920"/>
            <a:ext cx="1660320" cy="214200"/>
          </a:xfrm>
          <a:prstGeom prst="rightArrow">
            <a:avLst>
              <a:gd name="adj1" fmla="val 50000"/>
              <a:gd name="adj2" fmla="val 49701"/>
            </a:avLst>
          </a:prstGeom>
          <a:solidFill>
            <a:srgbClr val="ff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2120760"/>
            <a:ext cx="1524240" cy="20952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2 - What is the term used to describe the use of a sub-audible tone transmitted with normal voice audio to open the squelch of a receiv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Carrier squel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one bu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DT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CTC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0DE18-78E7-4F2D-AC46-744AEC5CC82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2 - What is the term used to describe the use of a sub-audible tone transmitted with normal voice audio to open the squelch of a receiv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Carrier squel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one bu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DT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CTC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ontinuous Tone Coded Squelch System (CTCSS) tones are </a:t>
            </a:r>
            <a:r>
              <a:rPr b="0" i="1" lang="en-US" sz="2400" spc="-1" strike="noStrike" u="sng">
                <a:solidFill>
                  <a:srgbClr val="0d0d0d"/>
                </a:solidFill>
                <a:uFillTx/>
                <a:latin typeface="Eurostile"/>
                <a:ea typeface="Lucida Sans Unicode"/>
              </a:rPr>
              <a:t>sub-audible</a:t>
            </a: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 tones added to an FM carr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CCF357-E8BB-42BF-A020-FA505532FFD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09480" y="0"/>
            <a:ext cx="8534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B03 - Which of the following describes the muting of receiver audio controlled solely by the presence or absence of an RF signal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one squel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Carrier squel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CTC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Modulated c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9C45B8-44E8-4173-A20A-2319C37BCC7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09480" y="0"/>
            <a:ext cx="8534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B03 - Which of the following describes the muting of receiver audio controlled solely by the presence or absence of an RF signal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one squel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B. Carrier squel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CTC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Modulated c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A7D162-894D-4F99-8BF9-7516D2C1368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09480" y="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B04 - Which of the following common problems might cause you to be able to hear but not access a repeater even when transmitting with the proper offset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23623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 repeater receiver may require an audio tone burst for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he repeater receiver may require a CTCSS tone for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he repeater receiver may require a DCS tone sequence for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3AEAB1-BAFD-410D-898E-84A682FF682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B04 - Which of the following common problems might cause you to be able to hear but not access a repeater even when transmitting with the proper offset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23623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 repeater receiver may require an audio tone burst for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he repeater receiver may require a CTCSS tone for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he repeater receiver may require a DCS tone sequence for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21742-6012-48B7-B977-A9E96AD1258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-76320" y="0"/>
            <a:ext cx="9220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B05 - What determines the amount of deviation of an FM (as opposed to PM) signal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175248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Both the frequency and amplitude of the modulating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he frequency of the modulating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he amplitude of the modulating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he relative phase of the modulating signal and the c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581857-A73B-4F58-8765-1A595F89A07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-76320" y="0"/>
            <a:ext cx="9220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B05 - What determines the amount of deviation of an FM (as opposed to PM) signal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175248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Both the frequency and amplitude of the modulating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he frequency of the modulating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C. The amplitude of the modulating sig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he relative phase of the modulating signal and the c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55D809-5859-46C3-8E86-C886A439FC8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09480" y="0"/>
            <a:ext cx="8077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6 - What happens when the deviation of an FM transmitter is increas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251460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Its signal occupies more bandwid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Its output power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Its output power and bandwidth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symmetric modulation occ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F5749-E08B-4FC1-AFA2-444D4CDB99D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438280" y="762120"/>
            <a:ext cx="4038840" cy="5486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4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VHF/UHF Propa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762120"/>
            <a:ext cx="266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put Fre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44.61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2AD93-2C94-4F19-8D7C-4D03A2FA8A9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692760" y="5680080"/>
          <a:ext cx="198468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2760" y="5680080"/>
                    <a:ext cx="1984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53880" y="5551560"/>
          <a:ext cx="1403640" cy="6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5551560"/>
                    <a:ext cx="14036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019920" y="762120"/>
            <a:ext cx="266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tput Fre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5.21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762120"/>
            <a:ext cx="3276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2133720"/>
            <a:ext cx="2273040" cy="3798720"/>
          </a:xfrm>
          <a:prstGeom prst="line">
            <a:avLst/>
          </a:prstGeom>
          <a:ln cap="sq" w="47520">
            <a:solidFill>
              <a:srgbClr val="2a6bb9"/>
            </a:solidFill>
            <a:custDash>
              <a:ds d="400000" sp="300000"/>
              <a:ds d="100000" sp="300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55720" y="2133720"/>
            <a:ext cx="2665440" cy="3722400"/>
          </a:xfrm>
          <a:prstGeom prst="line">
            <a:avLst/>
          </a:prstGeom>
          <a:ln cap="sq" w="47520">
            <a:solidFill>
              <a:srgbClr val="2a6bb9"/>
            </a:solidFill>
            <a:custDash>
              <a:ds d="400000" sp="300000"/>
              <a:ds d="100000" sp="300000"/>
            </a:custDash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3733920"/>
            <a:ext cx="26672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f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600 k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5602320"/>
            <a:ext cx="2097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+ Miles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5840280"/>
            <a:ext cx="971640" cy="179640"/>
          </a:xfrm>
          <a:prstGeom prst="leftArrow">
            <a:avLst>
              <a:gd name="adj1" fmla="val 50000"/>
              <a:gd name="adj2" fmla="val 49756"/>
            </a:avLst>
          </a:prstGeom>
          <a:solidFill>
            <a:srgbClr val="4f81bd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56240" y="5856120"/>
            <a:ext cx="920880" cy="163800"/>
          </a:xfrm>
          <a:prstGeom prst="rightArrow">
            <a:avLst>
              <a:gd name="adj1" fmla="val 50000"/>
              <a:gd name="adj2" fmla="val 49687"/>
            </a:avLst>
          </a:prstGeom>
          <a:solidFill>
            <a:srgbClr val="4f81bd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09480" y="0"/>
            <a:ext cx="8077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6 - What happens when the deviation of an FM transmitter is increas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25146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Its signal occupies more band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Its output power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Its output power and bandwidth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symmetric modulation occ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11479-C4AD-4B68-899A-65B3BF1C1AF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233388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28600" y="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7 - What could cause your FM signal to interfere with stations on nearby frequencie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144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Microphone gain too high, causing over-devi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SWR too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Incorrect CTCSS 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F0B9FB-CE41-4691-8BCD-5D5A09F5E0F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" y="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7 - What could cause your FM signal to interfere with stations on nearby frequencie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Microphone gain too high, causing over-devi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SWR too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Incorrect CTCSS 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7946F3-5237-4A9C-A5F6-0D5D479445A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28600" y="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8 - Which of the following applies when two stations transmitting on the same frequency interfere with each other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848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Common courtesy should prevail, but no one has absolute right to an amateur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Whoever has the strongest signal has priority on the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Whoever has been on the frequency the longest has priority on the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he station which has the weakest signal has priority on the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F4ECC-C8FF-4BAC-97F6-910CB593741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8600" y="0"/>
            <a:ext cx="853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8 - Which of the following applies when two stations transmitting on the same frequency interfere with each other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848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Common courtesy should prevail, but no one has absolute right to an amateur 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Whoever has the strongest signal has priority on the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Whoever has been on the frequency the longest has priority on the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he station which has the weakest signal has priority on the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C084D-251A-4464-9D43-4F074D21149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04920" y="0"/>
            <a:ext cx="853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9 - Which of the following methods is encouraged by the FCC when identifying your station when using phone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Use of a phonetic alphab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Send your call sign in CW as well as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Repeat your call sign three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Increase your signal to full power when identif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426E2E-346D-4088-9F8E-7AA5C5A8B67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4920" y="0"/>
            <a:ext cx="853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09 - Which of the following methods is encouraged by the FCC when identifying your station when using phone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Use of a phonetic alphab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Send your call sign in CW as well as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Repeat your call sign three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Increase your signal to full power when identif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19D06-39BD-4527-8579-7FB332643FF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W Pro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167652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X – Distant station (outside the count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Q –  Calling any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R –  "+" over, end of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urostile"/>
                <a:ea typeface="Lucida Sans Unicode"/>
              </a:rPr>
              <a:t>K –  go, invite any station to trans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KN –  "(" go only, invite a specific station to trans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urostile"/>
                <a:ea typeface="Lucida Sans Unicode"/>
              </a:rPr>
              <a:t>BK –  invite receiving station to trans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urostile"/>
                <a:ea typeface="Lucida Sans Unicode"/>
              </a:rPr>
              <a:t>AS –  please stan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urostile"/>
                <a:ea typeface="Lucida Sans Unicode"/>
              </a:rPr>
              <a:t>SK –  end of contact (sent before ca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L –  going off the air (cl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29D1EC-DFE7-4D84-8FBD-4EA6193B516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Q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106C1-2185-473F-B3EF-7FA294D299A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533520" y="1905120"/>
          <a:ext cx="8078400" cy="3810960"/>
        </p:xfrm>
        <a:graphic>
          <a:graphicData uri="http://schemas.openxmlformats.org/drawingml/2006/table">
            <a:tbl>
              <a:tblPr/>
              <a:tblGrid>
                <a:gridCol w="871560"/>
                <a:gridCol w="3191400"/>
                <a:gridCol w="848160"/>
                <a:gridCol w="3167280"/>
              </a:tblGrid>
              <a:tr h="761760"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-made noi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mospheric noi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S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 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rrent/home lo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480"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S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mospheric fa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S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rmation of re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 break-in key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y to rece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d more slow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R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2124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d more quick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0948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10 - Which Q signal indicates that you are receiving interference from other st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Q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Q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Q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Q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D18B2-2C11-407A-B4DF-7714FB2B8FA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704503-BD2B-4D14-92CE-46E226D04ED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5515" r="0" b="60952"/>
          <a:stretch/>
        </p:blipFill>
        <p:spPr>
          <a:xfrm>
            <a:off x="304920" y="1066680"/>
            <a:ext cx="861516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0948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10 - Which Q signal indicates that you are receiving interference from other st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Q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Q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Q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QS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A55387-2A7B-4AA5-96E5-71D7D74BFDB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60948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11 - Which Q signal indicates that you are changing frequency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Q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QS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QS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QR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D81AC5-4A51-4F83-9598-F90E22DFE9C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0948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11 - Which Q signal indicates that you are changing frequency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Q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B. Q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QS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QR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3D8905-9A0B-4623-B9F0-5207D4EBC9C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B06 What is a practical way to avoid harmful interference when selecting a frequency to call CQ on CW or pho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Send "QRL?" on CW, followed by your call sign; or, if using phone, ask if the frequency is in use, followed by your call 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Listen for 2 minutes before calling CQ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Send the letter "V" in Morse code several times and listen for a respon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Send “QSY” on CW or if using phone, announce “the frequency is in use”, then send your call and listen for a respon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95762-1413-47BF-A31E-005FEE2BCB2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B06 What is a practical way to avoid harmful interference when selecting a frequency to call CQ on CW or pho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Comic Sans MS"/>
                <a:ea typeface="Lucida Sans Unicode"/>
              </a:rPr>
              <a:t>A. Send "QRL?" on CW, followed by your call sign; or, if using phone, ask if the frequency is in use,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Listen for 2 minutes before calling CQ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Send the letter "V" in Morse code several times and listen for a respon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Send “QSY” on CW or if using phone, announce “the frequency is in use”, then send your call and listen for a respon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BE71F5-F682-42F3-A480-F7A121FDDCA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12 - Under what circumstances should you consider communicating via simplex rather than a repeater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1905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When the stations can communicate directly without using a rep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Only when you have an endorsement for simplex operation on your lic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Only when third party traffic is not being pa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Only if you have simplex modulation cap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01114-0783-4444-ACC7-1A99FA8F520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09480" y="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12 - Under what circumstances should you consider communicating via simplex rather than a repeater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1905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When the stations can communicate directly without using a repe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Only when you have an endorsement for simplex operation on your lic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Only when third party traffic is not being pa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Only if you have simplex modulation cap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4ACE76-0E99-4F10-98B8-5DC92DAB40B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09480" y="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13 - Which of the following is true of the use of SSB phone in amateur bands above 50 MHz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It is permitted only by holders of a General Class or higher lic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It is permitted only on repea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It is permitted in at least some portion of all the amateur bands above 50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It is permitted only on when power is limited to no more than 100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22049-AB5C-479F-A7D7-B6DD8D4C3B2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09480" y="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B13 - Which of the following is true of the use of SSB phone in amateur bands above 50 MHz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It is permitted only by holders of a General Class or higher lic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It is permitted only on repea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C. It is permitted in at least some portion of all the amateur bands above 50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It is permitted only on when power is limited to no more than 100 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3D611E-EB01-445D-A167-BE66DC5B0F5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 – Public servic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emergency and non-emergency operations; applicability of FCC rules; RACES and ARES; net and traffic procedures; emergency restr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73A4A-A67D-4B64-AADE-585DF100043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A01 - What is the most common repeater frequency offset in the 2 meter band?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Plus 5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Plus or minus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Minus 5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Only plus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24FBB-A97A-416E-9D3D-C833CEB7645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0948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1 - When do the FCC rules NOT apply to the operation of an amateur st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When operating a RACES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When operating under special FEMA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When operating under special ARES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Never, FCC rules always a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F7A042-0668-4124-8F5B-3BFFB05940A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0948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1 - When do the FCC rules NOT apply to the operation of an amateur st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When operating a RACES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When operating under special FEMA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When operating under special ARES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Never, FCC rules always a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36FF2A-A8D0-45F6-8728-6136D359767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09480" y="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2 - What is one way to recharge a 12-volt lead-acid station battery if the commercial power is ou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Cool the battery in ice for several h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dd acid to the bat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Connect the battery in parallel with a vehicle’s battery and run the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4A5BEF-B3C3-44D5-A76F-6F3A1691B01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09480" y="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2 - What is one way to recharge a 12-volt lead-acid station battery if the commercial power is ou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Cool the battery in ice for several h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dd acid to the bat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C. Connect the battery in </a:t>
            </a:r>
            <a:r>
              <a:rPr b="1" i="1" lang="en-US" sz="2800" spc="-1" strike="noStrike" u="sng">
                <a:solidFill>
                  <a:srgbClr val="ffc000"/>
                </a:solidFill>
                <a:uFillTx/>
                <a:latin typeface="Eurostile"/>
                <a:ea typeface="Lucida Sans Unicode"/>
              </a:rPr>
              <a:t>parallel</a:t>
            </a: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 with a vehicle’s battery and run th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320A5-127B-43F4-9831-E3EE8F9CBE8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52280" y="0"/>
            <a:ext cx="8763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3 - What should be done to insure that voice message traffic containing proper names and unusual words are copied correctly by the receiving statio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71600" y="289548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 entire message should be repeated at least four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Such messages must be limited to no more than 10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Such words and terms should be spelled out using a standard phonetic alphab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54921D-2E4A-4340-8EB9-17643C6108F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52280" y="0"/>
            <a:ext cx="8763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3 - What should be done to insure that voice message traffic containing proper names and unusual words are copied correctly by the receiving statio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71600" y="289548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 entire message should be repeated at least four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Such messages must be limited to no more than 10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C. Such words and terms should be spelled out using a standard phonetic alphab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FE9878-A0FD-47D0-884B-F5B78C84C72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52280" y="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oper Black"/>
              </a:rPr>
              <a:t>RACES / 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251460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RACES – Radio Amateur Civil Emergenc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4360" indent="-223920">
              <a:lnSpc>
                <a:spcPct val="100000"/>
              </a:lnSpc>
              <a:spcBef>
                <a:spcPts val="451"/>
              </a:spcBef>
              <a:buClr>
                <a:srgbClr val="0d0d0d"/>
              </a:buClr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Work with local, state and federal government on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4360" indent="-223920">
              <a:lnSpc>
                <a:spcPct val="100000"/>
              </a:lnSpc>
              <a:spcBef>
                <a:spcPts val="451"/>
              </a:spcBef>
              <a:buClr>
                <a:srgbClr val="0d0d0d"/>
              </a:buClr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When activated, you work for the government (Restric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4360" indent="-223920">
              <a:lnSpc>
                <a:spcPct val="100000"/>
              </a:lnSpc>
              <a:spcBef>
                <a:spcPts val="451"/>
              </a:spcBef>
              <a:buClr>
                <a:srgbClr val="0d0d0d"/>
              </a:buClr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When activated, mission participants are covered by government insu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00600" y="251460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ARES - Amateur Radio Emergency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4360" indent="-223920">
              <a:lnSpc>
                <a:spcPct val="100000"/>
              </a:lnSpc>
              <a:spcBef>
                <a:spcPts val="451"/>
              </a:spcBef>
              <a:buClr>
                <a:srgbClr val="0d0d0d"/>
              </a:buClr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Health and welf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4360" indent="-223920">
              <a:lnSpc>
                <a:spcPct val="100000"/>
              </a:lnSpc>
              <a:spcBef>
                <a:spcPts val="451"/>
              </a:spcBef>
              <a:buClr>
                <a:srgbClr val="0d0d0d"/>
              </a:buClr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Work with government and NGO (Red Cross, Salvation Army) and support servic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4360" indent="-223920">
              <a:lnSpc>
                <a:spcPct val="100000"/>
              </a:lnSpc>
              <a:spcBef>
                <a:spcPts val="451"/>
              </a:spcBef>
              <a:buClr>
                <a:srgbClr val="0d0d0d"/>
              </a:buClr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When activated, you still are a civili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25466-9103-411D-B1BA-1F32D2ACBAB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880" y="5638680"/>
            <a:ext cx="77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te – both groups do good work, and many hams belong to both group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so both groups are often combin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220212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09480" y="-1584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4 - What do RACES and ARES have in commo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y represent the two largest ham clubs in the United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Both organizations broadcast road and weather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Neither may handle emergency traffic supporting public service a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Both organizations may provide communications during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C8584-6D3E-41B5-A071-FA5C4B68322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09480" y="-1584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4 - What do RACES and ARES have in commo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y represent the two largest ham clubs in the United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Both organizations broadcast road and weather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Neither may handle emergency traffic supporting public service a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Both organizations may provide communications during emer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63D75F-D3AC-406E-808D-5C9B2E121BB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28600" y="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5 - Which of the following describes the Radio Amateur Civil Emergency Service (RACES)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2120" y="2057400"/>
            <a:ext cx="7848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A radio service using amateur frequencies for emergency management or civil defense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 radio service using amateur stations for emergency management or civil defense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An emergency service using amateur operators certified by a civil defense organization as being enrolled in that 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21B5CE-C280-466B-B3BC-6CC050D51CA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A01 - What is the most common repeater frequency offset in the 2 meter band?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Plus 5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B. Plus or minus 600 k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Minus 5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Only plus 6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DE4ED1-808A-4180-9853-ED81AC890AD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28600" y="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5 - Which of the following describes the Radio Amateur Civil Emergency Service (RACES)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2120" y="2057400"/>
            <a:ext cx="7848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A radio service using amateur frequencies for emergency management or civil defense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A radio service using amateur stations for emergency management or civil defense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An emergency service using amateur operators certified by a civil defense organization as being enrolled in that orga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78D5F0-9996-4411-AD60-F3C92C6F87F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52280" y="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B10 When may the FCC restrict normal frequency operations of amateur stations participating in RA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38080" y="2971800"/>
            <a:ext cx="7620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When they declare a temporary state of communication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When they seize your equipment for use in disaster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Only when all amateur stations are instructed to stop transmi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When the President’s War Emergency Powers have been invo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CF2780-C32B-4987-880D-C97E92135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52280" y="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G2B10 When may the FCC restrict normal frequency operations of amateur stations participating in RA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2971800"/>
            <a:ext cx="7620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When they declare a temporary state of communication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When they seize your equipment for use in disaster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Only when all amateur stations are instructed to stop transmi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Comic Sans MS"/>
                <a:ea typeface="Lucida Sans Unicode"/>
              </a:rPr>
              <a:t>D. When the President’s War Emergency Powers have been invo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32A1C-074D-4026-A56B-0DDCA9DA6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0880" y="0"/>
            <a:ext cx="8382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6 - Which of the following is an accepted practice to get the immediate attention of a net control station when reporting an emergency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43000" y="2438280"/>
            <a:ext cx="7162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Repeat the words SOS three times followed by the call sign of the reporting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Press the push-to-talk button three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Begin your transmission by saying "Priority" or "Emergency"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Play a pre-recorded emergency alert tone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56BF3C-A3C5-42AC-BCFC-FDCFA5F2377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80880" y="0"/>
            <a:ext cx="8382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6 - Which of the following is an accepted practice to get the immediate attention of a net control station when reporting an emergency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3000" y="2438280"/>
            <a:ext cx="7162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Repeat the words SOS three times followed by the call sign of the reporting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Press the push-to-talk button three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C. Begin your transmission by saying "Priority" or "Emergency" followed by your call 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Play a pre-recorded emergency alert tone followed by your call 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B3F53-A05F-4882-A83C-379E405D54B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09480" y="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7 - Which of the following is an accepted practice for an amateur operator who has checked into an emergency traffic ne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2590920"/>
            <a:ext cx="7467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Provided that the frequency is quiet, announce the station call sign and location every 5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Move 5 kHz away from the net's frequency and use high power to ask other hams to keep clear of the net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Remain on frequency without transmitting until asked to do so by the net control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 choices are corr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2BD6F-6451-43A9-AD11-82D480D8D82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609480" y="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7 - Which of the following is an accepted practice for an amateur operator who has checked into an emergency traffic ne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2590920"/>
            <a:ext cx="7467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Provided that the frequency is quiet, announce the station call sign and location every 5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Move 5 kHz away from the net's frequency and use high power to ask other hams to keep clear of the net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C. Remain on frequency without transmitting until asked to do so by the net control 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 choices are corr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73AB24-3F5D-4ED0-81A2-900B2C5DBAE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8 - Which of the following is a characteristic of good emergency traffic handling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Passing messages exactly as re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Making decisions as to whether or not messages should be relayed or delive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Communicating messages to the news media for broadcast outside the disaster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91EFC1-90D4-44F0-A03E-4C27CA4CFC2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8 - Which of the following is a characteristic of good emergency traffic handling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Passing messages exactly as rece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Making decisions as to whether or not messages should be relayed or delive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Communicating messages to the news media for broadcast outside the disaster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ll of these choices are corr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98171-2726-4C80-958B-6A85193D705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28600" y="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9 - Are amateur station control operators ever permitted to operate outside the frequency privileges of their license clas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2438280"/>
            <a:ext cx="7391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Yes, but only when part of a FEMA emergenc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Yes, but only when part of a RACES emergenc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Yes, but only if necessary in situations involving the immediate safety of human life or protection of prope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BA5149-8FCA-4DCC-BCED-C051E9258E2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A02   What is the national calling frequency for FM simplex operations in the 70 cm band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146.520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145.000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432.100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446.000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091788-AF73-4282-AE8B-BAD2F7D73F7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28600" y="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09 - Are amateur station control operators ever permitted to operate outside the frequency privileges of their license clas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2120" y="2438280"/>
            <a:ext cx="7391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Yes, but only when part of a FEMA emergenc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Yes, but only when part of a RACES emergenc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Yes, but only if necessary in situations involving the immediate safety of human life or protection of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B6F5E-7C64-420B-877E-5FE6DC0F2B9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10 - What is the preamble in a formal traffic message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 first paragraph of the message 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he message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he priority handling indicator for the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he information needed to track the message as it passes through the amateur radio traffic handling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EC6B99-C735-4F3B-B5D9-0C4A41C901D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AA1200-6189-42B9-84F6-BD0950E4DF4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rcRect l="5897" t="16726" r="6571" b="5871"/>
          <a:stretch/>
        </p:blipFill>
        <p:spPr>
          <a:xfrm>
            <a:off x="2362320" y="1459080"/>
            <a:ext cx="6219720" cy="420984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219320" y="3808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mal Message Traff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" y="1459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am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2"/>
          </p:cNvCxnSpPr>
          <p:nvPr/>
        </p:nvCxnSpPr>
        <p:spPr>
          <a:xfrm>
            <a:off x="1028880" y="1856880"/>
            <a:ext cx="1259280" cy="505800"/>
          </a:xfrm>
          <a:prstGeom prst="straightConnector1">
            <a:avLst/>
          </a:prstGeom>
          <a:ln cap="sq"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228600" y="320040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ec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the word count in the message a provides basic error-chec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2111400"/>
            <a:ext cx="838440" cy="63180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83" name=""/>
          <p:cNvCxnSpPr/>
          <p:nvPr/>
        </p:nvCxnSpPr>
        <p:spPr>
          <a:xfrm flipV="1">
            <a:off x="1905120" y="2664720"/>
            <a:ext cx="3048480" cy="686520"/>
          </a:xfrm>
          <a:prstGeom prst="straightConnector1">
            <a:avLst/>
          </a:prstGeom>
          <a:ln cap="sq" w="255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slow">
    <p:wipe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09480" y="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10   What is the preamble in a formal traffic message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 first paragraph of the message 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he message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he priority handling indicator for the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D. The information needed to track the message as it passes through the amateur radio traffic handl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EA9F36-71C9-404B-AA95-1326B79E860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28600" y="0"/>
            <a:ext cx="8534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11 - What is meant by the term “check” in reference to a formal traffic message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21337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The check is a count of the number of words or word equivalents in the text portion of the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he check is the value of a money order attached to the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he check is a list of stations that have relayed the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he check is a box on the message form that tells you the message was re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23DBA5-DC47-471A-8D4A-063E9716608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28600" y="0"/>
            <a:ext cx="8534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2C11 - What is meant by the term “check” in reference to a formal traffic message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0720" y="21337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The check is a count of the number of words or word equivalents in the text portion of the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The check is the value of a money order attached to the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The check is a list of stations that have relayed the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The check is a box on the message form that tells you the message was re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DF944C-402B-4B9E-9DA8-7F7BE739F2F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C12 - What is the Amateur Radio Emergency Service (ARES)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1295280"/>
            <a:ext cx="800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. Licensed amateurs who have voluntarily registered their qualifications and equipment for communications duty in the public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Licensed amateurs who are members of the military and who voluntarily agreed to provide message handling services in the case of an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A training program that provides licensing courses for those interested in obtaining an amateur license to use during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 training program that certifies amateur operators for membership in the Radio Amateur Civil Emergency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43064-F182-484C-921D-019C2679CA6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094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2C12 - What is the Amateur Radio Emergency Service (ARES)?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95280"/>
            <a:ext cx="800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  <a:ea typeface="Lucida Sans Unicode"/>
              </a:rPr>
              <a:t>A. Licensed amateurs who have voluntarily registered their qualifications and equipment for communications duty in the public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. Licensed amateurs who are members of the military and who voluntarily agreed to provide message handling services in the case of an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. A training program that provides licensing courses for those interested in obtaining an amateur license to use during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. A training program that certifies amateur operators for membership in the Radio Amateur Civil Emergency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E3F774-1DA1-4B67-B5B1-BA611C8F379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52280" y="0"/>
            <a:ext cx="8839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G2D01 What is the Amateur Auxiliary to the FC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20574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A. Amateur volunteers who are formally enlisted to monitor the airwaves for rules vio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Amateur volunteers who conduct amateur licensing examin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Amateur volunteers who conduct frequency coordination for amateur VHF repea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Amateur volunteers who use their station equipment to help civil defense organizations in times of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CB6CD7-9FDC-477A-A470-45E61C75B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52280" y="0"/>
            <a:ext cx="8839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G2D01 What is the Amateur Auxiliary to the FC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20574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Comic Sans MS"/>
                <a:ea typeface="Lucida Sans Unicode"/>
              </a:rPr>
              <a:t>A. Amateur volunteers who are formally enlisted to monitor the airwaves for rules vio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B. Amateur volunteers who conduct amateur licensing examin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. Amateur volunteers who conduct frequency coordination for amateur VHF repea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7120"/>
                <a:tab algn="l" pos="1541520"/>
                <a:tab algn="l" pos="2455920"/>
                <a:tab algn="l" pos="3370320"/>
                <a:tab algn="l" pos="4284720"/>
                <a:tab algn="l" pos="5199120"/>
                <a:tab algn="l" pos="6113520"/>
                <a:tab algn="l" pos="7027920"/>
                <a:tab algn="l" pos="7942320"/>
                <a:tab algn="l" pos="8856720"/>
                <a:tab algn="l" pos="977112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D. Amateur volunteers who use their station equipment to help civil defense organizations in times of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DE9848-7307-41B8-87EA-32224DF97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Operating Proced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4:03:54Z</dcterms:created>
  <dc:creator>Howard Schultz</dc:creator>
  <dc:description/>
  <dc:language>en-US</dc:language>
  <cp:lastModifiedBy>Daniel Stevens</cp:lastModifiedBy>
  <dcterms:modified xsi:type="dcterms:W3CDTF">2015-05-23T04:56:38Z</dcterms:modified>
  <cp:revision>44</cp:revision>
  <dc:subject/>
  <dc:title>SUBELEMENT T2 - Operating Procedures  [3 Exam Questions - 3 Groups]  T2A - Station operation: choosing an operating frequency; calling another station; test transmissions; procedural signs; use of minimum power; choosing an operating frequency; band plans; calling frequencies; repeater offsets</dc:title>
</cp:coreProperties>
</file>