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move the slide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D82E-59C3-41D4-9ECE-A30BE44E3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element T7  Station Equipment. Technician Training Slides for 2014 Question Pool  Good through June 30, 2018  Assembled by Washington Ham Trainers, Daniel Stevens KL7WM, Howard Schultz, W7H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33C8-5A84-428E-A48E-CCC927D3B2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564-C04B-460C-99B0-E23EEFAB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867-F2AC-4BBF-B145-9651C2F2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4F1-502F-4FAD-B0A8-05C2B24C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A32-E2B2-44E7-AF60-28447203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45BC0-37FD-4341-BD3F-94C6B91B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14FB6-80EF-4367-AA1A-FD5325FC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16E43-760B-4C67-9F16-C5CD1C74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84202-BB80-41DA-A6F1-73149349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1DF3D-07CC-4E72-B3F4-7858C47F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0B260-37A8-4B0C-8EA1-7F93F331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419F0-5282-409F-A813-9E416868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605-3625-4F2D-9445-04DB08CA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32C85-CD0C-4D32-B529-85A4A600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10DD9-18A5-4181-ADE2-64A4623E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C0941-D40C-42E9-8A65-5A2D61ED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CC773-8BDA-4AFC-8C51-E3EDC453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785A3-04D9-4FFF-8498-05CE93AC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EAC09-5481-4A2F-924F-FBE0816002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CEB318-0742-492A-8110-78542225C4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781E63-9469-489D-9A4B-3F98B279D3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E7961F-4955-45E0-A7C9-20BBA07475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1FDBCA-004B-46C3-82A0-4D47F5ECA6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CD4-4DDE-48ED-97F3-812A647C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50A0FD-B1B6-4010-B786-CE5FB4D8BB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3F86DD-2AA8-4124-88E1-9572B1DE54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E2093E-261B-4FA7-A655-006547C3DD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3927C-89B8-4798-AB3A-86C00C60CA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D9305-A478-4278-8D33-57542EE91D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509F14-1669-43F8-8A15-AD5C6691E6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B2082D-9BDD-4A6F-919A-D586A7853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A4B-9F53-4735-94D3-2034F2C6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B39-8809-4076-A83D-CB794150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5B2-1541-4267-88FB-46B290D7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51E-7331-4C79-9E8B-E54A3AEE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7D6-3D6E-46B2-94DA-2D7876C9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9EB-0F80-4A80-8C1C-9A691B26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1600200" indent="-22860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2057400" indent="-228600">
              <a:spcBef>
                <a:spcPts val="601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530A-8EB5-4A67-9E3A-F0209BAC642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F00A-C342-423B-9412-B492430F6C7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1600200" indent="-22860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2057400" indent="-228600">
              <a:spcBef>
                <a:spcPts val="601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2970-1B17-42B5-B428-2413C635ECA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F61C-E0B0-451F-9BFF-9EC1D209AC5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1600200" indent="-22860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2057400" indent="-228600">
              <a:spcBef>
                <a:spcPts val="601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1C68-F2EA-442C-90ED-526DB7AD19E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SUBELEMENT  T7 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Eurostile"/>
              </a:rPr>
              <a:t>Station equipment: common transmitter and receiver problems; antenna measurements; troubleshooting; basic repair and testing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Eurostile"/>
              </a:rPr>
              <a:t>[4 Exam Questions - 4 Groups]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31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  <a:ea typeface="Arial"/>
              </a:rPr>
              <a:t>Station Equipment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A04 - Which term describes the ability of a receiver to discriminate between multiple signal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Discrimination rati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ensitiv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electiv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Harmonic Distor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76AD-C505-4E49-BF16-5C4BD38499A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10 - What is probably happening when an ohmmeter, connected across an unpowered circuit, initially indicates a low resistance and then shows increasing resistance with tim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ohmmeter is defectiv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circuit contains a large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circuit contains a large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e circuit is a relaxation oscil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33EC-76BB-42E5-9C65-F6001711CFF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10 - What is probably happening when an ohmmeter, connected across an unpowered circuit, initially indicates a low resistance and then shows increasing resistance with tim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ohmmeter is defectiv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The circuit contains a large capaci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circuit contains a large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e circuit is a relaxation oscil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B848-04CC-487E-8BCB-FCE0F31C760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D11 - Which of the following precautions should be taken when measuring circuit resistance with an ohmmete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Ensure that the applied voltag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Ensure that the circuit is not power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Ensure that the circuit is ground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Ensure that the circuit is operating at the correct frequenc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B7E0-94F6-4F5D-B5A7-9F66B634311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D11 - Which of the following precautions should be taken when measuring circuit resistance with an ohmmete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Ensure that the applied voltag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Ensure that the circuit is not powere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Ensure that the circuit is ground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Ensure that the circuit is operating at the correct frequenc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E631-968A-43A0-ADA6-090190F1E9E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12 - Which of the following precautions should be taken when measuring high voltages with a voltmeter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Ensure that the voltmeter has very low imped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Ensure that the voltmeter and leads are rated for use at the voltages to be measur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Ensure that the circuit is grounded through the volt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Ensure that the voltmeter is set to the correct frequenc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724A-05C4-46A4-9852-3C891FC7BF7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12 - Which of the following precautions should be taken when measuring high voltages with a voltmeter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Ensure that the voltmeter has very low imped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Ensure that the voltmeter and leads are rated for use at the voltages to be measure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Ensure that the circuit is grounded through the volt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Ensure that the voltmeter is set to the correct frequenc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18DF-7DF1-4CC3-BD35-D56A2305F11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End of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SUBELEMENT  T7 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Eurostile"/>
              </a:rPr>
              <a:t>Station equipment: common transmitter and receiver problems; antenna measurements; troubleshooting; basic repair and testing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7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  <a:ea typeface="Arial"/>
              </a:rPr>
              <a:t>Station Equipment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A04 - Which term describes the ability of a receiver to </a:t>
            </a:r>
            <a:r>
              <a:rPr b="0" lang="en-US" sz="3200" spc="-1" strike="noStrike">
                <a:solidFill>
                  <a:srgbClr val="ffc000"/>
                </a:solidFill>
                <a:latin typeface="Impact"/>
              </a:rPr>
              <a:t>discriminate</a:t>
            </a: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 between multiple signal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Discrimination rati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ensitiv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Selectivity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Harmonic Distor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06F9-4F13-4023-BA1B-2039D9D0F00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A05 - What is the name of a circuit that generates a signal of a desired frequency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actance modu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roduct det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Low-pass fil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Oscil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0FD1-9C62-4121-8BB7-A7666E26CD7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A05 - What is the name of a circuit that </a:t>
            </a:r>
            <a:r>
              <a:rPr b="0" lang="en-US" sz="2900" spc="-1" strike="noStrike">
                <a:solidFill>
                  <a:srgbClr val="ffc000"/>
                </a:solidFill>
                <a:latin typeface="Impact"/>
              </a:rPr>
              <a:t>generates</a:t>
            </a: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 </a:t>
            </a:r>
            <a:r>
              <a:rPr b="0" lang="en-US" sz="2900" spc="-1" strike="noStrike">
                <a:solidFill>
                  <a:srgbClr val="ffc000"/>
                </a:solidFill>
                <a:latin typeface="Impact"/>
              </a:rPr>
              <a:t>a signal </a:t>
            </a: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of a desired frequency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actance modu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roduct det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Low-pass fil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Oscilla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AA47-42EE-4D74-A5C4-151DE4104D7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A06 - What device takes the output of a low-powered 28 MHz SSB exciter and produces a 222 MHz output signal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High-pass fil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Low-pass fil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ransver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Phase conver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DC92-5368-4ED9-B0ED-A3FFA59ACCF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A06 - What device takes the output of a low-powered 28 MHz SSB exciter and produces a 222 MHz output signal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High-pass fil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Low-pass fil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Transvert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Phase conver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7CF7-59B7-4941-ACA5-50A60181C31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A07 -  What is meant by term “PTT”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Pre-transmission tuning to reduce transmitter harmonic emis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recise tone transmissions used to limit repeater access to only certain signal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primary transformer tuner use to match antenna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e push to talk function which switches between receive and transm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7D71-CBD1-4842-B97A-12D827EC9E2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A07 -  What is meant by term “PTT”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Pre-transmission tuning to reduce transmitter harmonic emis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recise tone transmissions used to limit repeater access to only certain signal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primary transformer tuner use to match antenna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The push to talk function which switches between receive and transmi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33C9-E639-4273-A2E1-E91665C8F26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A08 - Which of the following describes combining speech with an RF carrier signal?-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Impedance match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Oscil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Low-pass filter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B6B3-6520-4AA7-B371-2D694894D9C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A08 - Which of the following describes combining speech with an RF carrier signal?-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Impedance match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Oscil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Modulat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Low-pass filter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0FE0-A0A3-4EC8-B7CD-B2BFCEC2030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52280" y="3045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Dutch801 Rm BT"/>
              </a:rPr>
              <a:t>T7A – Station equipment: </a:t>
            </a:r>
            <a:r>
              <a:rPr b="1" i="1" lang="en-US" sz="2000" spc="-1" strike="noStrike">
                <a:solidFill>
                  <a:srgbClr val="0d0d0d"/>
                </a:solidFill>
                <a:latin typeface="Dutch801 Rm BT"/>
              </a:rPr>
              <a:t>receivers; transmitters; transceivers; modulation; transverters; low power and weak signal operation; transmit and receive amplifier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Dutch801 Rm BT"/>
              </a:rPr>
              <a:t>T7B – Common transmitter and receiver problems: </a:t>
            </a:r>
            <a:r>
              <a:rPr b="1" i="1" lang="en-US" sz="2000" spc="-1" strike="noStrike">
                <a:solidFill>
                  <a:srgbClr val="0d0d0d"/>
                </a:solidFill>
                <a:latin typeface="Dutch801 Rm BT"/>
              </a:rPr>
              <a:t>symptoms of overload and overdrive; distortion; causes of interference; interference and consumer electronics; part 15 devices; over and under modulation; RF feedback; off frequency signals; fading and noise; problems with digital communications interfaces 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Dutch801 Rm BT"/>
              </a:rPr>
              <a:t>T7C – Antenna measurements and troubleshooting: </a:t>
            </a:r>
            <a:r>
              <a:rPr b="1" i="1" lang="en-US" sz="2000" spc="-1" strike="noStrike">
                <a:solidFill>
                  <a:srgbClr val="0d0d0d"/>
                </a:solidFill>
                <a:latin typeface="Dutch801 Rm BT"/>
              </a:rPr>
              <a:t>measuring SWR; dummy loads; coaxial cables; feed line failure modes 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Dutch801 Rm BT"/>
              </a:rPr>
              <a:t>T7D – Basic repair and testing: </a:t>
            </a:r>
            <a:r>
              <a:rPr b="1" i="1" lang="en-US" sz="2000" spc="-1" strike="noStrike">
                <a:solidFill>
                  <a:srgbClr val="0d0d0d"/>
                </a:solidFill>
                <a:latin typeface="Dutch801 Rm BT"/>
              </a:rPr>
              <a:t>soldering; using basic test instruments; connecting a voltmeter, ammeter, or ohmmeter</a:t>
            </a:r>
            <a:r>
              <a:rPr b="1" i="1" lang="en-US" sz="2400" spc="-1" strike="noStrike">
                <a:solidFill>
                  <a:srgbClr val="0d0d0d"/>
                </a:solidFill>
                <a:latin typeface="Eurostile"/>
              </a:rPr>
              <a:t>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501A-74DF-48F3-BBDF-AD5B3C494E4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A09 - Which of the following devices is most useful for VHF weak-signal communicatio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 quarter-wave vertical antenn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multi-mode VHF transcei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 omni-directional antenn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mobile VHF FM transcei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F1C9-FD24-452B-98B1-11486058E93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A09 - Which of the following devices is most useful for VHF weak-signal communicatio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 quarter-wave vertical antenn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A multi-mode VHF transceiv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 omni-directional antenn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mobile VHF FM transcei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83FA-870D-422A-AF10-D872F414907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A10 - What device increases the low-power output from a handheld transceiver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 voltage divid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n RF power amplifi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 impedance network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2D91-E63A-4D31-89BE-86000B789EF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A10 - What device increases the low-power output from a handheld transceiver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 voltage divid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An RF power amplifi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 impedance network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E979-7C51-4CB9-A843-9B2F7727FC7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rcRect l="0" t="14594" r="0" b="16350"/>
          <a:stretch/>
        </p:blipFill>
        <p:spPr>
          <a:xfrm>
            <a:off x="4572000" y="4087800"/>
            <a:ext cx="33336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A11 - Where is an RF preamplifier installed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Between the antenna and recei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t the output of the transmitter's power amplifi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Between a transmitter and antenna tun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t the receiver's audio outpu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C987-9B95-448E-9004-7E8E6F57582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A11 - Where is an RF preamplifier installed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Between the antenna and receiv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t the output of the transmitter's power amplifi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Between a transmitter and antenna tun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t the receiver's audio outpu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7FFF-197B-4C1C-B101-D760014AFC6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B – Common transmitter and receiver problems: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symptoms of overload and overdrive; distortion; causes of interference; interference and consumer electronics; part 15 devices; over and under modulation; RF feedback; off frequency signals; fading and noise; problems with digital communications interfac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4EDB-77EE-4EB1-A62D-CF640B7B748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B01  - What can you do if you are told your FM handheld or mobile transceiver is over-deviating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alk louder into the microphon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Let the transceiver cool off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Change to a higher power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alk farther away from the microphon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934E-ED19-46B3-8D78-F9F9DC6AC50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B01  - What can you do if you are told your FM handheld or mobile transceiver is over-deviating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240" y="25146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alk louder into the microphon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Let the transceiver cool off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Change to a higher power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Talk farther away from the microphon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2059-27A3-4464-9D0D-8043B8E024B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02 - What would cause a broadcast AM or FM radio to receive an amateur radio transmission unintentionally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he receiver is unable to reject strong signals outside the AM or FM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microphone gain of the transmitter is turned up too hig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audio amplifier of the transmitter is overload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e deviation of an FM transmitter is set too lo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C812-7D35-4CAB-9884-38F3FEB3B21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Receiver Technology</a:t>
            </a:r>
            <a:endParaRPr b="0" lang="en-US" sz="40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Dutch801 Rm BT"/>
              </a:rPr>
              <a:t>Current receivers are largely superheterodyn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Dutch801 Rm BT"/>
              </a:rPr>
              <a:t>Superheterodyne receivers convert the receive frequency to lower Intermediate Frequencies (IF) to allow filter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Dutch801 Rm BT"/>
              </a:rPr>
              <a:t>Multiple conversions makes a more selective recei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Dutch801 Rm BT"/>
              </a:rPr>
              <a:t>The final stage includes a Detector that extracts the audio from the modulated carri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Dutch801 Rm BT"/>
              </a:rPr>
              <a:t>A CW/SSB detector is called a Product Det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Dutch801 Rm BT"/>
              </a:rPr>
              <a:t>An FM detector is called a Discrimin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8D7B-3439-4990-AACD-DCE9FEBFD12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02 - What would cause a broadcast AM or FM radio to receive an amateur radio transmission unintentionally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The receiver is unable to reject strong signals outside the AM or FM ban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microphone gain of the transmitter is turned up too hig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audio amplifier of the transmitter is overload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he deviation of an FM transmitter is set too lo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465E-B74B-47D3-BE07-45F4E7DA64E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03 - Which of the following may be a cause of radio frequency interferenc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Fundamental overloa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Harmonic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purious emiss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5153-128E-453C-8FE1-0F7E20838FC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03 - Which of the following may be a cause of radio frequency interferenc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Fundamental overloa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Harmonic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purious emiss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All of these choices are correc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7931-2751-4E19-BAC2-8E197DD20C5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04 - Which of the following is a way to reduce or eliminate interference by an amateur transmitter to a nearby telephon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Put a filter on the amateur transmit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Reduce the microphone gai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Reduce the SWR on the transmitter transmission lin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Put a RF filter on the telephon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1F54-C7F1-410C-A7E4-A20765A4C2F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04 - Which of the following is a way to reduce or eliminate interference by an amateur transmitter to a nearby telephon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Put a filter on the amateur transmit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Reduce the microphone gai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Reduce the SWR on the transmitter transmission lin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Put a RF filter on the telephon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43A9-100C-4E5A-8ADA-1516F65805C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rcRect l="0" t="23232" r="0" b="21485"/>
          <a:stretch/>
        </p:blipFill>
        <p:spPr>
          <a:xfrm>
            <a:off x="2133720" y="4641840"/>
            <a:ext cx="2143080" cy="118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5486400" y="46702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05 - How can overload of a non-amateur radio or TV receiver by an amateur signal be reduced or eliminated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Block the amateur signal with a filter at the antenna input of the affected recei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Block the interfering signal with a filter on the amateur transmit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witch the transmitter from FM to SSB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Switch the transmitter to a narrow-band m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9F7F-075B-4C3D-99E6-D8C54E478C8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05 - How can overload of a non-amateur radio or TV receiver by an amateur signal be reduced or eliminated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Block the amateur signal with a filter at the antenna input of the affected receiv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Block the interfering signal with a filter on the amateur transmit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witch the transmitter from FM to SSB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Switch the transmitter to a narrow-band m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2507-3228-4994-84A1-4ED1C4ED722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06 - Which of the following actions should you take if a neighbor tells you that your station’s transmissions are interfering with their radio or TV reception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762120" y="22093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Make sure that your station is functioning properly and that it does not cause interference to your own radio or television when it is tuned to the same channel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Immediately turn off your transmitter and contact the nearest FCC office for assis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ell them that your license gives you the right to transmit and nothing can be done to reduce the interfere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Install a harmonic doubler on the output of your transmitter and tune it until the interference is elimina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A89D-2D67-4302-B5E4-9ACFE86FB0E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06 - Which of the following actions should you take if a neighbor tells you that your station’s transmissions are interfering with their radio or TV reception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762120" y="22093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Eurostile"/>
              </a:rPr>
              <a:t>A. Make sure that your station is functioning properly and that it does not cause interference to your own radio or television when it is tuned to the same channel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B. Immediately turn off your transmitter and contact the nearest FCC office for assistance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C. Tell them that your license gives you the right to transmit and nothing can be done to reduce the interference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d0d0d"/>
                </a:solidFill>
                <a:latin typeface="Eurostile"/>
              </a:rPr>
              <a:t>D. Install a harmonic doubler on the output of your transmitter and tune it until the interference is eliminated</a:t>
            </a: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A5CA-4F45-416D-B9D4-EE81DFC6EEB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07 - Which of the following may be useful in correcting a radio frequency interference problem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Snap-on ferrite chok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Low-pass and high-pass filte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Band-reject and band-pass filte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97A7-DF7C-45B1-9915-C7C143DACFB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A01 - Which term describes the ability of a receiver to detect the presence of a signal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 Linear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 Sensitiv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electiv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otal Harmonic Distor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1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  <a:ea typeface="Arial"/>
              </a:rPr>
              <a:t>Station Equipment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07 - Which of the following may be useful in correcting a radio frequency interference problem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Snap-on ferrite chok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Low-pass and high-pass filte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Band-reject and band-pass filte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All of these choices are correc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10BD-A4E2-4801-A010-38428B2A8F1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6095880" y="460548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"/>
          <p:cNvPicPr/>
          <p:nvPr/>
        </p:nvPicPr>
        <p:blipFill>
          <a:blip r:embed="rId2"/>
          <a:srcRect l="11208" t="53146" r="11208" b="0"/>
          <a:stretch/>
        </p:blipFill>
        <p:spPr>
          <a:xfrm>
            <a:off x="1066680" y="4800600"/>
            <a:ext cx="342108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08 - What should you do if something in a neighbor’s home is causing harmful interference to your amateur station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Work with your neighbor to identify the offending dev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olitely inform your neighbor about the rules that prohibit the use of devices which cause interfere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Check your station and make sure it meets the standards of good amateur pract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DF3B-6032-487D-BCB4-CAC3D40B756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08 - What should you do if something in a neighbor’s home is causing harmful interference to your amateur station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Work with your neighbor to identify the offending dev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olitely inform your neighbor about the rules that prohibit the use of devices which cause interfere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Check your station and make sure it meets the standards of good amateur pract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All of these choices are correc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7572-3337-49F9-8B5A-27EF52A4E96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09 - What is a Part 15 devic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 unlicensed device that may emit low powered radio signals on frequencies used by a licensed serv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type of amateur radio that can legally be used in the citizen’s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device for long distance communications using special codes sanctioned by the International Amateur Radio Un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type of test set used to determine whether a transmitter is in compliance with FCC regulation 91.15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F713-0ACA-440C-9AAF-814C2731B0E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09 - What is a Part 15 devic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Eurostile"/>
              </a:rPr>
              <a:t>A. An unlicensed device that may emit low powered radio signals on frequencies used by a licensed servi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type of amateur radio that can legally be used in the citizen’s 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device for long distance communications using special codes sanctioned by the International Amateur Radio Un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type of test set used to determine whether a transmitter is in compliance with FCC regulation 91.15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FBD3-6C98-4CD4-969F-FFFB89B9A48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10 - What might be the problem if you receive a report that your audio signal through the repeater is distorted or unintelligibl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676160" y="228564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Your transmitter may be slightly off frequenc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Your batteries may be running lo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You could be in a bad loc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48C1-C738-479F-BCA8-477119B27DD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10 - What might be the problem if you receive a report that your audio signal through the repeater is distorted or unintelligibl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676160" y="228564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Your transmitter may be slightly off frequenc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Your batteries may be running lo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You could be in a bad loc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All of these choices are correc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3644-A0F2-4A8B-ABED-84C9646D8FA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11 - What is a symptom of RF feedback in a transmitter or transceiver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380880" y="190476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Excessive SWR at the antenna connec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transmitter will not stay on the desired frequenc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Reports of garbled, distorted, or unintelligible transmiss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Frequent blowing of power supply fus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27F3-C4E5-4272-AF93-9E0CD9E1395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11 - What is a symptom of RF feedback in a transmitter or transceiver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80880" y="190476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Excessive SWR at the antenna connec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transmitter will not stay on the desired frequenc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Reports of garbled, distorted, or unintelligible transmission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Frequent blowing of power supply fus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C9B5-82BA-4F92-9EDC-0E50907C764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12 - What might be the first step to resolve cable TV interference from your ham radio transmission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dd a low pass filter to the TV antenna inpu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dd a high pass filter to the TV antenna inpu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dd a preamplifier to the TV antenna inpu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Be sure all TV coaxial connectors are installed proper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9C15-C3AE-416C-A6C9-5258F2A56C9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A01 - Which term describes the ability of a receiver to </a:t>
            </a:r>
            <a:r>
              <a:rPr b="0" lang="en-US" sz="2900" spc="-1" strike="noStrike">
                <a:solidFill>
                  <a:srgbClr val="ffc000"/>
                </a:solidFill>
                <a:latin typeface="Impact"/>
              </a:rPr>
              <a:t>detect</a:t>
            </a: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 the presence of a signal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 Linear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 Sensitivity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electivi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otal Harmonic Distor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  <a:ea typeface="Arial"/>
              </a:rPr>
              <a:t>Station Equipment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B12 - What might be the first step to resolve cable TV interference from your ham radio transmission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dd a low pass filter to the TV antenna inpu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dd a high pass filter to the TV antenna inpu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dd a preamplifier to the TV antenna inpu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Be sure all TV coaxial connectors are installed properly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7506-52C2-43BE-B240-639AD0194A6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C – Antenna measurements and troubleshooting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measuring SWR; dummy loads; coaxial cables; feed line failure mode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EC02-3211-41B7-97CF-1C797267ACA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Feedlines</a:t>
            </a:r>
            <a:endParaRPr b="0" lang="en-US" sz="36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Feedlines carry RF signals from the radio to the antenna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Coax, twin lead, ladder or window line are common feedline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The longer the feedline, the more loss that occur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Larger feedlines generally have less los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Loss is caused by RF energy being converted to heat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Feedline impedance must match the radio and antenna for maximum power transfer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Air dielectric in coax is low loss but may allow water entry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Ultraviolet light degrades insulation which may crack and allow water entry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Corrosion from water exposure is the #1 coax killer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DD5E-BC5E-4478-9BC8-6768D805584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tenna Analyzer and SWR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560" y="1266840"/>
            <a:ext cx="4343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Antenna analyzers can be used to verify antenna impedance (match).  A perfect SWR of 1:1 is ideal but anything less than 2:1 is OK and over 3:1 the antenna should be checked.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WR is not a performance measurement (dummy loads are perfect at 1:1) but is important to verify proper operation.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F09E-CDA7-471B-B665-BE4FAE887E6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Picture 2" descr="http://www.w4rt.com/images/miniVNA-titan-wide.jpg"/>
          <p:cNvPicPr/>
          <p:nvPr/>
        </p:nvPicPr>
        <p:blipFill>
          <a:blip r:embed="rId1"/>
          <a:srcRect l="0" t="0" r="10401" b="21639"/>
          <a:stretch/>
        </p:blipFill>
        <p:spPr>
          <a:xfrm>
            <a:off x="4495680" y="2514600"/>
            <a:ext cx="42674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176F-75B4-4AE6-9948-1EEE6AE93C0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Picture 2" descr="http://cq-amateur-radio.com/cq_highlights/2013_cq/2013_06_cq/2013_dayton_new_products/MFJ/MFJ-266/2013_MFJ-266C.jpg"/>
          <p:cNvPicPr/>
          <p:nvPr/>
        </p:nvPicPr>
        <p:blipFill>
          <a:blip r:embed="rId1"/>
          <a:stretch/>
        </p:blipFill>
        <p:spPr>
          <a:xfrm>
            <a:off x="5943600" y="1143000"/>
            <a:ext cx="2743200" cy="4238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http://cache.cart-imgs.fc2.com/user_img/radiation/64cf50f31a55ff12a1e9fb906b83a7cb.jpg"/>
          <p:cNvPicPr/>
          <p:nvPr/>
        </p:nvPicPr>
        <p:blipFill>
          <a:blip r:embed="rId2"/>
          <a:srcRect l="11108" t="0" r="47091" b="0"/>
          <a:stretch/>
        </p:blipFill>
        <p:spPr>
          <a:xfrm>
            <a:off x="3429000" y="1135080"/>
            <a:ext cx="2438280" cy="4246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" descr=""/>
          <p:cNvPicPr/>
          <p:nvPr/>
        </p:nvPicPr>
        <p:blipFill>
          <a:blip r:embed="rId3"/>
          <a:stretch/>
        </p:blipFill>
        <p:spPr>
          <a:xfrm>
            <a:off x="304920" y="609480"/>
            <a:ext cx="2957400" cy="22179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"/>
          <p:cNvPicPr/>
          <p:nvPr/>
        </p:nvPicPr>
        <p:blipFill>
          <a:blip r:embed="rId4"/>
          <a:stretch/>
        </p:blipFill>
        <p:spPr>
          <a:xfrm>
            <a:off x="988920" y="2827440"/>
            <a:ext cx="1587600" cy="35431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tenna and SWR Analyzer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01 - What is the primary purpose of a dummy load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8088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o prevent the radiation of signals when making tes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o prevent over-modulation of your transmit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o improve the radiation from your antenn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o improve the signal to noise ratio of your recei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0F70-EFE2-4B3B-903D-0E90C9BC5D0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01 - What is the primary purpose of a dummy load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8088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Eurostile"/>
              </a:rPr>
              <a:t>A. To prevent the radiation of signals when making tes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o prevent over-modulation of your transmit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o improve the radiation from your antenn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o improve the signal to noise ratio of your recei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2F8D-0E41-4B20-8B59-2617FD3F3B2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4043160" cy="2343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2"/>
          <a:srcRect l="15516" t="0" r="28850" b="0"/>
          <a:stretch/>
        </p:blipFill>
        <p:spPr>
          <a:xfrm>
            <a:off x="1143000" y="3809880"/>
            <a:ext cx="2085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02 - Which of the following instruments can be used to determine if an antenna is resonant at the desired operating frequency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 VTVM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n antenna analyz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Q 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frequency coun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61C9-8FAB-4F5E-A720-2BB1006C586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02 - Which of the following instruments can be used to determine if an antenna is resonant at the desired operating frequency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 VTVM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An antenna analyz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Q 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frequency coun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2DD8-0AF7-4EAF-9BFB-98F804F3B46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03 - What, in general terms, is standing wave ratio (SWR)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 measure of how well a load is matched to a transmission lin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ratio of high to low impedance in a feed lin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transmitter efficiency rati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 indication of the quality of your station’s ground connec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A66F-5BF6-4606-9627-4810CB91AF3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A02 - What is a transceive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 A type of antenna switc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unit combining the functions of a transmitter and a recei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component in a repeater which filters out unwanted interfere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type of antenna matching network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723D-ABC1-47F3-8381-14E97DE3276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03 - What, in general terms, is standing wave ratio (SWR)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A measure of how well a load is matched to a transmission lin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he ratio of high to low impedance in a feed lin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transmitter efficiency rati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 indication of the quality of your station’s ground connec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8C7F-8452-4AF4-BB81-B7721CF9307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04 - What reading on an SWR meter indicates a perfect impedance match between the antenna and the feed lin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2 to 1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1 to 3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1 to 1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10 to 1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A140-6DB7-45B0-9E05-5C00E2AE1DC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04 - What reading on an SWR meter indicates a perfect impedance match between the antenna and the feed lin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2 to 1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1 to 3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1 to 1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10 to 1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3060-1A60-4957-8174-C0273D13F10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C05 - What is the approximate SWR value above which the protection circuits in most solid-state transmitters begin to reduce transmitter powe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2 to 1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1 to 2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6 to 1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10 to 1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D5DE-53BA-465C-84E4-49F2A19624A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C05 - What is the approximate SWR value above which the protection circuits in most solid-state transmitters begin to reduce transmitter powe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2 to 1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1 to 2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6 to 1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10 to 1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7A86-41C6-4003-AFAF-B0F047C07AA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06 - What does an SWR reading of 4:1 indicat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Loss of -4dB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Good impedance matc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Gain of +4dB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Impedance mismatc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0B85-037E-4ED4-8F6B-3327596C37A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06 - What does an SWR reading of 4:1 indicat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Loss of -4dB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Good impedance matc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Gain of +4dB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Impedance mismatch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E8B9-9E80-452A-B1A5-8AC69FB2D1C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07 - What happens to power lost in a feed lin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It increases the SW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It comes back into your transmitter and could cause dama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t is converted into he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It can cause distortion of your sign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D607-08EF-450D-A81C-00CEAB7E699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07 - What happens to power lost in a feed lin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It increases the SW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It comes back into your transmitter and could cause dama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It is converted into hea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It can cause distortion of your sign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6A8E-B0A0-4EC2-9B12-66DEC66F168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1"/>
          <a:stretch/>
        </p:blipFill>
        <p:spPr>
          <a:xfrm>
            <a:off x="4952880" y="4038480"/>
            <a:ext cx="3060720" cy="22957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"/>
          <p:cNvPicPr/>
          <p:nvPr/>
        </p:nvPicPr>
        <p:blipFill>
          <a:blip r:embed="rId2"/>
          <a:stretch/>
        </p:blipFill>
        <p:spPr>
          <a:xfrm>
            <a:off x="152280" y="4572000"/>
            <a:ext cx="4595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08 - What instrument other than an SWR meter could you use to determine if a feed line and antenna are properly matched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Volt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Ohm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ambic penta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Directional watt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57D3-3C94-4983-894E-90BD650BBA9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A02 - What is a transceive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 A type of antenna switc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A unit combining the functions of a transmitter and a receiv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component in a repeater which filters out unwanted interfere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type of antenna matching network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675E-1828-4350-82AF-1D3056655D9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08 - What instrument other than an SWR meter could you use to determine if a feed line and antenna are properly matched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Volt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Ohm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ambic penta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Directional wattmet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02A6-8B83-435B-A403-7F1805F6E95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Picture 5" descr="zdw-cn-801hp"/>
          <p:cNvPicPr/>
          <p:nvPr/>
        </p:nvPicPr>
        <p:blipFill>
          <a:blip r:embed="rId1"/>
          <a:stretch/>
        </p:blipFill>
        <p:spPr>
          <a:xfrm>
            <a:off x="5715000" y="3505320"/>
            <a:ext cx="3162240" cy="2509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rcRect l="9590" t="4104" r="53665" b="34389"/>
          <a:stretch/>
        </p:blipFill>
        <p:spPr>
          <a:xfrm>
            <a:off x="6324480" y="1638360"/>
            <a:ext cx="2365560" cy="1866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"/>
          <p:cNvPicPr/>
          <p:nvPr/>
        </p:nvPicPr>
        <p:blipFill>
          <a:blip r:embed="rId3"/>
          <a:stretch/>
        </p:blipFill>
        <p:spPr>
          <a:xfrm>
            <a:off x="3200400" y="4343400"/>
            <a:ext cx="21621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09 - Which of the following is the most common cause for failure of coaxial cable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Moisture contamin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Gamma ray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velocity factor exceeds 1.0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Overload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E4FA-6041-42F0-ADD9-2775E5358A8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09 - Which of the following is the most common cause for failure of coaxial cable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Moisture contaminat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Gamma ray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velocity factor exceeds 1.0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Overload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BD82-D13F-4257-91EC-F9E97DDCB06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rcRect l="10169" t="31688" r="16382" b="9493"/>
          <a:stretch/>
        </p:blipFill>
        <p:spPr>
          <a:xfrm>
            <a:off x="4952880" y="3784680"/>
            <a:ext cx="2971800" cy="22464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1752480" y="3922560"/>
            <a:ext cx="261468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10 - Why should the outer jacket of coaxial cable be resistant to ultraviolet ligh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Ultraviolet resistant jackets prevent harmonic radi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Ultraviolet light can increase losses in the cable’s jacke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Ultraviolet and RF signals can mix together, causing interfere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Ultraviolet light can damage the jacket and allow water to enter the cabl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BA94-FADD-4BC6-9E98-4081AD6A0E5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10 - Why should the outer jacket of coaxial cable be resistant to ultraviolet ligh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Ultraviolet resistant jackets prevent harmonic radi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Ultraviolet light can increase losses in the cable’s jacke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Ultraviolet and RF signals can mix together, causing interfere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Ultraviolet light can damage the jacket and allow water to enter the cabl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787E-1C82-49FE-9C19-61D23C1BBDA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11 - What is a disadvantage of air core coaxial cable when compared to foam or solid dielectric type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It has more loss per foo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It cannot be used for VHF or UHF antenna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t requires special techniques to prevent water absorp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It cannot be used at below freezing temperatur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F2D0-D93E-4CB7-AB4B-728F52DC49A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11 - What is a disadvantage of air core coaxial cable when compared to foam or solid dielectric type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It has more loss per foo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It cannot be used for VHF or UHF antenna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It requires special techniques to prevent water absorpt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It cannot be used at below freezing temperatur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A2DC-48D6-4D6E-B6DD-B1FB884A3EC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26668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12 - Which of the following is a common use of coaxial cabl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44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Carrying dc power from a vehicle battery to a mobile radi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Carrying RF signals between a radio and antenn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ecuring masts, tubing, and other cylindrical objects on towe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onnecting data signals from a TNC to a compu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CBE5-1FBC-4FCC-9E76-94DDAB8D950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12 - Which of the following is a common use of coaxial cabl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8544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Carrying dc power from a vehicle battery to a mobile radi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Eurostile"/>
              </a:rPr>
              <a:t>B. Carrying RF signals between a radio and antenn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ecuring masts, tubing, and other cylindrical objects on towe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onnecting data signals from a TNC to a compu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CA35-00B9-493E-ABDF-663C0C785A9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13 - What does a dummy load consist of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620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 high-gain amplifier and a TR switc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non-inductive resistor and a heat sink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low voltage power supply and a DC rela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50 ohm reactance used to terminate a transmission line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FE82-EB44-4A09-9D90-5FC1CA55943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A03 - Which of the following is used to convert a radio signal from one frequency to anothe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Phase split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Mix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nver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mplifi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41FF-0630-4EDC-B3F1-5837321887D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C13 - What does a dummy load consist of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620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 high-gain amplifier and a TR switc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A non-inductive resistor and a heat sink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low voltage power supply and a DC rela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50 ohm reactance used to terminate a transmission line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462A-47CE-40AA-A963-A1DB8012E88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rcRect l="20576" t="0" r="30575" b="56631"/>
          <a:stretch/>
        </p:blipFill>
        <p:spPr>
          <a:xfrm>
            <a:off x="3581280" y="3276720"/>
            <a:ext cx="446724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D – Basic repair and testing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soldering; using basic test instruments; connecting a voltmeter, ammeter, or ohmmeter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B2B0-442A-45DD-AE9B-CE8F7043D2C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01 - Which instrument would you use to measure electric potential or electromotive forc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 am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volt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wave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 ohm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0BAD-CF94-4E7B-961A-CBBF0D8AB88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01 - Which instrument would you use to measure electric potential or electromotive forc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 am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A voltmet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wave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 ohm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55E9-F7E5-462D-AD10-440A267F764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" name="Picture 5" descr=""/>
          <p:cNvPicPr/>
          <p:nvPr/>
        </p:nvPicPr>
        <p:blipFill>
          <a:blip r:embed="rId1"/>
          <a:stretch/>
        </p:blipFill>
        <p:spPr>
          <a:xfrm>
            <a:off x="6242040" y="2286000"/>
            <a:ext cx="214632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02 - What is the correct way to connect a voltmeter to a circui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60962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In series with the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In parallel with the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n quadrature with the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In phase with the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7E26-A62C-437F-BE96-3B700247058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02 - What is the correct way to connect a voltmeter to a circui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60962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In series with the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In parallel with the circui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n quadrature with the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In phase with the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FA88-B3A8-4D39-85FE-FD710B28414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Picture 6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57508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03 - How is an ammeter usually connected to a circui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In series with the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In parallel with the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n quadrature with the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In phase with the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A4FB-36DB-4CD3-91B9-618EF95C098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03 - How is an ammeter usually connected to a circui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In series with the circui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In parallel with the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n quadrature with the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In phase with the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0F46-85A7-4E29-ADBE-D6D8EA29B80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tretch/>
        </p:blipFill>
        <p:spPr>
          <a:xfrm>
            <a:off x="6273720" y="1676520"/>
            <a:ext cx="2502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D04 - Which instrument is used to measure electric current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2437920" y="2057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 ohm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wave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volt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 am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B4E9-EAD8-4D7F-B087-A6F15B646DB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D04 - Which instrument is used to measure electric current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2437920" y="2057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 ohm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wave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volt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An ammet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8287-2DF0-450F-A8BE-61D4268F9BD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4" name="Picture 5" descr=""/>
          <p:cNvPicPr/>
          <p:nvPr/>
        </p:nvPicPr>
        <p:blipFill>
          <a:blip r:embed="rId1"/>
          <a:srcRect l="9800" t="0" r="22337" b="0"/>
          <a:stretch/>
        </p:blipFill>
        <p:spPr>
          <a:xfrm>
            <a:off x="5638680" y="1447920"/>
            <a:ext cx="3016440" cy="44449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"/>
          <p:cNvPicPr/>
          <p:nvPr/>
        </p:nvPicPr>
        <p:blipFill>
          <a:blip r:embed="rId2"/>
          <a:srcRect l="30173" t="3223" r="0" b="0"/>
          <a:stretch/>
        </p:blipFill>
        <p:spPr>
          <a:xfrm>
            <a:off x="533520" y="4017960"/>
            <a:ext cx="243828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A03 - Which of the following is used to convert a radio signal from one frequency to anothe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Phase split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Mix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nver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mplifi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DDC5-C6F9-41C3-818C-7181DEB6EC1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05 - What instrument is used to measure resistanc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 oscilloscop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spectrum analyz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noise brid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n ohm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294D-556D-4D8C-9416-F8A4AD07609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05 - What instrument is used to measure resistanc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 oscilloscop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spectrum analyz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noise bridg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An ohmmet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597D-63C8-4D51-B7A7-103E88ABE81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1676160" cy="2738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"/>
          <p:cNvPicPr/>
          <p:nvPr/>
        </p:nvPicPr>
        <p:blipFill>
          <a:blip r:embed="rId2"/>
          <a:stretch/>
        </p:blipFill>
        <p:spPr>
          <a:xfrm>
            <a:off x="5638680" y="2362320"/>
            <a:ext cx="24386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06 - Which of the following might damage a multimeter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Measuring a voltage too small for the chosen scal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Leaving the meter in the milliamps position overnigh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ttempting to measure voltage when using the resistance sett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Not allowing it to warm up proper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055C-B5BA-483B-82C4-CEC923A3F11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06 - Which of the following might damage a multimeter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Measuring a voltage too small for the chosen scal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Leaving the meter in the milliamps position overnigh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Attempting to measure voltage when using the resistance setting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Not allowing it to warm up proper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7018-496C-4838-AD8D-311FA2759B0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D07 - Which of the following measurements are commonly made using a multimete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SWR and RF pow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ignal strength and noi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mpedance and reac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Voltage and resis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BCBA-D119-425B-ABA5-A70E21588EB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7D07 - Which of the following measurements are commonly made using a multimete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SWR and RF pow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ignal strength and noi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mpedance and reac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Voltage and resistanc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ED97-D7AF-4D69-8148-85C91772B98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2" name="Picture 5" descr=""/>
          <p:cNvPicPr/>
          <p:nvPr/>
        </p:nvPicPr>
        <p:blipFill>
          <a:blip r:embed="rId1"/>
          <a:stretch/>
        </p:blipFill>
        <p:spPr>
          <a:xfrm>
            <a:off x="5867280" y="2368440"/>
            <a:ext cx="243864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08 - Which of the following types of solder is best for radio and electronic us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cid-core sold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ilver sold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Rosin-core sold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uminum sold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0C18-CF44-4F27-853D-203FA1C9B9A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08 - Which of the following types of solder is best for radio and electronic us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cid-core sold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ilver sold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Rosin-core sold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uminum sold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A82E-7ECE-46AA-AA96-0DB2B383CEE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09 - What is the characteristic appearance of a cold solder join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Dark black spo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bright or shiny surfa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grainy or dull surfa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greenish ti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5D38-4055-4197-BEFC-F4F5FEF3E89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7D09 - What is the characteristic appearance of a cold solder join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Dark black spo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bright or shiny surfa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Eurostile"/>
              </a:rPr>
              <a:t>C. A grainy or dull surfac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greenish ti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3841-27CB-46EB-BFC1-0F18BFE242C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tation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9" name="Picture 11" descr="http://softsolder.files.wordpress.com/2010/12/cimg5578-cold-solder-joint-in-usb-memory.jpg"/>
          <p:cNvPicPr/>
          <p:nvPr/>
        </p:nvPicPr>
        <p:blipFill>
          <a:blip r:embed="rId1"/>
          <a:srcRect l="22938" t="11181" r="18903" b="11205"/>
          <a:stretch/>
        </p:blipFill>
        <p:spPr>
          <a:xfrm>
            <a:off x="6019920" y="1584360"/>
            <a:ext cx="251280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3:25:39Z</dcterms:created>
  <dc:creator>Howard Schultz</dc:creator>
  <dc:description/>
  <dc:language>en-US</dc:language>
  <cp:lastModifiedBy>Daniel Stevens</cp:lastModifiedBy>
  <dcterms:modified xsi:type="dcterms:W3CDTF">2015-05-23T05:05:14Z</dcterms:modified>
  <cp:revision>32</cp:revision>
  <dc:subject/>
  <dc:title>SUBELEMENT  T7</dc:title>
</cp:coreProperties>
</file>